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87FB-3A7A-4043-86E2-E83827231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DCAB-E0EA-4666-BD31-AE27FEA3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0D20-1C63-4C4B-9764-9B8A5268F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14A2-F5C5-4C6F-96E2-48A7C602F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95C5-E5F3-4C7F-A609-A608F7DAC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C3FD-44B6-4191-8295-555A8DBD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C791-9045-4B13-ADD0-B3689ED9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49E8-D62B-4169-A661-02A1B1C3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1EF2-68D0-4E0E-9700-B682DCBB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7116-60E8-4C71-88AD-FA5DEC2D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72E8-7D32-4E62-9E9A-F0401C69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2E0D-0CD0-4953-B7C7-35AFD867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7E2B-F942-4C5D-A8E5-72CFDDA3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BC27-1B00-4409-9EDB-D9057C2E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E718-C0F3-4F29-AAAA-5466F98F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1D1D-49FA-4431-B36F-4EBE87A32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6CF9-A2AD-4C57-9468-4FE7E2F8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02708-8DDC-487E-A26E-3198D100A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EB643-AAE5-424F-96E1-0EA2C081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CAF2C-0B06-4179-9F63-E7E77457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BAF47-DC03-459A-946E-152CD3D9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07CE2-C595-4971-92B4-FFDEA6AB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869A-9EE3-45CF-8BC3-F7D1F84A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51897-AA7B-4B4F-A631-59BC55F6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7404A-6ED6-434A-A827-C544AD77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233C1-6F69-4A08-9272-6810D92B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5F725-0206-4AB6-860D-6810D8C7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550A7-55FA-483F-A44C-78A2A7E9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76CAD-6407-4B2F-97F2-EB405DEC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2BDCE-685B-4C24-9C53-7C8880C6D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B8A51-EED0-40D5-B774-D693AB2FC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43916-916B-4D94-BA8B-99EB8D06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4908C-163D-4636-920C-4F5B5D02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06CA-5CDE-44A4-B6A6-B383E63E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74D26-AFFB-4E56-B470-3B31737A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85290-7A7B-4C2F-BB4A-17F0EBCA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3D193-7E2F-4BB3-82C1-C81F72ED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AD8E2-877B-4A83-AD08-65A56547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BFB94-FDC2-43AB-B7C4-1394379A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5CDAF-A73D-48FE-A2EA-30128C04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B37D6-12F9-44E7-B360-0E186EED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406F8-DCEE-4B39-84EE-4292A682A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F46EF-D046-4E38-BE90-1D8EA46DB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5DAC-EE4E-41F2-8BD7-F6D0A6F1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0DF8-2042-45CA-8D31-0B52BA21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C0F6-41B8-491F-8F38-103A0773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4CE3-EDC9-4B9A-A4E3-ABACE39E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2B55-8B0C-4818-867F-64B20596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0853-9F5B-4E93-B4DA-72F59B2678AF}" type="slidenum"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9C67-1B4E-41B0-9F9C-A670B66F1F90}" type="slidenum"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1BD3-195D-4858-BC4B-19F1CFBC7141}" type="slidenum"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E271-D1B9-4B80-AF63-30D6D9320F89}" type="slidenum"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1994040" y="1206360"/>
            <a:ext cx="6186240" cy="1970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71720" y="35719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Edita Núñez Sotelo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Ps. U. de Chile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Mg. Desarrollo Cognitivo UDP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ualismo mente-cuerp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teoría de Descartes dividió el campo de estudio de la conducta humana y surgieron dos tradiciones distint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studio de la mente humana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y su funcionamiento. La introspección fue su método de análi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investigación sobre los reflejo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 Cómo estos son provocados por estímulos externos que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activan los órganos sensoriale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 Su estudio fue realizado po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fisiólogo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mediante la observación y la experiment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Ideas previas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ntido Común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ercicio práctic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n su compañero/a, reflexione acerca de las ideas de sentido común relacionadas con el saber y la práctica de la 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Psicología del sentido comú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xistencia previa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, en todos nosotros, de ideas, creencias y teorías acerca de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por qué las personas hacen lo que hace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aracterística univers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os seres human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herramienta fundament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para e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ntendimiento, predicción y contro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onducta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os demá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 basa en e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supuesto de igualdad…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o que es válido para mí debe serlo para tod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No obstante esto, se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ebe hui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l sentido comú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ntuició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no es un criterio válido para construir ciencia psicológ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00040" y="1484280"/>
            <a:ext cx="8454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Sentido comú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 válid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sól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para el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establecimiento de hipótesi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no para su comprob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ducta human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como objeto de estudio, debe ser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ndependiente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nosotros mism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500" spc="-1" strike="noStrike">
                <a:solidFill>
                  <a:srgbClr val="04617b"/>
                </a:solidFill>
                <a:latin typeface="Calibri"/>
              </a:rPr>
              <a:t>Finalmente…</a:t>
            </a:r>
            <a:br>
              <a:rPr sz="4500"/>
            </a:br>
            <a:r>
              <a:rPr b="0" lang="es-CL" sz="4500" spc="-1" strike="noStrike">
                <a:solidFill>
                  <a:srgbClr val="04617b"/>
                </a:solidFill>
                <a:latin typeface="Calibri"/>
              </a:rPr>
              <a:t>¿Qué estudia la Psicología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sicología es una ciencia que estudia el comportamiento de los seres vivos y los procesos mentales por los que los sujetos conocen y se orientan en su entorno y aprenden de la experi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 una cienci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xperimen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tilización método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hipotético-deduc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Observación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rigurosa y sistemática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 los fenómenos psicológic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arte de los hechos y busca sus regularidades mediante l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verificación empír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una cienci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cléc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ecoge datos aportados po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otras disciplinas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(biología, sociología, antropologí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see un carácte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multidisciplinar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ya q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stá interesada en el comportamiento (psic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De un organismo (bi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Que aprende a adaptarse al medio ambiente (ecología) cambiant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Mediante la relación con otros seres (soci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Sin olvidar la cultura en la cual se desarroll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sicología opera c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stintos niveles de análi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odas las disciplinas pertenecientes a esta ciencia trabajan en alguno de dichos nive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psicólogo social se ocupa mas del estudio de  los grup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psicólogo clínico se centrará en el diagnóstico y tratamiento de individuos con problemas emocionales o de conduc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versas concepciones acerca de la psicologí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penden de las distintas ideas sobre la naturaleza del ser humano (filosofía) y de las formas del conocimiento (epistemologí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present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verse con su compañero/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porqué eligió estudiar bachillerat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é experiencia cercana ha tenido con la labor de los psicólogo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eflexione brevemente respecto de cómo se vivió el último terremoto que afectó a nuestro paí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Cómo ha sido la conducta de las persona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e emociones nos han invadid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cree usted que en estas circunstancias son necesario los psicólogo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1935000"/>
          <a:ext cx="8229600" cy="4043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iveles de análi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lternativ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pe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umana, otras espe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l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tina, gitana, anglosajon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ru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amilia, pandilla, grupo, equ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í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reja, díada madre-hijo, profesor-alumno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dividu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dultos, niños, discapacitados, estudiantes universitario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ceso psico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ersonalidad, atención memoria, motivación, inteligenci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mponente psico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nducta manifiesta, bases fisiológica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182600" y="177300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isciplina académic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bus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escribi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 la tarea básica de la psicología es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recoger datos y recabar información detallad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sobre los procesos cognitivos y los comportamien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: si un sujeto padece insomnio hay que investigar que estímulos influyen, en que situaciones se produce, o que problema le impide conciliar el sueñ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xplica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la psicología no se conforma con describir los hechos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rata de averiguar las causas de determinada conduc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ara ell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mula hipótesis o explicaciones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asadas en una teor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iempre s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visionales y sujetas a revisi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a medida que se tiene mayor conocimiento de la conducta que se investig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edeci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es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pacidad para pronosticar un comportamient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relación causa-efecto dentro del ambiente nos asegura con bastante fiabilidad que unos hechos preceden a otro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Podemos saber si alguien mantendrá una conversación con nosotros por su forma de mirarno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prender  a predecir acontecimientos es necesario para adaptarnos a nuestro entor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42960" y="157140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trola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signific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terar las condiciones que influyen en el comportamiento de manera predeci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j: si una profesora sugiere cambios en clase para ayudar a adolescentes en su aprendizaje, ha ejercido un contr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 obstante esto, algunas actividades humanas no son normales porque ocurren en situaciones inapropiad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Gritar se aprueba socialmente si uno se encuentra viendo un partido de fútbol, pero se prohíbe en una catedra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preguntas que se hacen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fisiológic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por ejemplo a nivel de anatomía, fisiología, etc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fenomenológic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relacionadas con la experiencia subjetiva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conductu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hace referencia 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aracterísticas del comportamient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que pueden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ser observada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modo objetivo. Aplicación del método científic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En este último nivel trabaja la psicología científ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nálisis de la conducta con el objetivo de entender la organización interna del siste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tablecimiento de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relaciones funcionale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entre situaciones (estímulos) y conducta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una relación funcional es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descripción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a conducta o los cambios conductuales que suceden en una determinada situación ambient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a relación funciona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describe pero no explic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Descubrimiento de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structura y procesos internos del sistem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 busca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xplicación de las razone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por las cuales el sistema se comporta como lo hace en una situación dad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Aproximación  a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“caja negra”…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visualización del cerebro en acció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79328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a caja negra en el estudio de los procesos psicológicos superiores…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4360" y="1557360"/>
            <a:ext cx="8270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uerpo de conocimiento de cómo está estructurado nuestro sistema cognitivo y como realizan sus funcion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ensación y Percep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tención y conci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moción, sentimientos y estados de ánim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emor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ntelig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prendizaj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de siempre ha existido interés por comprender nuestra conducta y la de nuestros semejan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épocas pasadas la vida humana era más simpl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la actualidad, nuestra sociedad es má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mplej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mas postmoderna, requerimos más información para poder funcion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93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4360" y="1268280"/>
            <a:ext cx="827064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aplicación del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método científico valid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l objeto de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troversia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respecto a l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fenomenológ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n investig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cuantita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cualita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7164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étod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otético-deductiv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ienza con un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de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presentimiento, intuición o suposición acerca de algo, lo que se constituye como 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óte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 realiza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prediccion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(preguntas) sobre las conductas observ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18728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Generalizació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result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ayoritariamente, el objetivo de los estudios psicológicos es la comprobación de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ótesis general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que so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plicabl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 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población en general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y no solo a los sujetos participantes en el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182600" y="1052280"/>
            <a:ext cx="77724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Factor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 considerar para poder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generaliza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los result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Tamañ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la muestr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uestra amplia y datos promediad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lecció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leatori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los sujetos de la muest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replicabilidad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l estudio por otros investigadores en otras ciudades o paí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istingue entre ciencia básica y ciencia aplica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básic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edica a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estigaci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os procesos psicológicos mediante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étodo científ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aplicada utiliz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ocimient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los diferentes ambientes donde los individuos actú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gener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estigar la naturaleza y funcionamiento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los “procesos psicológicos básicos” como la percepción, la memoria o el pensa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xperiment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udia los procesos psicológicos mediant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seños experimentales de laboratori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Es el área de la psicología más rigurosa y científica y utiliza tanto animales como seres humanos en sus investig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biologí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obiólogos estudian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bases biológicas del comportamient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no sólo el sistema nervioso y endocrino, sino también las influencias de la genética o la farmacología en la conduc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porqué unas lesiones del cerebro producen pérdida de memoria y otras causan trastornos del lenguaje?...¿qué áreas cerebrales son importantes en las emociones humana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volu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Ésta se preocupa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mbi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duct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que se producen durante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esarrollo del ciclo vi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uáles son las etapas del desarrollo de la inteligencia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hay una decadencia de la memoria en la vejez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soci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 campo de estudio es muy amplio y abarca problemas diversos, como el análisis de la publicidad o las influencias de un grupo sobre el individu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ómo influye la sociedad en el comportamiento de los individuo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 la personal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de la personalidad investigan qu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racterísticas definen a una person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como interactúan las fuerzas genéticas y ambientales en la personalidad del individuo y porqué este se comporta de una forma y no de ot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se nace con determinada personalida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tim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alabra Psicología proviene de dos términos grieg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syché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logos</a:t>
            </a:r>
            <a:r>
              <a:rPr b="0" i="1" lang="es-CL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significan alma (entendida como lo que “anima” o “da vida” al cuerpo),  y conocimiento o ciencia de la mis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s raíces se encuentran el la filosofía, la fisiología y la metodología científ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l aprendizaje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del aprendizaje, mediante la investigación animal y humana, han demostrado algun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cesos que influyen en el aprendizaje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las diferencias entre las diversas especies respecto a su capacidad para aprender conductas concreta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iferenc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 disciplina investiga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ferencias individuales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presentan los individuos, por ejemplo niños retrasados o superdotad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mparándolo con la media de su grupo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refer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 principal herramienta es la utilización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est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psicológicos par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studiar distintas capacidades human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cultu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culturales investigan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ma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qu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ultura afecta al pensamiento y al comportamiento huma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lenguaje que hablamos, la educación que recibimos, las leyes que obedecemos y otros muchos comportamientos dependen de la cultura en la que hemos creí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l gén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udia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ferencias entre hombres y mujer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la forma en que se desarrolla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factores biológicos, la crianza, la educación, los estereotipos influyen en la diferencia de gén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iber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ternet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s un marco de referencia para diseñar estudios experimentales, crear aulas virtuales en las que desarrollar nuevos enfoques docentes o crear nuevos procedimientos de investigació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uncionalidad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os procesos psicológicos en los contextos donde los individuos actú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tiende a la dimensión normal, individual o colectiva y también a la conducta patológ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duca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educativos analizan la realidad educativa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alizan e interpretan pruebas psicológicas para ayudar a los estudiantes en sus decis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rientan a padres y profesores para lograr mejor rendimiento de los años escola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ómo pueden los niños mejorar su aprendizaje y su creativida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clínic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clínicos diagnostican y tratan problemas emocionales y de conducta, desde los más débiles, como falta de autoestima o timidez, hasta los más problemáticos como la separación de parejas, el estrés o la depres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yudan al ser humano a enfrentarse a su propio sufri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industrial y de las organiz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la selección y entrenamiento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rabajador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ejorar las relaciones humana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el ámbito labo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Taller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su devenir histórico la psicología ha tenido varios objetos de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l al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La men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La conduc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limitar su campo de investigación y crear métodos y técnicas propias permitieron su independ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la Grecia antigua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lat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fendía un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cepción dualist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la naturaleza huma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hombre estaba compuesto de alma y cuerp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m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ra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origen divin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una realidad distinta el cuerpo material, y a consecuencia de una culpa cometida llegó desde el otro mundo a encarnarse en un cuerpo mor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ás tarde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ristótel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concibió la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syché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como un elemento o principi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biológic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m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ra así un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piedad esencial del ser viv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y no era independiente del cuerp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uera de este el alma carecía de sentido y exist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s dos ideas de “alma” integradas en un horizonte filosófico son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icios de la 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siglo XVII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produce un cambio de perspectiva con el comienzo de la filosofía moderna atribuida al filósofo y matemátic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ené Descar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ntes de sus ideas, cualquier función vital de los organismos se explicaba por la existencia del al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adie pensaba qu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ctos humanos pudieran deberse a la influencia de estímulos ambient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escart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formuló un visión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c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Voluntarios e involuntar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gunos actos como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eflej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son reacciones automáticas 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oluntarias a estímulos extern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tras acciones s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voluntarias, gobernadas por la mente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(entidad no física) y debidas a que la persona elige comportarse as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1:55:38Z</dcterms:created>
  <dc:creator>Edita Núñez Sotelo</dc:creator>
  <dc:description/>
  <dc:language>en-US</dc:language>
  <cp:lastModifiedBy>Edita Núñez Sotelo</cp:lastModifiedBy>
  <dcterms:modified xsi:type="dcterms:W3CDTF">2012-03-12T03:23:43Z</dcterms:modified>
  <cp:revision>13</cp:revision>
  <dc:subject/>
  <dc:title>PSICOLOGÍA</dc:title>
</cp:coreProperties>
</file>