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805F-4DC9-4AA6-8001-F856C4B8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C7F5-737D-4206-8BCA-615CD954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E1EB-5CA5-41AD-83B0-17C1038D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C1F3-A750-48E0-8B73-2AD984A8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D5FB-DCF0-4484-87F2-00FFF722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D1F2-577A-4257-84F7-C46B2E43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DD21-4BE6-49BA-BFD4-A49255CD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8BDC-1F3C-40ED-BC9D-3A6E3CF5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237B-4DAC-4059-BC09-7A524E94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CDF3-F9F4-4A56-9C6A-0BC3E901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7BE9-0513-4436-B49E-5C46B7DB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47B6-B2E2-4567-8D9E-82AA7486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6F68-2D63-42ED-8BC4-376AD286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D63B-AB5C-4090-98E9-336BF1A4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94CA-FAB6-46E3-B475-318F6403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9E61-A9F4-4338-B7AF-47577A03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4284-5545-467D-A639-F28A2710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FDDFA-1706-4F66-82D2-B8B7A0A4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04B86-AFBE-47A9-9D2E-E443F817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9AEF3-880E-4309-976A-92E459B7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38DB1-3651-4A13-816E-06AF2A24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1F0F2-0D88-4B58-9456-59CCDD05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88E4-FE23-4D9B-A46C-C484AB3D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DCDFE-8334-481C-BC59-6FCBCCED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C5A63-409F-4D7F-AA56-E7EC00FC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7E70F-1057-4F94-948A-B3085DFE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A4AB2-EED8-441D-B266-2BE227CC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5722F-4AC0-4A25-9A28-4BB8872D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B1ED1-2D5E-47B0-8D51-D5341BA7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A4E25-0FCB-403A-84F7-AD737FCC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AF49D-414A-4F74-99E2-2F499B85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B95BB-5980-4018-B11A-3C49CE62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0DC69-44A7-486F-ABD7-8D047C0D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6EC3-B769-438C-9DD5-B19FC421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8DD20-1821-45C1-9DF3-8139052E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33AA3-8884-4934-8A6A-36446092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3C282-DE3D-4179-9211-5E986111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FE359-CD91-441F-B835-B97C7686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0FEC3-66B6-45EF-AA42-ABB94177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E978E-882F-4738-8170-65135F57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01F6E-2746-4D0E-B6EF-10E60FDB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8A413-5986-4839-AA92-EDB2D793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35857-B878-4089-BFE5-DD872F0E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A0A4D-9F21-4705-9948-8DB83480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62E3-4FD4-42B5-88AC-DDB8154A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7D161-A601-467F-875A-0D0657D4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32457-14F7-4E39-81B5-43E280AD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7572D-7EE0-423F-95F1-52FFEEFD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29647-F5D0-41FE-81D6-CDCF9FC8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7696B-DBF5-4288-968E-BD7F9B1C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F6C6E-2079-40B2-B3B6-B5890E0E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FB87C-FDE2-4000-AD5F-4B7439BD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48A98-B2E8-4707-9667-5E261481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C565F-162D-45FC-B610-A2BBA326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5A6FF-7E28-45C4-B12B-29696AA7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C90-D333-4EC0-9A0F-D5EB9A08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F3C48-44F7-4437-987A-5F2D0020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83843-232F-44DD-8A28-82C5A99C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FFE13-7BB9-49D8-AEBA-43560EF2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5DBB2-A963-4EE8-95B6-48190AF1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7ECA3-755A-4E00-B87F-C46BA967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33FF7-F333-4AB5-8EFE-1A853292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956D0-2D15-4322-BBCF-C8018549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47B6C-26E5-4DEE-A5F3-ED879042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4D574-7143-4A90-ACBD-2F28C2E9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D6383-B6DC-43F5-858D-699762A9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1F8E-FAA2-43C0-844F-B1988747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1FD75-8FE9-46DD-BBA5-0F8C4F3C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0F93F-B83B-464C-8867-90D00962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66DF7-9579-4A18-99CD-3749E972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0171E-FA43-461B-BFA8-AE3DEDF9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F2268-D36C-4675-A27C-41342226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21865-5E74-4BDE-8165-CC756D18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11147-9DD4-4C86-B873-D2A405CE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655CA-76ED-4F6D-9511-D003E544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EB7DF-849E-452C-9431-935FB71F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0F0D7-4E6C-4E44-BC2B-5F83BAFD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2221-72BF-47D3-9715-6DB17CDC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5C7CC-E4BD-496B-A5B1-B10538D7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81976-EB81-4425-910C-66F2AC67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5D9EF-E8A1-47CF-8412-D638C717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AD44D-5E54-418A-BA16-2975E060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1EEF1-8715-430F-81D6-5E4AA698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1D2F9-C903-412A-A460-E19FD1CF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5E514-3E8A-49FD-97D3-37D31DE9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73B66-1BD6-44C3-8568-F6AE22B7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3A7D0-4A53-4F9F-BCC5-D781BF4E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6B1E6-17B8-42BF-B15A-8B0880D2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B6AC-EED5-485B-8195-BC411EB6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93D98-6F83-47D2-BF34-45344E00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E7C9C-5BCE-403E-8EFF-55A2AB66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4C680-B6B4-4F3B-9928-850A40F7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3F3FD-2E12-45A6-8F4D-0A659C44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5A70C-1E85-4F65-B0CC-129A1782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8514B-4867-4E65-A853-4F955C88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92237-C5B3-4DD3-981A-25A53C9E7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BF58-8C45-4A39-B562-2EFCC859B3F3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14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15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7AB1-FFE3-4A71-A290-23BA92667712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D59D-B519-4B4B-B5C2-E52EF93C983A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59CE-FB85-424B-B6F4-08DCDF82FDB6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51E5-6289-485A-8A35-BA6E91689D5A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14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0801-F875-445B-92F4-ED4A7B283ECE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14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86F3-33C4-4409-B2D6-BE58D4F8CDFF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14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E13F-F0AD-4A7E-9326-69070703024E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715920"/>
            <a:ext cx="6858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Terapia Humanista</a:t>
            </a:r>
            <a:br>
              <a:rPr sz="3600"/>
            </a:b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la tercera fuerza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La mente condicionada. Obstáculo que debe ser sorteado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El continuum del darse cuent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municación personal YO-TU en las que se expresan y reconocen las perspectivas subjetivas en su calidad de t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Inicio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Sabiduría organísmi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l organismo, en su interacción con el medio, posee la capacidad de discriminar aquellas experiencias que le son o no enriquecedoras para si mismo en un momento dad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2. Consciencia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Mor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Fisiológica. Desde una menor a una mayor cons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Darse cuenta d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univers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iveles de con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3. responsabilidad.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o somos prisioneros del condicionamient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1° término: Esta responsabilidad a la vez nos hace libr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2° término: Autorrealización del hombre en la salud y no centrado en la enfermeda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3° término: Confrontación en el aquí y en el ahor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l cuerpo y el uso de técnicas no verb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4° término: Se amplia el espectro del terapeuta: psicologos, profesores, et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5° término: Exploración con drogas para investigar la existencia de realidades diferent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464653"/>
                </a:solidFill>
                <a:latin typeface="Bookman Old Style"/>
              </a:rPr>
              <a:t>Fundamentos de la psicología humanis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nfianza en la naturaleza y búsqueda de lo natural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ón incondicional de lo que somos y no pretender ser lo que no som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Énfasis en la expresión de lo personal y único en el desarrollo de la creatividad y en la capacidad de juego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 entredicho los conceptos de normal y a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conocimiento de las limitaciones de la conciencia 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Trascendencia de la identidad personal egoica y reconocimiento y aceptacion de la totalidad que somos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reprimida o bloqueada que empobrece el verdadero potencial del ser human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Superación de la escisión mente-cuerpo. 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Reconocimiento de la comunicación con y desde el cuerp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equilibrio entre polaridades y revalorización de lo emocional, lo intuitivo, lo interno y el lenguaje del hemisferio derech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olaridades que finalmente armoniz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on y comprension d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Todas nuestras facet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0" name="Picture 2" descr="C:\Users\Edita Núñez Sotelo\Pictures\yinyan5.jpg"/>
          <p:cNvPicPr/>
          <p:nvPr/>
        </p:nvPicPr>
        <p:blipFill>
          <a:blip r:embed="rId1"/>
          <a:stretch/>
        </p:blipFill>
        <p:spPr>
          <a:xfrm>
            <a:off x="6012000" y="3584520"/>
            <a:ext cx="29145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1:55:27Z</dcterms:created>
  <dc:creator>Edita Núñez Sotelo</dc:creator>
  <dc:description/>
  <dc:language>en-US</dc:language>
  <cp:lastModifiedBy>Edita Núñez Sotelo</cp:lastModifiedBy>
  <dcterms:modified xsi:type="dcterms:W3CDTF">2012-04-23T03:02:00Z</dcterms:modified>
  <cp:revision>7</cp:revision>
  <dc:subject/>
  <dc:title>Diapositiva 1</dc:title>
</cp:coreProperties>
</file>