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LIC.WAV" ContentType="audio/x-wav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5487-EFD9-4D30-81D1-08496BDE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8121-67A5-47C9-82D2-5676E555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725BD-3FCD-4715-A3A1-B69A3A20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B6456-3ACD-4932-A94F-225B779E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606C8-E8AA-481A-8C52-D026028A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10167-CA47-45B0-9505-C69DC446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AC76F-A472-4CAE-B7C3-2032A703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C4525-5089-4079-8A8D-66CD9898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63531-58A8-4E80-8344-02015E0B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1ED0B-B433-4235-AB33-56CD2AEA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DCDC3-C61F-4D90-A216-2617F1B2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5BD4-192A-4C82-BFA7-B362A6B3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9F11-FBA9-4960-95F8-7AACEF71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E189-717E-440C-B32E-31304514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729A-4381-4A58-BC8D-87DC2226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7CC9-B608-48DD-8AE5-9C52045F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CE3F-9281-4073-932B-E12EDF99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F2B7-AAB3-46A2-8764-009D2094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8ED1-EF3C-4420-901B-010BFAD2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8132-98CD-44E6-A404-EE7BA1AD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0343-492A-4AA6-B144-5994D59D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52A6-D582-496E-980A-EE5B1652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2A3D-CFA5-44D5-9305-5F2E93FD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CBAD-4349-4D82-8EEF-78E33937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7668-2E22-4A53-9BEF-E776D56D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7AE3-20EF-4F12-AA7A-64B36FDD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5EC27F-F757-4FAC-92C7-651448DE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9D2A9A-999F-4000-A412-18A11452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85D9ED-97B5-4892-BD2F-33AD0406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1C20EC-AC1D-4DFC-8182-3E77DB04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2C03FE-9F8B-422F-BD08-6D12B3F6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5A24-1770-4DC4-91C6-5BA0F5E3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03AF33-1148-4A95-8C25-5ED654DF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F2D87B-C55A-4B9E-B576-C81C1055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793D2-6E2F-4743-9244-7CDA6432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95DBE-B52E-49BB-8DC7-530D8AA9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D2601-FC26-4A5B-BCED-46413AF9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B2FCDB-658F-4752-B426-E158A24A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E85844-989F-40F5-A72C-6B8CAF57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8F835-02D2-486C-B991-53B13732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4F1AE-ACD0-4FE0-B32C-F87AAAA7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84862-2C3D-444E-AA40-78F2DFB1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2965-8BC7-4F52-8D0C-4CF2C76C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1E703-A269-43A8-858F-76D9CDFF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EF718-A3CA-4D13-960E-B4A8F15E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6FE28-EEB3-409F-9343-B466F2CD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BFA3D-79F5-476E-987F-CE16C348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22425-876F-41F9-974E-7C8238DF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9B433-431E-4F67-8BCF-DBED9EDA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8477D-2F85-443D-93F3-7DA1A2BF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01F39-F685-4F3A-BCAC-165435C0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B5CE3-0A5F-4089-8398-415796AA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C07393-E9D2-4144-BF86-19169FAD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D025-5779-4191-8E1D-24CC12C0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A9C7F0-0BF2-44F8-81C6-99264FBF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1F5F39-2091-469B-A9D9-08897A02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44702C-74FD-440D-879A-2DCBBE4E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248072-445C-4F25-A249-2C1D0BB4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06018B-16A9-4C25-9396-4F5E2738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A977B8-7631-4F51-9FFF-5A6A6338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F7479C-7A75-4C05-B894-2DD45E30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192006-BB32-4E73-BE0A-ADF9D10B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6945A8-055E-4D30-A910-86DB3641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2AF0CE-E0BA-486C-8761-C227C473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457E-10B6-4BB4-8624-AF4AFED3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344BFB-7860-4608-9DA5-A81EFFD5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AE17A1-6D29-45DE-A689-2D4CC568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4B9971-5D16-4FC7-886D-F4D07F4E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5FCBA3-0A0B-4D9E-A841-CE675477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4703DE-CF73-47AB-B83E-C9CDCAF6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13EB3A-65D9-48F9-9B99-D0FDB5D7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09B863-0E9F-4698-83D5-2B413471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3CA33B-11C6-49FC-889C-EE11C104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61ACA7-70FD-44DA-995B-BB07AF0F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9D10C3-5531-4F22-94EB-66AB428C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24AC-03AE-4651-87FB-5B1CD3DB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7C2770-63B5-4D1A-8423-670FF60E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A80FD0-BFB8-4E6C-A015-F11BC6C6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DB443B-A61F-4251-A8CE-B2B271ED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ED66B2-D97E-4CA2-9A64-48AA2C9B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1810AD-B69F-415B-AF84-79AB722F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0623C6-4E54-48A5-8BA9-60A29A1D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FCFE3B-7DA2-48BF-937E-86017C99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1B93F7-462B-447E-821B-B8847AEE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4C18F7-6495-4FF5-9182-85672323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780F51-9955-41DC-9D48-C54B6AE9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5F02-D825-4741-AC14-8CD3F0A2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9C2FA9-FEFF-4EB9-9E22-2FEE8C36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47DDB1-EC47-4BB2-8B35-CD061400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5355D7-BE9B-458F-B69A-1FB74714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C771E4-246E-42E1-A853-FF7B88EF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4B47A7-89AA-4609-BFA9-2632B83A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DAA66-C4DA-417E-B0A5-13516DDD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6BA17-EC55-43DF-8B36-E1A7E260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26B65-E22F-44AB-8F5A-F9C6693A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C688D-BF3B-4573-A4D4-2D960F50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ED9E0-8B9E-4B7A-81E8-E26C91F0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039D-5613-436A-9443-1F607020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A41F0-7198-4DD1-9503-5EFD6ABD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C6120-4BA1-4A2F-B850-57B7187E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8FE32-5590-467E-9E54-4B6B159A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9CD6B-4A9D-45E8-99C6-C86F1070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99ECF-F664-474C-B420-CDF45440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4C48F-68F6-4118-BB51-0247D1708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EC447-715D-4CE3-82B0-43FC1C53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BF2E2-FE14-4D71-9A41-86AF7192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B4736-99BE-43B9-A2E0-BC2423F7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A6B05-A6B5-4D35-8602-192AFF26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DB3C-A47C-4B1D-ACD6-22DFFAA514D1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BF4E-F834-43BE-99FC-0B35C4D05F48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80DD-8135-4444-96F3-9875033585C6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9954-F159-4A85-8B6A-A02A10216F65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5DF8-544D-4D9C-9D00-01CA766F940C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4CE5-36E2-495D-8267-843E4595EEF9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F2A0-F050-4510-96C5-74180D106079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8C2B-7FD8-4AB6-A762-D7746FD8FCBE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A0BD-9FFF-40C4-90DB-8A961408ACAF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999800" y="13568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071440" y="38577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2133720"/>
            <a:ext cx="78598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areja son los padres de un par de mellizos, de un año de edad. Ellos comentan que al nacer eran muy parecidos en su carácter, no obstante a medida que han ido creciendo están mostrando diferencias en su forma de s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s diferenci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916280"/>
            <a:ext cx="829152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n un colegio de enseñanza básica, los profesores han discutido entre ellos y no han logrado ponerse de acuerdo respecto de que hacer con un grupo de niños que no logra avanzar en su aprendiza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gunos profesores quieren derivarlos a una escuela especial, mientras que otros piensan que estos niños tienen una inteligencia normal y deben seguir en la escuela, apoyados mas de cerca por todos los doc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porqué estos niños no aprend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DESARROLLO DE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989000"/>
            <a:ext cx="800244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psicología, tiene un largo pasado pero una historia bre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nueva psicología, una ciencia de l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historia de la psicología se divide en tres perio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surgimiento de la ciencia de la men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décadas conductist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 revolución cognoscitiv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55280" y="112500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WILHELM WUNDT Y EDWARD B.TITCHENER</a:t>
            </a:r>
            <a:br>
              <a:rPr sz="2700"/>
            </a:b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VOLUNTARISMO Y ESTRUCTURALISMO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85480" y="2000160"/>
            <a:ext cx="859788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psicología nace en 1879, con la fundación del primer laboratorio de psicología en la universidad de Leipzig en Alemania (Wundt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A nivel académico, un laboratorio daba el estatus de cienc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Wundt quiere explicar la experiencia inmediata y como poder estudiarla científicamen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ambién creía que algunos procesos mentales no podían estudiarse mediante experimentos científ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WILHELM WUND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2924280"/>
            <a:ext cx="8002440" cy="35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Otorga un papel central al proceso de la atención selectiva, el proceso por el cual determinamos a que vamos a atender en un momento da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ara Wundt, la atención es controlada activamente por las intenciones y los motiv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dio lugar al uso del término del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voluntarism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para describir su visión de la psicolog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3" name="Picture 15" descr="wundt"/>
          <p:cNvPicPr/>
          <p:nvPr/>
        </p:nvPicPr>
        <p:blipFill>
          <a:blip r:embed="rId1"/>
          <a:stretch/>
        </p:blipFill>
        <p:spPr>
          <a:xfrm>
            <a:off x="5796000" y="808200"/>
            <a:ext cx="15843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es lo que separa la atención humana de la atención de otros organism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u vez, la atención controla otros procesos psicológicos co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ercepcio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pensamien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recuer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 el uso de la medición y la experimentación, Wundt sacó a la psicología del campo de la filosofía para ubicarla en el mundo de la 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usado, el uso controlado de la instrospección u autoobservación de los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ntenidos mentales consci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de 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strospec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forme verbal de personas entrenadas que sometían 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observación cuidados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su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xperiencia subjetiva conc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 PARTIR DE LEIPZIG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. Stanley Hall. Primer laboratorio estadounidense de psicología, 1883. U. de Johns Hopki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. M. Cattell, U. de Pennsylvania, 1888. primer estadounidense que fue llamado “profesor de psicologí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, U. de Cornell (Inglaterr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uy influido por los recientes avances en química y fís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manera similar, los psicólogos deberían analizar las experiencias complejas en términos de su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quiere buscar los “átomos del pensamiento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cuando las personas ven un plátano de inmediato piensan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quí tenemos una fruta, algo para comer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 percepción se basa en asociaciones con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buscaba los elementos  más fundamentales o “átomos” del pensa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MAS DE INTERÉS PARA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verse con su compañero/a … ¿Cuáles son los temas que investiga la psicologí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untos centrales de interés psic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scompuso la conciencia en tre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saciones físicas (lo que vem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timientos (si los plátanos nos gustan o nos desagradan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Imágenes (recuerdo de otros plátan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firmaba que incluso los pensamientos y los sentimientos más complejos podían reducirse a esos elementos sim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ESTRUCTUR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consideraba que el papel de la psicología era identificar esos elementos y demostrar como podían combinarse e integra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e es el enfoque llamado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ructuralismo: escuela de psicología que enfatizaba las unidades básicas de la experiencia y las combinaciones en las que ocurr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CUELA ESTRUCTUR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uvo una corta vida y poco efecto a largo plaz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o obstante lo anterior, el estudio de la percepción y la sensación son parte importante de la psicología contemporán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</a:t>
            </a:r>
            <a:br>
              <a:rPr sz="3000"/>
            </a:b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, primer crítico del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los “átomos de la experiencia” (sensaciones puras sin asociaciones) de Titchener, no existían en la vida re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uestra mente siempre entreteje asocia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visa las experienci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activa, se detiene, avanza en 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ba que las percepciones, emociones e imágenes no pueden separarse; la conciencia fluye en una corriente contín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2" name="Picture 18" descr="james"/>
          <p:cNvPicPr/>
          <p:nvPr/>
        </p:nvPicPr>
        <p:blipFill>
          <a:blip r:embed="rId1"/>
          <a:stretch/>
        </p:blipFill>
        <p:spPr>
          <a:xfrm>
            <a:off x="7093080" y="108000"/>
            <a:ext cx="1439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e una gran influencia de la teoría de la evolución de Charles Darw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acuerdo con Darwin, tanto la anatomía como la conducta son resultado de la selección natu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 que la conciencia evolucionó porque cumple una función adaptat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si no pudiéramos reconocer un plátano, tendríamos que averiguar que es cada vez que viéramos u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000" y="2492280"/>
            <a:ext cx="83516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s asociaciones mentales nos permiten beneficiarnos de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sugirió que cuando repetimos algo, nuestro sistema nervioso cambia de modo que cada repetición es más sencilla que la anteri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FUNCION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85840" y="1600200"/>
            <a:ext cx="8501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vida mental y la conducta que se interesa en la forma en que un organismo emplea sus habilidades perceptuales para funcionar en su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 teoría generó preguntas acer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l aprendizaj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complejidades de la vida ment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impacto de la experiencia en el cerebr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lugar del género humano en el mundo natural, et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6800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, pionero de la psicología, el mas conocido y controverti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octor en medicina, le interesaba especialmente el sistema nervioso cent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mienza a trabajar con hipnosis para tratar los trastornos nervios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1" name="Picture 14" descr="freud2"/>
          <p:cNvPicPr/>
          <p:nvPr/>
        </p:nvPicPr>
        <p:blipFill>
          <a:blip r:embed="rId1"/>
          <a:stretch/>
        </p:blipFill>
        <p:spPr>
          <a:xfrm>
            <a:off x="4859280" y="3975120"/>
            <a:ext cx="18003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muchos trastornos nerviosos eran de origen psicológico más que fisi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s observaciones clínicas lo llevaron a desarrollar una teoría amplia de la vida mental que era radicalmente opuesta con lo propuesto hasta ese mom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sostenía que los seres humanos no son tan racionales como se imagi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one en duda la existencia y real alcance de la voluntad o “libre albedrío” de Wund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afirmaba que los seres humanos estamos motivados por instintos e impulsos inconscientes que no están disponibles para la parte racional y conciente de nuestr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conciente como un “caldero” dinámico 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primitivas pulsiones sexuales y agresivas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seos prohibidos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temores y deseos indescriptib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recuerdos infantiles traumátic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ERSONA-SITU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2400120"/>
            <a:ext cx="814716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conducta tiene sus causas ¿internas o extern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o que ocurre dentro de la persona como pensamientos, emociones, motivos, actitudes,  o valores, personalidad y genes…versu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en que medida la conducta es causada por factores externos a la persona? Como por ejemplo otras personas o e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primidos (o escondidos para la conciencia) los impulsos inconscientes presionan sobre la mente consciente y encuentran expresión de forma disfrazada o alter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incluye sueños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psus, síntomas de enfermedad ment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ctividades socialmente aceptables como el arte y la literatur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PSICOANÁLI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2276280"/>
            <a:ext cx="7467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écnica para descubrir el inconsciente, en la cual el paciente se recuesta en un diván, cuenta sus sueños y dice cualquier cosa que le venga a la mente (asociación libr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personalidad que afirma que la conducta es el resultado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de fuerzas psicológicas que interactúan dentr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del individuo, a menudo fuera de la cons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 aparecer esta teoría, genera escándalo en la socie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pecialmente por su énfasis en la sexuali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demás por su sugerencia de que muchas veces no tenemos conciencia de nuestros verdaderos motivos y que, por ende,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no tenemos pleno control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obre nuestros pensamientos y nuestros comportamien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ido ampliada y revisada en el transcurso d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ún en la actualidad sigue generando deb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bleció la base para el estudio de la personalidad y los trastornos psicológ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1826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e surge como respuesta al malestar general que existía entre la comunidad académica y que abría un periodo de crisis paradigmátic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¿Qué es una crisis paradigmática?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4191120" y="2057400"/>
            <a:ext cx="609480" cy="16002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914400" y="1752480"/>
            <a:ext cx="5029200" cy="5814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Comunidad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3657600" y="2971800"/>
            <a:ext cx="3733920" cy="1143000"/>
          </a:xfrm>
          <a:prstGeom prst="ellipse">
            <a:avLst/>
          </a:prstGeom>
          <a:gradFill rotWithShape="0">
            <a:gsLst>
              <a:gs pos="0">
                <a:srgbClr val="d2611c"/>
              </a:gs>
              <a:gs pos="100000">
                <a:srgbClr val="612d0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Parad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380880" y="3809880"/>
            <a:ext cx="2819520" cy="83844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1905120" y="4343400"/>
            <a:ext cx="281916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2895480" y="5029200"/>
            <a:ext cx="281952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8"/>
          <p:cNvSpPr/>
          <p:nvPr/>
        </p:nvSpPr>
        <p:spPr>
          <a:xfrm flipH="1" flipV="1">
            <a:off x="5790600" y="3733920"/>
            <a:ext cx="1447560" cy="1371600"/>
          </a:xfrm>
          <a:prstGeom prst="pie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8000" y="1844640"/>
            <a:ext cx="3817800" cy="4114800"/>
          </a:xfrm>
          <a:prstGeom prst="rect">
            <a:avLst/>
          </a:prstGeom>
          <a:solidFill>
            <a:srgbClr val="d2611c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Una realización científica universalmente reconocida que, durante cierto tiempo, proporciona modelos de problemas y soluciones a una comunidad científica" (Kuhn, 1971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Line 3"/>
          <p:cNvSpPr/>
          <p:nvPr/>
        </p:nvSpPr>
        <p:spPr>
          <a:xfrm flipV="1">
            <a:off x="0" y="3885840"/>
            <a:ext cx="6629400" cy="1447920"/>
          </a:xfrm>
          <a:prstGeom prst="line">
            <a:avLst/>
          </a:prstGeom>
          <a:noFill/>
          <a:ln w="12060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2133720" y="2971800"/>
            <a:ext cx="2971800" cy="2133720"/>
          </a:xfrm>
          <a:prstGeom prst="irregularSeal1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b435b"/>
                </a:solidFill>
                <a:latin typeface="USABlack"/>
              </a:rPr>
              <a:t>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5"/>
          <p:cNvGrpSpPr/>
          <p:nvPr/>
        </p:nvGrpSpPr>
        <p:grpSpPr>
          <a:xfrm>
            <a:off x="990720" y="1523880"/>
            <a:ext cx="6324480" cy="942840"/>
            <a:chOff x="990720" y="1523880"/>
            <a:chExt cx="6324480" cy="942840"/>
          </a:xfrm>
        </p:grpSpPr>
        <p:sp>
          <p:nvSpPr>
            <p:cNvPr id="529" name="AutoShape 6"/>
            <p:cNvSpPr/>
            <p:nvPr/>
          </p:nvSpPr>
          <p:spPr>
            <a:xfrm>
              <a:off x="990720" y="1523880"/>
              <a:ext cx="6324480" cy="942840"/>
            </a:xfrm>
            <a:prstGeom prst="leftRightArrow">
              <a:avLst>
                <a:gd name="adj1" fmla="val 50000"/>
                <a:gd name="adj2" fmla="val 133537"/>
              </a:avLst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7"/>
            <p:cNvSpPr/>
            <p:nvPr/>
          </p:nvSpPr>
          <p:spPr>
            <a:xfrm>
              <a:off x="2209680" y="1752480"/>
              <a:ext cx="3886200" cy="459720"/>
            </a:xfrm>
            <a:prstGeom prst="rect">
              <a:avLst/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39d"/>
                  </a:solidFill>
                  <a:latin typeface="USABlack"/>
                </a:rPr>
                <a:t>Paradigma       Eni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8"/>
          <p:cNvSpPr/>
          <p:nvPr/>
        </p:nvSpPr>
        <p:spPr>
          <a:xfrm>
            <a:off x="5544000" y="3124080"/>
            <a:ext cx="2757960" cy="45972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39d"/>
                </a:solidFill>
                <a:latin typeface="USABlack"/>
              </a:rPr>
              <a:t>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ASES DE LOS PARADIGM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precientíf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o hay hegemoní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Inmadurez de la cienci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de Ciencia Norm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Adecuación, ¿anomalías?, crisis, nuevo paradig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revolucion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uevo paradigma se vuelve hegemónic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OBLEMÁT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pacio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blemas de la real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un modelo decide abordar como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ampo de investig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genera un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olución prototípic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el mism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ta debe aportar su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as coordenadas teórico explicativ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UNDAMENTOS EPISTEMOLÓG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upu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etacientíf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abordar la problemát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un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s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rome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con 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puest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en la creación del paradig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vinculan 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cepciones epistemológicas y filosófic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diverso ord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NATURALEZA-CRIANZ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8360" y="2205000"/>
            <a:ext cx="79912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mportante debate naturaleza v/s crian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rado de influencia que tienen la herencia o genes frente a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, la concepción de inteligencia y el C.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SUPUESTOS TEÓR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Hipótesis o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stentos teór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ar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especialist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on 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base conceptual y explicativ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fundamental de la matriz disciplin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ad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odel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tiene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o lenguaj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y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istema conceptual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ESCRIPCIONES METODOLÓGIC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junt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métodos, procedimientos, técnicas y reglas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profesion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utilizan para el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trabaj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strucción o refinamiento del model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NTONCES…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Psicología Conductista aparece en el siglo XX como un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isciplina empíric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par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tudiar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n términos d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adaptación a estímulos del medio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encia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l Conductismo es que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dividuo aprende a adaptarse al ambiente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y que este aprendizaje está regido por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incipios de asoci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pavlov"/>
          <p:cNvPicPr/>
          <p:nvPr/>
        </p:nvPicPr>
        <p:blipFill>
          <a:blip r:embed="rId1"/>
          <a:stretch/>
        </p:blipFill>
        <p:spPr>
          <a:xfrm>
            <a:off x="2843280" y="765000"/>
            <a:ext cx="3711600" cy="51120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3"/>
          <p:cNvSpPr/>
          <p:nvPr/>
        </p:nvSpPr>
        <p:spPr>
          <a:xfrm>
            <a:off x="2776680" y="5996160"/>
            <a:ext cx="46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68180"/>
                </a:solidFill>
                <a:latin typeface="Verdana"/>
              </a:rPr>
              <a:t>Iván Petrovitch Pavlov ( 1849-193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515880"/>
            <a:ext cx="77929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75f6d"/>
                </a:solidFill>
                <a:latin typeface="Century Schoolbook"/>
              </a:rPr>
              <a:t>IVÁN PAVLOV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n 1904, Pavlov recibió el premio Nobel por sus trabajos sobre las bases nerviosas y ganglionares de la digest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urante esta investigación, descubrió los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principios del condicionamiento basado en la asociac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avlov observó que los perros salivaban sin falta en anticipación de la comida, que era anunciada por la llegada de un asistente o la presentación de un plato.</a:t>
            </a:r>
            <a:r>
              <a:rPr b="0" lang="es-ES" sz="2000" spc="-1" strike="noStrike">
                <a:solidFill>
                  <a:srgbClr val="5681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9" name="Picture 3" descr="perro"/>
          <p:cNvPicPr/>
          <p:nvPr/>
        </p:nvPicPr>
        <p:blipFill>
          <a:blip r:embed="rId1"/>
          <a:stretch/>
        </p:blipFill>
        <p:spPr>
          <a:xfrm>
            <a:off x="1476360" y="2349360"/>
            <a:ext cx="6480360" cy="34228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4"/>
          <p:cNvSpPr/>
          <p:nvPr/>
        </p:nvSpPr>
        <p:spPr>
          <a:xfrm>
            <a:off x="457200" y="388800"/>
            <a:ext cx="7543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575f6d"/>
                </a:solidFill>
                <a:latin typeface="Century Schoolbook"/>
              </a:rPr>
              <a:t>La Caja de Pav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01120" y="1341360"/>
            <a:ext cx="8642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eñaló cuatro hechos experimentales en los procesos de adquisición y extinció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In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I): Suceso ambiental que por sus propiedades inherentes, provoca un reflejo orgánico. (Ej.:la carn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C): Suceso ambiental que es neutral (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Neutro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con respecto a la respuesta antes de su apareamiento con le EI. (Ej.:la campan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In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I): Reflejo natural que el EI produce en forma automática e involuntaria.(Ej.:Salivación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C): Reflejo adquirido suscitado por el EC después de asociarse con el EI. (Ej.:Salivación Condicionad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1160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entury Schoolbook"/>
              </a:rPr>
              <a:t>Principios Derivados del Paradigm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os procedimientos de Condicionamiento representan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uantificación y la objetivización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adquisición y el olvido de asociaciones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hab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eces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ingún constructo mental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, pues el sistema nervioso, y en especial el córtex, ofrecen los mecanismos para el aprendizaj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l paradigma del condicionamiento permit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investigar la actividad nervios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superior y todas las clases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lación temporal o contigü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era el principio fundamental de la adquisición de asociacion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watson"/>
          <p:cNvPicPr/>
          <p:nvPr/>
        </p:nvPicPr>
        <p:blipFill>
          <a:blip r:embed="rId1"/>
          <a:stretch/>
        </p:blipFill>
        <p:spPr>
          <a:xfrm>
            <a:off x="2987640" y="907920"/>
            <a:ext cx="3235320" cy="47530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3248280" y="587700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68180"/>
                </a:solidFill>
                <a:latin typeface="Constantia"/>
              </a:rPr>
              <a:t>John Watson ( 1878-1958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775800"/>
            <a:ext cx="7792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8360" y="1773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John Watso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( 1878-1958 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puso la separación radical de las teorías psicológicas al afirmar qu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la psicología debía estudiar la conducta abierta y observable como su único obje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TABILIDAD- CAMBI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989000"/>
            <a:ext cx="807552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si los seres humanos tenemos características estables o vivimos en constante camb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nacemos con características regulares o nuestra personalidad se conforma a través de los distintos cambios en la vida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26920" y="1628640"/>
            <a:ext cx="8128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Watson s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beló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contra el métod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introspec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y contra el estudi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cienci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, considerándola un pseudoproblema, produciendo una reformulación completa de la psicologí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l campo de la Psicología era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mportamiento, medido en términos de Estímulo-Respues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Definió l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Psicología </a:t>
            </a: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como un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rama experimental de las ciencias naturale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99640" y="1700280"/>
            <a:ext cx="8055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s posibl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analizar 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mediant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lación causal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ntre los elementos del estímulo y la respuesta que inciden en el organismo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Para Watson los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rincipios de asocia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ran la clave del crecimiento psicológico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n los años 30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ismo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dominaba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sicología estadounidense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Skinner11a"/>
          <p:cNvPicPr/>
          <p:nvPr/>
        </p:nvPicPr>
        <p:blipFill>
          <a:blip r:embed="rId1"/>
          <a:stretch/>
        </p:blipFill>
        <p:spPr>
          <a:xfrm>
            <a:off x="2556000" y="981000"/>
            <a:ext cx="3539880" cy="453240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3"/>
          <p:cNvSpPr/>
          <p:nvPr/>
        </p:nvSpPr>
        <p:spPr>
          <a:xfrm>
            <a:off x="226836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B. F. Sk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(1904 –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aracteríst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Teórico ambienta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vestigador experimental y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Describe mas que expl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reador del paradigma Operante y el análisis conductual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tenta construir un sistema empírico que no precise de un marco teórico para organizar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sicologí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Investigar leyes entre variables observables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sacar lo oculto en lugar de espe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Acontecimientos privados tienen limitada accesibilidad a la investig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chaza causas internas de la conduc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e aparta de Watson, en cuanto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ensamiento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y otras conductas privadas que se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flejen verbalm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conducta está determinada por el ambi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u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roceso de adquisición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experienci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 es importante para determinar personalidad y disturbios en la conduc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onsidera: Conductas respondientes, mediadas por S.N.A.(reflejas) y C. Opera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HUMOR CONDICIONADO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75" name="Picture 4" descr="Explorar2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4824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IPOS DE CONDICIONAMIENTO OPERAN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324000" y="189000"/>
          <a:ext cx="8496000" cy="6591240"/>
        </p:xfrm>
        <a:graphic>
          <a:graphicData uri="http://schemas.openxmlformats.org/drawingml/2006/table">
            <a:tbl>
              <a:tblPr/>
              <a:tblGrid>
                <a:gridCol w="1487160"/>
                <a:gridCol w="2124360"/>
                <a:gridCol w="2512800"/>
                <a:gridCol w="2371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IN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D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FEC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JEMP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POSI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acontecimient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o incrementa la conducta que precede a la ocurrenci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1°: comida, agua, 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2°: dinero, alab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NEG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mpide la presentación de un estímulo aver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la conducta que permite evitar o escapar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scape: tomar una aspirina para no tener dolor de cabeza (inmediato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vitación:  usar crema protectora para evitar quemaduras de sol (a futur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ST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estímulo aversivo  (indese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suprime la respuesta. Los organismos dejan de realizar conductas con consecuencias avers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ulta, por exceso de veloc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rse suspendido, por faltar a cl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NTRENAMIENTO POR OM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nterrumpe o impide un estímul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bilita la conducta que precede a la pérdid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s padres dejan sin auto a su hijo durante el fin de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XTIN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a respuesta aprendida no se refuerza, gradualmente deja de realiza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desaparece la respuesta reforzada previ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 programa de TV te aburre, con el tiempo dejarás de ver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PLI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ualquier evento cuya presencia incrementa la probabilidad de que vuelva a ocurrir la conducta en curso se llam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de los siguientes no es un ejemplo de conducta operant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después de recibir comid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para evitar una descarg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niño que estudia para obtener la aprobación del maestr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parpadeo después de un destello de luz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DIVERSIDAD-UNIVERSA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2060280"/>
            <a:ext cx="80755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la similitud o diferenciación entre las person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as personas se parecen entre sí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Qué ocurre entre los diversos grup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os chilenos somos iguales o hay diferencias entre nosotr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575f6d"/>
                </a:solidFill>
                <a:latin typeface="Century Schoolbook"/>
              </a:rPr>
              <a:t>QUE NOMBRE RECIBE CADA UNA DE LAS SIGUIENTES ACCION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ir un diploma por realizar un curs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omar un paraguas para no mojarse o pagar la hipoteca para evitar un embar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ersona realiza ventas por comis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soldado es detenido por ausentarse del cuart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padre le dice a su hijo: “si estudias te daré un premio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caballo galopa para escapar de la fusta de un jine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CTIVIDAD EN AUL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6840" y="2204640"/>
            <a:ext cx="84358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Formen tríos entre sus compañer@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Elaboren un ejemplo aplicado al control conductual en la sala de clases de niños de 2ª Básico de acuerdo 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Recompens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Omisión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Castig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Refuerzo Negativ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56818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MENTE-CUERP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2060280"/>
            <a:ext cx="81471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ómo están conectados la mente y el cuerp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preocupa de estudiar la relación entre lo que sentimos (ej: pensamientos, sentimientos) y los procesos biológicos a la 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2133720"/>
            <a:ext cx="8291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edro siempre ha sido una persona más bien triste, siempre ha tenido amigos parecidos a él, ahora desde que dejó de pololear con Paola su ánimo ha decaído y le ha dicho a sus amigos que se va a suicidar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844280"/>
            <a:ext cx="82915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uan es un niño de diez años,  hijo de padres divorciados, viene de un hogar con mucha violencia intrafamiliar. Cuando se enfada insulta y pega a sus compañer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será la posible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2:59:52Z</dcterms:created>
  <dc:creator>Edita Núñez Sotelo</dc:creator>
  <dc:description/>
  <dc:language>en-US</dc:language>
  <cp:lastModifiedBy>AOgaldeS</cp:lastModifiedBy>
  <dcterms:modified xsi:type="dcterms:W3CDTF">2012-04-09T15:52:02Z</dcterms:modified>
  <cp:revision>13</cp:revision>
  <dc:subject/>
  <dc:title>Psicología</dc:title>
</cp:coreProperties>
</file>