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AD86-DA96-4202-A746-0940B0E7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501-4BC2-42D1-BF9E-9CE89CD6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D49B-C263-4181-9BA9-B2AAB0BA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165-0CB5-4EC8-94C7-93494D1B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0F1A-B344-4C3C-BF0F-3029C5B4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3363-5DEE-45F8-BF14-088388E8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D33B-60FB-4240-9697-979F28A7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4E0D-C75A-459E-8238-8101053A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7FB4-D49E-414C-8B12-9ACBBA90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4C31-D704-4067-8959-A339893A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64F0-269B-43AC-A5E7-080F563C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5DEB-4376-44D6-9468-A087EBB7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9BB3-DEE7-476C-999D-8AB89E45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7618-E24A-4225-9C15-E0B6681C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D0D8-34A7-4EED-8AE5-637B80C4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385B-86CE-4171-A7A9-C84B9F8E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452F-7A22-42FF-9131-6C7A027B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BF2A6-F411-44DA-8D40-586822C1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D7044-5DE6-4566-9403-BD20E512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DCF64-2DEF-40A7-BFFC-20B153C5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B6B98-C79D-40A6-8802-DBA51E43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E3F75-D5F9-4E54-9FF8-30160A60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5FC-3559-482B-A1F3-1AD51BF1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CEEB2-C37F-4BC0-BEDA-21B2AB30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D7567-BAA4-4522-B607-19C9A25F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5C861-DC10-4685-9BDA-7C9942FF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5EC3F-D096-4D84-B084-0FBA1699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D8F99-D752-41D0-8C4B-47CB4C07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711D7-4426-49F9-A9BE-8613AFC8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7A31B-B561-4D2B-AE44-4D016D11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87D6E-8C18-41D3-96F2-B5FCE19C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8C4B8-E150-4350-97FB-22896AE8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9CA14-9558-482E-A158-70CBD805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1A8-C9BD-42E6-A6C6-D040F282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F4BE3-5076-4700-8D55-BF808364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F2A43-7D52-47E2-AE13-B99F38E5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F5FD9-1385-410A-9F7D-E5D0ECF4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2A8E3-1F41-4626-8341-6187583A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86153-EFBC-4961-9700-DDAFD71A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BFA79-C226-40CC-AEE3-41B28313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EDE24-6D1F-4E43-9968-55A31E63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78441-7AEC-4F0D-A613-D40D355B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A834E-0CFC-4F49-853C-163F1876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F61-95B3-48D3-9E0C-F3C24317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3D04-1FAB-4AFB-B981-0A1B7D45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707-81AB-4BE5-A566-81F28529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411F-87FA-49D6-928F-B7782D57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D1A-5147-49DC-A4D6-29A2C5CF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4249-D98F-4D82-9FF0-62DBA24D85DB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3BCE-8E8D-43CD-8036-0FAE084F4628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4562-7A3A-4AD1-ABDC-CB0F11048D18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BB51-8FB3-4052-8097-A78E8780AA50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1994040" y="1206360"/>
            <a:ext cx="6186240" cy="197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71720" y="35719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Edita Núñez Sotelo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Ps. U. de Chile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Mg. Desarrollo Cognitivo UDP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ualismo mente-cuerp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de Descartes dividió el campo de estudio de la conducta humana y surgieron dos tradiciones distin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studio de la mente human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su funcionamiento. La introspección fue su método de análi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stigación sobre los reflej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Cómo estos son provocados por estímulos externos que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activan los órganos sensorial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Su estudio fue realizado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fisiólog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mediante la observación y la exper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deas previa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ido Comú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cio práctic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 su compañero/a, reflexione acerca de las ideas de sentido común relacionadas con el saber y la práctica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sicología del sentido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istencia previ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, en todos nosotros, de ideas, creencias y teorías acerca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or qué las personas hacen lo que hac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 univers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seres human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herramienta fundament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ntendimiento, predicción y contro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demá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asa en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upuesto de igualdad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que es válido para mí debe serlo para tod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obstante esto, s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be hu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sentido comú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tui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no es un criterio válido para construir ciencia psic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84280"/>
            <a:ext cx="8454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entido comú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váli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ól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stablecimiento de hipótesi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no para su comprob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ducta human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como objeto de estudio, debe s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dependiente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nosotros mis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Finalmente…</a:t>
            </a:r>
            <a:br>
              <a:rPr sz="4500"/>
            </a:b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¿Qué estudia la Psicología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es una ciencia que estudia el comportamiento de los seres vivos y los procesos mentales por los que los sujetos conocen y se orientan en su entorno y aprenden de la exper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eri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tilización método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servación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rigurosa y sistemátic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los fenómenos psic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te de los hechos y busca sus regularidades mediante 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verificación empí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cléc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ge datos aportados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otras disciplin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(biología, sociología, antrop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ee un carácte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multidisciplinar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ya 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tá interesada en el comportamiento (psic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De un organismo (b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Que aprende a adaptarse al medio ambiente (ecología) cambia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Mediante la relación con otros seres (soc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n olvidar la cultura en la cual se desarrol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opera c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tintos niveles de análi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as las disciplinas pertenecientes a esta ciencia trabajan en alguno de dichos niv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social se ocupa mas del estudio de  los gru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clínico se centrará en el diagnóstico y tratamiento de individuos con problemas emocionales o de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versas concepciones acerca de la psicolog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s distintas ideas sobre la naturaleza del ser humano (filosofía) y de las formas del conocimiento (epistemologí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esen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verse con su compañer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qué eligió estudiar bachillera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é experiencia cercana ha tenido con la labor de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flexione brevemente respecto de cómo se vivió el último terremoto que afectó a nuestro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ómo ha sido la conducta de las persona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e emociones nos han invadi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ree usted que en estas circunstancias son necesario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935000"/>
          <a:ext cx="8229600" cy="40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iveles de anál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lter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umana, otras e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ina, gitana, anglosajon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u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milia, pandilla, grupo,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í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eja, díada madre-hijo, profesor-alumno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os, niños, discapacitados, estudiantes universitario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ceso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lidad, atención memoria, motivación, inteligenci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onente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ducta manifiesta, bases fisiológic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isciplina académic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bus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scrib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la tarea básica de la psicología e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coger datos y recabar información detall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sobre los procesos cognitivos y los comportami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: si un sujeto padece insomnio hay que investigar que estímulos influyen, en que situaciones se produce, o que problema le impide conciliar el sue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ic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la psicología no se conforma con describir los hechos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ta de averiguar las causas de determinad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ell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ula hipótesis o explicacion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asadas en una teor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empre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visionales y sujetas a revis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a medida que se tiene mayor conocimiento de la conducta que se investi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deci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es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pacidad para pronosticar un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lación causa-efecto dentro del ambiente nos asegura con bastante fiabilidad que unos hechos preceden a otr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Podemos saber si alguien mantendrá una conversación con nosotros por su forma de mirarn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 a predecir acontecimientos es necesario para adaptarnos a nuestro ento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960" y="15714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trol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signific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terar las condiciones que influyen en el comportamiento de manera predec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si una profesora sugiere cambios en clase para ayudar a adolescentes en su aprendizaje, ha ejercido un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obstante esto, algunas actividades humanas no son normales porque ocurren en situaciones inapropi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ritar se aprueba socialmente si uno se encuentra viendo un partido de fútbol, pero se prohíbe en una catedr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preguntas que se hacen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isi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por ejemplo a nivel de anatomía, fisiología, et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enomen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relacionadas con la experiencia subjeti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conductu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hace referencia 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s del comportamient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que pueden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er observada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modo objetivo. Aplicación del método científ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este último nivel trabaja la psicología científ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álisis de la conducta con el objetivo de entender la organización interna del sist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ablecimiento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relaciones funcional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entre situaciones (estímulos) y conducta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una relación funcional 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pció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conducta o los cambios conductuales que suceden en una determinada situación ambien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lación funciona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be pero no expl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scubrimiento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structura y procesos internos del siste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usca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plicación de las razon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or las cuales el sistema se comporta como lo hace en una situación d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proximación  a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“caja negra”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visualización del cerebro en ac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932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caja negra en el estudio de los procesos psicológicos superiores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557360"/>
            <a:ext cx="8270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uerpo de conocimiento de cómo está estructurado nuestro sistema cognitivo y como realizan sus funcio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sación y Percep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ción y conci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moción, sentimientos y estados de áni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eli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siempre ha existido interés por comprender nuestra conducta y la de nuestros semeja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épocas pasadas la vida humana era más simp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actualidad, nuestra sociedad es má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lej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mas postmoderna, requerimos más información para poder funcion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8270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aplicación d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étodo científico vali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l objeto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vers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respecto a l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enome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investig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nt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l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164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éto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ienza con un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de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presentimiento, intuición o suposición acerca de algo, lo que se constituye como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aliza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rediccion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preguntas) sobre las conductas observ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8728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ayoritariamente, el objetivo de los estudios psicológicos es la comprobación d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 genera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que so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plicab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oblación en general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y no solo a los sujetos participantes en el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actor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considerar para pod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os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Tamañ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a muest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uestra amplia y datos promedi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lecció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leatori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os sujetos de la mues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plicabilidad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estudio por otros investigadores en otras ciudades o paí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istingue entre ciencia básica y ciencia aplic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básic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dica a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c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medi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étodo cientí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aplicada utiliz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ocimient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los diferentes ambiente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gener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r la naturaleza y funcionamien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“procesos psicológicos básicos” como la percepción, la memoria o el pens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xperiment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os procesos psicológicos mediant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eños experimentales de labor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el área de la psicología más rigurosa y científica y utiliza tanto animales como seres humanos en sus investig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biolog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obiólogos estudi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ases biológicas del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no sólo el sistema nervioso y endocrino, sino también las influencias de la genética o la farmacología en l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porqué unas lesiones del cerebro producen pérdida de memoria y otras causan trastornos del lenguaje?...¿qué áreas cerebrales son importantes en las emociones human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volu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Ésta se preocupa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mbi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se producen dur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arrollo del ciclo v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uáles son las etapas del desarrollo de la inteligenci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hay una decadencia de la memoria en la vejez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soci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campo de estudio es muy amplio y abarca problemas diversos, como el análisis de la publicidad o las influencias de un grupo sobre el individu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influye la sociedad en el comportamiento de los individu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 la person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 la personalidad investigan qu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racterísticas definen a una person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como interactúan las fuerzas genéticas y ambientales en la personalidad del individuo y porqué este se comporta de una forma y no de o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se nace con determinada personal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tim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alabra Psicología proviene de dos términos grieg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logos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significan alma (entendida como lo que “anima” o “da vida” al cuerpo),  y conocimiento o ciencia de la mis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s raíces se encuentran el la filosofía, la fisiología y la metodología científ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aprendizaj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l aprendizaje, mediante la investigación animal y humana, han demostrado algun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cesos que influyen en el aprendizaj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las diferencias entre las diversas especies respecto a su capacidad para aprender conductas concret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iferen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 disciplina investig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individual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presentan los individuos, por ejemplo niños retrasados o superdotad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arándolo con la media de su grup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re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principal herramienta es la utilización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es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sicológicos pa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studiar distintas capacidades huma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ul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ulturales investig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qu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ltura afecta al pensamiento y al comportamiento hum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enguaje que hablamos, la educación que recibimos, las leyes que obedecemos y otros muchos comportamientos dependen de la cultura en la que hemos creí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entre hombres y muje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la forma en que se desarroll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factores biológicos, la crianza, la educación, los estereotipos influyen en la diferencia de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iber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terne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un marco de referencia para diseñar estudios experimentales, crear aulas virtuales en las que desarrollar nuevos enfoques docentes o crear nuevos procedimientos de investig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alidad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en los contexto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tiende a la dimensión normal, individual o colectiva y también a la conducta pat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educativos analizan la realidad educativ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alizan e interpretan pruebas psicológicas para ayudar a los estudiantes en sus deci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rientan a padres y profesores para lograr mejor rendimiento de los años escol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pueden los niños mejorar su aprendizaje y su creativ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línic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línicos diagnostican y tratan problemas emocionales y de conducta, desde los más débiles, como falta de autoestima o timidez, hasta los más problemáticos como la separación de parejas, el estrés o la de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yudan al ser humano a enfrentarse a su propio sufr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industrial y de las organiz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selección y entrenamiento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bajado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r las relaciones human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el ámbito labo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Tall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su devenir histórico la psicología ha tenido varios objetos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l al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limitar su campo de investigación y crear métodos y técnicas propias permitieron su indep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Grecia antigua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lat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fendía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cepción dualist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a naturaleza hum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hombre estaba compuesto de alma y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rigen divin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a realidad distinta el cuerpo material, y a consecuencia de una culpa cometida llegó desde el otro mundo a encarnarse en un cuerpo mor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ás tarde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ristótel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ncibió la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mo un elemento o principi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iológic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así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piedad esencial del ser viv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 no era independiente del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ra de este el alma carecía de sentido y exist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s dos ideas de “alma” integradas en un horizonte filosófico son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icios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siglo XVII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produce un cambio de perspectiva con el comienzo de la filosofía moderna atribuida al filósofo y matemátic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né Descar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tes de sus ideas, cualquier función vital de los organismos se explicaba por la existencia del al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adie pensaba qu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 humanos pudieran deberse a la influencia de estímulos ambient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car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formuló un visión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os e involunt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actos como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flej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on reacciones automáticas 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oluntarias a estímulos exter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ras acciones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as, gobernadas por la ment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entidad no física) y debidas a que la persona elige comportarse as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1:55:38Z</dcterms:created>
  <dc:creator>Edita Núñez Sotelo</dc:creator>
  <dc:description/>
  <dc:language>en-US</dc:language>
  <cp:lastModifiedBy>Edita Núñez Sotelo</cp:lastModifiedBy>
  <dcterms:modified xsi:type="dcterms:W3CDTF">2012-03-12T03:23:43Z</dcterms:modified>
  <cp:revision>13</cp:revision>
  <dc:subject/>
  <dc:title>PSICOLOGÍA</dc:title>
</cp:coreProperties>
</file>