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CLIC.WAV" ContentType="audio/x-wav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6913-5D9F-4719-9D24-E917F56F7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0AF4-5657-422F-928D-E2E2AD36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FB864-B071-4AAC-B7FC-7737D522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3D713-02A7-4E9E-9E9D-050400B3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55594-14B5-46AD-B5A4-82421803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76DA6-C198-418C-8D91-7D91FB52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9DF9D-1D43-4067-9CB2-63A7E6D8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D0790-C744-44D5-8491-390CFB64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B5907-7615-4762-96A8-7EDC12B3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9506BA-1578-409C-AA68-4A764D67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96F5C-7535-4B1C-874F-FE26B66B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A7F9-CEAB-4F4D-B411-128EC6E24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AE3A-E722-4314-AF50-3B71D8245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1557-D525-4633-8ABA-C57CBF942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1CA5-AE8C-4242-AD94-95C22A6A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F313-80E6-468E-8A35-56F2FAB3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A883-E018-4B89-900B-2847FBEB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8A5B-8179-4234-BCFA-6C9EAFED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7F24-5A35-44F7-957A-7C7BDB80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B9F7-B386-4369-BCD5-3378BEE8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279B-6D7E-4D41-9921-8A409395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08A0-846C-4448-97CD-57615090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8511-6B88-47D7-8F2B-FFCC133B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49E2-1B40-4FD6-B0F4-9F8FCA8A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F497-4081-42A4-9FDA-933E1FF31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A67B-C6FF-4ECF-8470-19672782C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0CC84A-C4D0-4500-9984-40DD6E086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9BC020-8178-472F-8CA4-39E8C77F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49A6D4-D76E-46CC-9446-F01497EF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C181A6-18A2-47A5-8B50-7CF2FD37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E7E5DF-5219-42DE-8487-A79F3E2A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F2FB-178A-48E1-96E2-0A55CAD1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B09EFC-49FA-418E-9B8A-C4D8C410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EE9C35-73B9-4EDB-AE44-194F8244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41F256-41FB-4CD0-B196-DFB5B7F0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F932EF-3939-4BC1-89AB-BD4EEC93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CE6A15-3AED-492E-9E9A-49886666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B9C13B-8F51-41F4-B0F1-BAFF8B8CB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9F300A-3DC2-4DB0-832D-A99DA754B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055A2-2625-40B2-A2C7-AAA43229D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E9960-14B0-4DEC-A5CC-2AF8D9A3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A89F4-FA28-450E-8018-EAC770FD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6D5A-81C7-4B0E-B8CA-EFB07F64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0AEAC-105D-455B-A2B8-D8581376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9848B-76F4-4A95-A929-03BBF206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72280-D30B-4167-BB72-ADE82C5E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E4FDE-4842-4296-9115-F53BE013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BD3A2-7BC4-46FE-8E55-C7BC201D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C15BB-1B70-4309-AF1E-C463DCA1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CB832-C0F3-46A9-A9A2-838D0373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46269-C4A6-4B17-A1A0-2EACE51C4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DEA8B-610F-4664-B02D-06A8E98A2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5C027E-146A-4579-AA5E-2FAC20425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AD56-3B01-43ED-AE1D-4174D286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1F6B90-D57B-475C-9BF5-D55F2ADA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FD3D9F-3E87-4AEC-BBA7-FBE87B6E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0A54EF-1BA8-471A-ABCE-8FB57F06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E0B508-2A13-47C9-9093-BFDF10DC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01A739-91D7-4445-B151-38CAB98F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E9839C-B7ED-4FC9-9260-3DC74D66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D4EC7D-AE62-453C-9359-3E34069E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300FEE-F3CA-41D6-81BE-72556789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71635C-56C4-4F73-A2F2-9B9182AF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BCA2CF-FB8B-4F20-885C-A160B969A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1D2B-3AEA-4F7C-B41A-4273FAC5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334428-FB7B-4A95-829D-7E6E6A264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EDF25E-3613-421C-83E8-981F15183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FB0D77-850E-4C59-8B2E-F818908F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4B719B-E49D-4F74-BECB-2ED5C035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2A428C-9C76-4B15-B274-BC13071E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449DD5-7134-4FDB-8624-0CCCE851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382BBD-15C0-4DC0-A98D-40C9B65E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224A2B-3C98-477F-BB55-A1C9A044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CD8223-D012-4576-A8E1-9DF59213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0273DB-CD56-40F4-95AE-7A844606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BE00-6979-43CA-9275-74B411C6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360ACD-7DC0-4BA8-9B9A-8F2EFC52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DC6535-544E-4648-8DDE-FCF357075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541DAB-A28E-4768-876A-02BD0F676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DBE57F-55BA-4227-B5C5-CA4FE8A59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1EF061-267F-4489-8C77-24142DDE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475007-7407-4A09-8FC1-6194E8E1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F253AC-3735-43EB-A0E6-0593CE74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0B1EC3-C165-407B-9F88-A3EEC58F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1F9944-A938-45E6-8F82-1445FA3B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594EA1-BBB3-4599-9042-F235924F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D955-C2A3-4EDC-BECA-5E7E73CB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C1D82A-B8EB-4EB2-94D2-C946BAE5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841267-256F-4173-B499-21DD9D20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554250-D0FA-4F6E-BA7E-3552E428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ECE20B-D916-4728-BF17-CEA1D6AAB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03CC22-7349-48E3-8E07-9B3F0EA4C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1278E-54D3-4F39-8724-2F71E4B65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21704-710F-4CC7-99AD-FACA7B14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73FA1-BA61-4A3A-BB0F-10ECFEB1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24EDD-9A4B-4FF4-A4C0-53027D98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7430E-732E-4403-9B7C-8E85DD9F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067E-F41B-4956-B070-46502CBF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B49FA-6A3C-4C2F-AB34-FFA8DE74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0A169-A060-4589-BFDA-CF0426D0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258E3-9906-4969-BA5E-3C760E19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C3BF3-FAB8-45F2-9284-D552A8B5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E66A6-64E3-4D92-8D6B-F9AC5315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AC3DD-2EF8-4CD4-B693-B9F964086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524B5-472D-44E7-8833-D0BCA2A9B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06171-55F2-44A5-B4DD-4310C1D09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3A70B-1EB9-4F6E-B624-5B415CAB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2A939-27FA-43A7-B4E8-9C7AA628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5269-3B45-4800-8B8E-D44BBB630EB4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86D5-3BA8-40A2-8488-2FCAF68CC6CC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80BC-14AB-45EC-A8F0-F3AA2C494901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32E2-8164-432F-A164-BBB58FB7FA53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D5A6-884A-4714-BEB8-F81D3497FCD7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E97A-5316-4FCB-A323-79FD2B22B4ED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CA14-631B-4E95-9FE9-A66B0ED5F496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8C49-1318-44AA-B8B2-04728F47A95A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88A6-C5E8-4052-95BC-12E1121EF096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999800" y="13568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2071440" y="385776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6840" y="2133720"/>
            <a:ext cx="78598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a pareja son los padres de un par de mellizos, de un año de edad. Ellos comentan que al nacer eran muy parecidos en su carácter, no obstante a medida que han ido creciendo están mostrando diferencias en su forma de ser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Dónde radicará la causa de sus diferenci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916280"/>
            <a:ext cx="8291520" cy="45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n un colegio de enseñanza básica, los profesores han discutido entre ellos y no han logrado ponerse de acuerdo respecto de que hacer con un grupo de niños que no logra avanzar en su aprendizaj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lgunos profesores quieren derivarlos a una escuela especial, mientras que otros piensan que estos niños tienen una inteligencia normal y deben seguir en la escuela, apoyados mas de cerca por todos los doc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porqué estos niños no aprende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DESARROLLO DE LA 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6840" y="1989000"/>
            <a:ext cx="800244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psicología, tiene un largo pasado pero una historia bre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nueva psicología, una ciencia de la m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historia de la psicología se divide en tres period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surgimiento de la ciencia de la ment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décadas conductist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 revolución cognoscitiv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55280" y="112500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WILHELM WUNDT Y EDWARD B.TITCHENER</a:t>
            </a:r>
            <a:br>
              <a:rPr sz="2700"/>
            </a:b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VOLUNTARISMO Y ESTRUCTURALISMO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285480" y="2000160"/>
            <a:ext cx="859788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La psicología nace en 1879, con la fundación del primer laboratorio de psicología en la universidad de Leipzig en Alemania (Wundt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A nivel académico, un laboratorio daba el estatus de cienci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Wundt quiere explicar la experiencia inmediata y como poder estudiarla científicamen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También creía que algunos procesos mentales no podían estudiarse mediante experimentos científic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WILHELM WUND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6840" y="2924280"/>
            <a:ext cx="8002440" cy="35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Otorga un papel central al proceso de la atención selectiva, el proceso por el cual determinamos a que vamos a atender en un momento da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ara Wundt, la atención es controlada activamente por las intenciones y los motiv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dio lugar al uso del término del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voluntarismo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para describir su visión de la psicologí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3" name="Picture 15" descr="wundt"/>
          <p:cNvPicPr/>
          <p:nvPr/>
        </p:nvPicPr>
        <p:blipFill>
          <a:blip r:embed="rId1"/>
          <a:stretch/>
        </p:blipFill>
        <p:spPr>
          <a:xfrm>
            <a:off x="5796000" y="808200"/>
            <a:ext cx="158436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es lo que separa la atención humana de la atención de otros organism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 su vez, la atención controla otros procesos psicológicos co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percepcion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pensamient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recuerd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n el uso de la medición y la experimentación, Wundt sacó a la psicología del campo de la filosofía para ubicarla en el mundo de la 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étodo usado, el uso controlado de la instrospección u autoobservación de los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ontenidos mentales consci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étodo de l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instrospecció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nforme verbal de personas entrenadas que sometían 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observación cuidados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su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xperiencia subjetiva conc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 PARTIR DE LEIPZIG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G. Stanley Hall. Primer laboratorio estadounidense de psicología, 1883. U. de Johns Hopki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. M. Cattell, U. de Pennsylvania, 1888. primer estadounidense que fue llamado “profesor de psicología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, U. de Cornell (Inglaterr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Muy influido por los recientes avances en química y fís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 manera similar, los psicólogos deberían analizar las experiencias complejas en términos de sus element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quiere buscar los “átomos del pensamiento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: cuando las personas ven un plátano de inmediato piensan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quí tenemos una fruta, algo para comer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a percepción se basa en asociaciones con la experiencia prev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buscaba los elementos  más fundamentales o “átomos” del pensa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MAS DE INTERÉS PARA LA 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nverse con su compañero/a … ¿Cuáles son los temas que investiga la psicologí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untos centrales de interés psicoló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scompuso la conciencia en tres element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ensaciones físicas (lo que vem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entimientos (si los plátanos nos gustan o nos desagradan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Imágenes (recuerdo de otros plátan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firmaba que incluso los pensamientos y los sentimientos más complejos podían reducirse a esos elementos simp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ESTRUCTUR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consideraba que el papel de la psicología era identificar esos elementos y demostrar como podían combinarse e integrar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e es el enfoque llamado ESTRUCTURAL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ructuralismo: escuela de psicología que enfatizaba las unidades básicas de la experiencia y las combinaciones en las que ocurr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SCUELA ESTRUCTURALIS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uvo una corta vida y poco efecto a largo plaz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o obstante lo anterior, el estudio de la percepción y la sensación son parte importante de la psicología contemporáne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</a:t>
            </a:r>
            <a:br>
              <a:rPr sz="3000"/>
            </a:b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, primer crítico del estructural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Él afirmaba que los “átomos de la experiencia” (sensaciones puras sin asociaciones) de Titchener, no existían en la vida re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uestra mente siempre entreteje asociacio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visa las experienci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activa, se detiene, avanza en 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afirmaba que las percepciones, emociones e imágenes no pueden separarse; la conciencia fluye en una corriente contínu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2" name="Picture 18" descr="james"/>
          <p:cNvPicPr/>
          <p:nvPr/>
        </p:nvPicPr>
        <p:blipFill>
          <a:blip r:embed="rId1"/>
          <a:stretch/>
        </p:blipFill>
        <p:spPr>
          <a:xfrm>
            <a:off x="7093080" y="108000"/>
            <a:ext cx="14396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ibe una gran influencia de la teoría de la evolución de Charles Darw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 acuerdo con Darwin, tanto la anatomía como la conducta son resultado de la selección natu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afirma que la conciencia evolucionó porque cumple una función adaptati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: si no pudiéramos reconocer un plátano, tendríamos que averiguar que es cada vez que viéramos un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8000" y="2492280"/>
            <a:ext cx="83516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s asociaciones mentales nos permiten beneficiarnos de la experiencia prev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sugirió que cuando repetimos algo, nuestro sistema nervioso cambia de modo que cada repetición es más sencilla que la anteri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FUNCIONALIS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85840" y="1600200"/>
            <a:ext cx="8501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eoría de la vida mental y la conducta que se interesa en la forma en que un organismo emplea sus habilidades perceptuales para funcionar en su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u teoría generó preguntas acerc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el aprendizaj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complejidades de la vida menta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impacto de la experiencia en el cerebr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lugar del género humano en el mundo natural, etc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68000" y="1700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, pionero de la psicología, el mas conocido y controverti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octor en medicina, le interesaba especialmente el sistema nervioso cent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mienza a trabajar con hipnosis para tratar los trastornos nervios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1" name="Picture 14" descr="freud2"/>
          <p:cNvPicPr/>
          <p:nvPr/>
        </p:nvPicPr>
        <p:blipFill>
          <a:blip r:embed="rId1"/>
          <a:stretch/>
        </p:blipFill>
        <p:spPr>
          <a:xfrm>
            <a:off x="4859280" y="3975120"/>
            <a:ext cx="180036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Él afirmaba que muchos trastornos nerviosos eran de origen psicológico más que fisioló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us observaciones clínicas lo llevaron a desarrollar una teoría amplia de la vida mental que era radicalmente opuesta con lo propuesto hasta ese mom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 sostenía que los seres humanos no son tan racionales como se imagi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one en duda la existencia y real alcance de la voluntad o “libre albedrío” de Wund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 afirmaba que los seres humanos estamos motivados por instintos e impulsos inconscientes que no están disponibles para la parte racional y conciente de nuestra m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nconciente como un “caldero” dinámico d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primitivas pulsiones sexuales y agresivas,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eseos prohibidos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temores y deseos indescriptib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recuerdos infantiles traumátic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ERSONA-SITU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6840" y="2400120"/>
            <a:ext cx="814716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conducta tiene sus causas ¿internas o extern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o que ocurre dentro de la persona como pensamientos, emociones, motivos, actitudes,  o valores, personalidad y genes…versus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en que medida la conducta es causada por factores externos a la persona? Como por ejemplo otras personas o el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primidos (o escondidos para la conciencia) los impulsos inconscientes presionan sobre la mente consciente y encuentran expresión de forma disfrazada o alterad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incluye sueños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psus, síntomas de enfermedad ment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ctividades socialmente aceptables como el arte y la literatur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PSICOANÁLI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6840" y="2276280"/>
            <a:ext cx="74674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écnica para descubrir el inconsciente, en la cual el paciente se recuesta en un diván, cuenta sus sueños y dice cualquier cosa que le venga a la mente (asociación libr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60020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eoría de la personalidad que afirma que la conducta es el resultado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de fuerzas psicológicas que interactúan dentro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del individuo, a menudo fuera de la cons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l aparecer esta teoría, genera escándalo en la socieda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pecialmente por su énfasis en la sexualida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demás por su sugerencia de que muchas veces no tenemos conciencia de nuestros verdaderos motivos y que, por ende,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no tenemos pleno control 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obre nuestros pensamientos y nuestros comportamient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 sido ampliada y revisada en el transcurso d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ún en la actualidad sigue generando deb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ableció la base para el estudio de la personalidad y los trastornos psicológ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L CONDUCT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182600" y="105264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ste surge como respuesta al malestar general que existía entre la comunidad académica y que abría un periodo de crisis paradigmátic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¿Qué es una crisis paradigmática?..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4191120" y="2057400"/>
            <a:ext cx="609480" cy="160020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914400" y="1752480"/>
            <a:ext cx="5029200" cy="58140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39d"/>
                </a:solidFill>
                <a:latin typeface="USABlack"/>
              </a:rPr>
              <a:t>Comunidad cientí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4"/>
          <p:cNvSpPr/>
          <p:nvPr/>
        </p:nvSpPr>
        <p:spPr>
          <a:xfrm>
            <a:off x="3657600" y="2971800"/>
            <a:ext cx="3733920" cy="1143000"/>
          </a:xfrm>
          <a:prstGeom prst="ellipse">
            <a:avLst/>
          </a:prstGeom>
          <a:gradFill rotWithShape="0">
            <a:gsLst>
              <a:gs pos="0">
                <a:srgbClr val="d2611c"/>
              </a:gs>
              <a:gs pos="100000">
                <a:srgbClr val="612d0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39d"/>
                </a:solidFill>
                <a:latin typeface="USABlack"/>
              </a:rPr>
              <a:t>Parad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5"/>
          <p:cNvSpPr/>
          <p:nvPr/>
        </p:nvSpPr>
        <p:spPr>
          <a:xfrm>
            <a:off x="380880" y="3809880"/>
            <a:ext cx="2819520" cy="83844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6"/>
          <p:cNvSpPr/>
          <p:nvPr/>
        </p:nvSpPr>
        <p:spPr>
          <a:xfrm>
            <a:off x="1905120" y="4343400"/>
            <a:ext cx="2819160" cy="83808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7"/>
          <p:cNvSpPr/>
          <p:nvPr/>
        </p:nvSpPr>
        <p:spPr>
          <a:xfrm>
            <a:off x="2895480" y="5029200"/>
            <a:ext cx="2819520" cy="83808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8"/>
          <p:cNvSpPr/>
          <p:nvPr/>
        </p:nvSpPr>
        <p:spPr>
          <a:xfrm flipH="1" flipV="1">
            <a:off x="5790600" y="3733920"/>
            <a:ext cx="1447560" cy="1371600"/>
          </a:xfrm>
          <a:prstGeom prst="pie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ARADIGMA &amp; ENIGMA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148000" y="1844640"/>
            <a:ext cx="3817800" cy="4114800"/>
          </a:xfrm>
          <a:prstGeom prst="rect">
            <a:avLst/>
          </a:prstGeom>
          <a:solidFill>
            <a:srgbClr val="d2611c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Una realización científica universalmente reconocida que, durante cierto tiempo, proporciona modelos de problemas y soluciones a una comunidad científica" (Kuhn, 1971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ARADIGMA &amp; ENIGMA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6" name="Line 3"/>
          <p:cNvSpPr/>
          <p:nvPr/>
        </p:nvSpPr>
        <p:spPr>
          <a:xfrm flipV="1">
            <a:off x="0" y="3885840"/>
            <a:ext cx="6629400" cy="1447920"/>
          </a:xfrm>
          <a:prstGeom prst="line">
            <a:avLst/>
          </a:prstGeom>
          <a:noFill/>
          <a:ln w="12060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4"/>
          <p:cNvSpPr/>
          <p:nvPr/>
        </p:nvSpPr>
        <p:spPr>
          <a:xfrm>
            <a:off x="2133720" y="2971800"/>
            <a:ext cx="2971800" cy="2133720"/>
          </a:xfrm>
          <a:prstGeom prst="irregularSeal1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b435b"/>
                </a:solidFill>
                <a:latin typeface="USABlack"/>
              </a:rPr>
              <a:t>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5"/>
          <p:cNvGrpSpPr/>
          <p:nvPr/>
        </p:nvGrpSpPr>
        <p:grpSpPr>
          <a:xfrm>
            <a:off x="990720" y="1523880"/>
            <a:ext cx="6324480" cy="942840"/>
            <a:chOff x="990720" y="1523880"/>
            <a:chExt cx="6324480" cy="942840"/>
          </a:xfrm>
        </p:grpSpPr>
        <p:sp>
          <p:nvSpPr>
            <p:cNvPr id="529" name="AutoShape 6"/>
            <p:cNvSpPr/>
            <p:nvPr/>
          </p:nvSpPr>
          <p:spPr>
            <a:xfrm>
              <a:off x="990720" y="1523880"/>
              <a:ext cx="6324480" cy="942840"/>
            </a:xfrm>
            <a:prstGeom prst="leftRightArrow">
              <a:avLst>
                <a:gd name="adj1" fmla="val 50000"/>
                <a:gd name="adj2" fmla="val 133537"/>
              </a:avLst>
            </a:prstGeom>
            <a:gradFill rotWithShape="0">
              <a:gsLst>
                <a:gs pos="0">
                  <a:srgbClr val="612d0d"/>
                </a:gs>
                <a:gs pos="50000">
                  <a:srgbClr val="d2611c"/>
                </a:gs>
                <a:gs pos="100000">
                  <a:srgbClr val="612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7"/>
            <p:cNvSpPr/>
            <p:nvPr/>
          </p:nvSpPr>
          <p:spPr>
            <a:xfrm>
              <a:off x="2209680" y="1752480"/>
              <a:ext cx="3886200" cy="459720"/>
            </a:xfrm>
            <a:prstGeom prst="rect">
              <a:avLst/>
            </a:prstGeom>
            <a:gradFill rotWithShape="0">
              <a:gsLst>
                <a:gs pos="0">
                  <a:srgbClr val="612d0d"/>
                </a:gs>
                <a:gs pos="50000">
                  <a:srgbClr val="d2611c"/>
                </a:gs>
                <a:gs pos="100000">
                  <a:srgbClr val="612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39d"/>
                  </a:solidFill>
                  <a:latin typeface="USABlack"/>
                </a:rPr>
                <a:t>Paradigma       Enig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Text Box 8"/>
          <p:cNvSpPr/>
          <p:nvPr/>
        </p:nvSpPr>
        <p:spPr>
          <a:xfrm>
            <a:off x="5544000" y="3124080"/>
            <a:ext cx="2757960" cy="45972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39d"/>
                </a:solidFill>
                <a:latin typeface="USABlack"/>
              </a:rPr>
              <a:t>Nuevo parad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FASES DE LOS PARADIGM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precientífic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o hay hegemoní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Inmadurez de la cienci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de Ciencia Norma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Adecuación, ¿anomalías?, crisis, nuevo paradigm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revolucionari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uevo paradigma se vuelve hegemónico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ROBLEMÁT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pacio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blemas de la realidad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que un modelo decide abordar como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ampo de investig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genera un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olución prototípic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para el mism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ta debe aportar su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pias coordenadas teórico explicativa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FUNDAMENTOS EPISTEMOLÓGIC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upuesto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etacientífic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para abordar la problemáti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unidad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s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romet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con esto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upuest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en la creación del paradigm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vinculan 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cepciones epistemológicas y filosófica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diverso orde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NATURALEZA-CRIANZ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68360" y="2205000"/>
            <a:ext cx="79912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mportante debate naturaleza v/s crianz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Grado de influencia que tienen la herencia o genes frente al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, la concepción de inteligencia y el C.I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SUPUESTOS TEÓRIC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Hipótesis o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ustentos teóric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qu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art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la comunidad de especialist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on l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base conceptual y explicativ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fundamental de la matriz disciplina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Cad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odel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tiene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pio lenguaj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y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istema conceptual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RESCRIPCIONES METODOLÓGIC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junt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métodos, procedimientos, técnicas y reglas qu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acept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la comunidad de profesional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utilizan para el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trabaj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strucción o refinamiento del model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NTONCES…</a:t>
            </a:r>
            <a:br>
              <a:rPr sz="3000"/>
            </a:b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L CONDUCT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971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Psicología Conductista aparece en el siglo XX como un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disciplina empíric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par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studiar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omportamient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n términos de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adaptación a estímulos del medio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sencia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l Conductismo es que 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individuo aprende a adaptarse al ambiente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y que este aprendizaje está regido por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principios de asoci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pavlov"/>
          <p:cNvPicPr/>
          <p:nvPr/>
        </p:nvPicPr>
        <p:blipFill>
          <a:blip r:embed="rId1"/>
          <a:stretch/>
        </p:blipFill>
        <p:spPr>
          <a:xfrm>
            <a:off x="2843280" y="765000"/>
            <a:ext cx="3711600" cy="511200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3"/>
          <p:cNvSpPr/>
          <p:nvPr/>
        </p:nvSpPr>
        <p:spPr>
          <a:xfrm>
            <a:off x="2776680" y="5996160"/>
            <a:ext cx="467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68180"/>
                </a:solidFill>
                <a:latin typeface="Verdana"/>
              </a:rPr>
              <a:t>Iván Petrovitch Pavlov ( 1849-1936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515880"/>
            <a:ext cx="77929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575f6d"/>
                </a:solidFill>
                <a:latin typeface="Century Schoolbook"/>
              </a:rPr>
              <a:t>IVÁN PAVLOV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En 1904, Pavlov recibió el premio Nobel por sus trabajos sobre las bases nerviosas y ganglionares de la digest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Durante esta investigación, descubrió los </a:t>
            </a:r>
            <a:r>
              <a:rPr b="1" lang="es-ES" sz="2800" spc="-1" strike="noStrike">
                <a:solidFill>
                  <a:srgbClr val="000000"/>
                </a:solidFill>
                <a:latin typeface="Century Schoolbook"/>
              </a:rPr>
              <a:t>principios del condicionamiento basado en la asociac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Pavlov observó que los perros salivaban sin falta en anticipación de la comida, que era anunciada por la llegada de un asistente o la presentación de un plato.</a:t>
            </a:r>
            <a:r>
              <a:rPr b="0" lang="es-ES" sz="2000" spc="-1" strike="noStrike">
                <a:solidFill>
                  <a:srgbClr val="56818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49" name="Picture 3" descr="perro"/>
          <p:cNvPicPr/>
          <p:nvPr/>
        </p:nvPicPr>
        <p:blipFill>
          <a:blip r:embed="rId1"/>
          <a:stretch/>
        </p:blipFill>
        <p:spPr>
          <a:xfrm>
            <a:off x="1476360" y="2349360"/>
            <a:ext cx="6480360" cy="342288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4"/>
          <p:cNvSpPr/>
          <p:nvPr/>
        </p:nvSpPr>
        <p:spPr>
          <a:xfrm>
            <a:off x="457200" y="388800"/>
            <a:ext cx="75438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575f6d"/>
                </a:solidFill>
                <a:latin typeface="Century Schoolbook"/>
              </a:rPr>
              <a:t>La Caja de Pavl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DICIONAMIENTO CLÁS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01120" y="1341360"/>
            <a:ext cx="8642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Señaló cuatro hechos experimentales en los procesos de adquisición y extinción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Incondicionad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EI): Suceso ambiental que por sus propiedades inherentes, provoca un reflejo orgánico. (Ej.:la carne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Condicionad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EC): Suceso ambiental que es neutral (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Neutro)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con respecto a la respuesta antes de su apareamiento con le EI. (Ej.:la campan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spuesta Incondicionad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RI): Reflejo natural que el EI produce en forma automática e involuntaria.(Ej.:Salivación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spuesta Condicionad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RC): Reflejo adquirido suscitado por el EC después de asociarse con el EI. (Ej.:Salivación Condicionad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DICIONAMIENTO CLÁS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1160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Century Schoolbook"/>
              </a:rPr>
              <a:t>Principios Derivados del Paradigm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os procedimientos de Condicionamiento representan 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cuantificación y la objetivización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de 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adquisición y el olvido de asociaciones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habí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ecesidad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ingún constructo mental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, pues el sistema nervioso, y en especial el córtex, ofrecen los mecanismos para el aprendizaj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El paradigma del condicionamiento permití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investigar la actividad nervios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superior y todas las clases de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comportamient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lación temporal o contigüidad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era el principio fundamental de la adquisición de asociacione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watson"/>
          <p:cNvPicPr/>
          <p:nvPr/>
        </p:nvPicPr>
        <p:blipFill>
          <a:blip r:embed="rId1"/>
          <a:stretch/>
        </p:blipFill>
        <p:spPr>
          <a:xfrm>
            <a:off x="2987640" y="907920"/>
            <a:ext cx="3235320" cy="475308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3"/>
          <p:cNvSpPr/>
          <p:nvPr/>
        </p:nvSpPr>
        <p:spPr>
          <a:xfrm>
            <a:off x="3248280" y="587700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68180"/>
                </a:solidFill>
                <a:latin typeface="Constantia"/>
              </a:rPr>
              <a:t>John Watson ( 1878-1958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775800"/>
            <a:ext cx="7792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68360" y="1773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John Watso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( 1878-1958 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ropuso la separación radical de las teorías psicológicas al afirmar que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la psicología debía estudiar la conducta abierta y observable como su único objet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STABILIDAD- CAMBI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989000"/>
            <a:ext cx="807552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bate respecto a si los seres humanos tenemos características estables o vivimos en constante cambi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nacemos con características regulares o nuestra personalidad se conforma a través de los distintos cambios en la vida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826920" y="1628640"/>
            <a:ext cx="8128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Watson se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rebeló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contra el método d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introspección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y contra el estudio d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cienci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, considerándola un pseudoproblema, produciendo una reformulación completa de la psicología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l campo de la Psicología era el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mportamiento, medido en términos de Estímulo-Respuest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Definió la </a:t>
            </a:r>
            <a:r>
              <a:rPr b="1" lang="es-CL" sz="2700" spc="-1" strike="noStrike">
                <a:solidFill>
                  <a:srgbClr val="000000"/>
                </a:solidFill>
                <a:latin typeface="Century Schoolbook"/>
              </a:rPr>
              <a:t>Psicología </a:t>
            </a: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como una </a:t>
            </a:r>
            <a:r>
              <a:rPr b="1" lang="es-CL" sz="2700" spc="-1" strike="noStrike">
                <a:solidFill>
                  <a:srgbClr val="000000"/>
                </a:solidFill>
                <a:latin typeface="Century Schoolbook"/>
              </a:rPr>
              <a:t>rama experimental de las ciencias naturales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899640" y="1700280"/>
            <a:ext cx="8055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s posible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analizar 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duct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mediant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relación causal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entre los elementos del estímulo y la respuesta que inciden en el organismo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Para Watson los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principios de asociación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eran la clave del crecimiento psicológico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n los años 30 el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ductismo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dominaba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psicología estadounidense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Skinner11a"/>
          <p:cNvPicPr/>
          <p:nvPr/>
        </p:nvPicPr>
        <p:blipFill>
          <a:blip r:embed="rId1"/>
          <a:stretch/>
        </p:blipFill>
        <p:spPr>
          <a:xfrm>
            <a:off x="2556000" y="981000"/>
            <a:ext cx="3539880" cy="453240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3"/>
          <p:cNvSpPr/>
          <p:nvPr/>
        </p:nvSpPr>
        <p:spPr>
          <a:xfrm>
            <a:off x="2268360" y="587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onstantia"/>
              </a:rPr>
              <a:t>B. F. Ski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onstantia"/>
              </a:rPr>
              <a:t>(1904 – 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aracteríst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Teórico ambiental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Investigador experimental y apl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Describe mas que expl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reador del paradigma Operante y el análisis conductual apl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Intenta construir un sistema empírico que no precise de un marco teórico para organizar los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sicologí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Investigar leyes entre variables observables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, sacar lo oculto en lugar de espec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Acontecimientos privados tienen limitada accesibilidad a la investigació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Rechaza causas internas de la conduct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Se aparta de Watson, en cuanto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acept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el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ensamiento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y otras conductas privadas que se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reflejen verbalmente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conducta está determinada por el ambiente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Su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roceso de adquisición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, la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experienci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 es importante para determinar personalidad y disturbios en la conduc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onsidera: Conductas respondientes, mediadas por S.N.A.(reflejas) y C. Operan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HUMOR CONDICIONADO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75" name="Picture 4" descr="Explorar2"/>
          <p:cNvPicPr/>
          <p:nvPr/>
        </p:nvPicPr>
        <p:blipFill>
          <a:blip r:embed="rId1"/>
          <a:stretch/>
        </p:blipFill>
        <p:spPr>
          <a:xfrm>
            <a:off x="1116000" y="1557360"/>
            <a:ext cx="7201080" cy="482436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3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TIPOS DE CONDICIONAMIENTO OPERAN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9" name=""/>
          <p:cNvGraphicFramePr/>
          <p:nvPr/>
        </p:nvGraphicFramePr>
        <p:xfrm>
          <a:off x="324000" y="189000"/>
          <a:ext cx="8496000" cy="6591240"/>
        </p:xfrm>
        <a:graphic>
          <a:graphicData uri="http://schemas.openxmlformats.org/drawingml/2006/table">
            <a:tbl>
              <a:tblPr/>
              <a:tblGrid>
                <a:gridCol w="1487160"/>
                <a:gridCol w="2124360"/>
                <a:gridCol w="2512800"/>
                <a:gridCol w="237168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INCI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CED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FEC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JEMPL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FUERZO POSI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produce un acontecimiento agra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talece o incrementa la conducta que precede a la ocurrencia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. 1°: comida, agua, se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. 2°: dinero, alabanz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FUERZO NEGA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impide la presentación de un estímulo aver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talece la conducta que permite evitar o escapar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dic. Escape: tomar una aspirina para no tener dolor de cabeza (inmediato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dic. Evitación:  usar crema protectora para evitar quemaduras de sol (a futur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STI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produce un estímulo aversivo  (indeseab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minuye o suprime la respuesta. Los organismos dejan de realizar conductas con consecuencias aversiv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ulta, por exceso de velocida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rse suspendido, por faltar a cl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NTRENAMIENTO POR OMI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interrumpe o impide un estímulo agra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ebilita la conducta que precede a la pérdida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s padres dejan sin auto a su hijo durante el fin de s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XTIN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 una respuesta aprendida no se refuerza, gradualmente deja de realiza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minuye o desaparece la respuesta reforzada previam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 un programa de TV te aburre, con el tiempo dejarás de ver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PLIC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ualquier evento cuya presencia incrementa la probabilidad de que vuelva a ocurrir la conducta en curso se llam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uál de los siguientes no es un ejemplo de conducta operant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a rata que presiona una palanca después de recibir comida por esta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a rata que presiona una palanca para evitar una descarga por esta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 niño que estudia para obtener la aprobación del maestr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 parpadeo después de un destello de luz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DIVERSIDAD-UNIVERSAL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2060280"/>
            <a:ext cx="807552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bate respecto a la similitud o diferenciación entre las person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las personas se parecen entre sí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Qué ocurre entre los diversos grup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los chilenos somos iguales o hay diferencias entre nosotr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575f6d"/>
                </a:solidFill>
                <a:latin typeface="Century Schoolbook"/>
              </a:rPr>
              <a:t>QUE NOMBRE RECIBE CADA UNA DE LAS SIGUIENTES ACCIONE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ibir un diploma por realizar un curs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omar un paraguas para no mojarse o pagar la hipoteca para evitar un embarg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a persona realiza ventas por comis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soldado es detenido por ausentarse del cuart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padre le dice a su hijo: “si estudias te daré un premio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caballo galopa para escapar de la fusta de un jine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ACTIVIDAD EN AUL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6840" y="2204640"/>
            <a:ext cx="843588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68180"/>
                </a:solidFill>
                <a:latin typeface="Verdana"/>
              </a:rPr>
              <a:t>Formen tríos entre sus compañer@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68180"/>
                </a:solidFill>
                <a:latin typeface="Verdana"/>
              </a:rPr>
              <a:t>Elaboren un ejemplo aplicado al control conductual en la sala de clases de niños de 2ª Básico de acuerdo 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Entrenamiento de Recompensa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Entrenamiento de Omisión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Castig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Refuerzo Negativ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56818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MENTE-CUERP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6840" y="2060280"/>
            <a:ext cx="814716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ómo están conectados la mente y el cuerpo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preocupa de estudiar la relación entre lo que sentimos (ej: pensamientos, sentimientos) y los procesos biológicos a la 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2133720"/>
            <a:ext cx="82915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edro siempre ha sido una persona más bien triste, siempre ha tenido amigos parecidos a él, ahora desde que dejó de pololear con Paola su ánimo ha decaído y le ha dicho a sus amigos que se va a suicidar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Dónde radicará la causa de su conduct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844280"/>
            <a:ext cx="829152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uan es un niño de diez años,  hijo de padres divorciados, viene de un hogar con mucha violencia intrafamiliar. Cuando se enfada insulta y pega a sus compañer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uál será la posible causa de su conduct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02:59:52Z</dcterms:created>
  <dc:creator>Edita Núñez Sotelo</dc:creator>
  <dc:description/>
  <dc:language>en-US</dc:language>
  <cp:lastModifiedBy>AOgaldeS</cp:lastModifiedBy>
  <dcterms:modified xsi:type="dcterms:W3CDTF">2012-04-09T15:52:02Z</dcterms:modified>
  <cp:revision>13</cp:revision>
  <dc:subject/>
  <dc:title>Psicología</dc:title>
</cp:coreProperties>
</file>