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2F49-6480-4951-9E00-AD9EF1C8E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CF38-AE8B-4017-BDBC-3F967A68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1BE9-ACE4-4DF5-950A-993DBF3A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B58E-AE75-4D8A-9BEB-872E2E4C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2017-B327-4E6F-AE02-727727B4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685E-B2F6-4E2E-98CB-40C7839D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031A-BFF4-44F9-A74B-E27C85FF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F26E-4C1D-4516-A007-055F6A19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C1AC-F994-4E48-BC24-89EE2709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01F9-678A-4275-A370-7CFFD749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A5B7-304B-47D0-9C08-60E0D62F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F4A9-D713-48DB-9C8A-5ABD61E2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6127-EA13-4426-8806-76564C77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0156-544C-4675-AC0A-43BE8618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30E6-624E-4BB0-9B0A-5AFA2C87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B089-62C1-4658-9543-C2EAE4122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8CC2-9555-4A11-B0F4-2161A1A8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F62C1-D5D0-4C81-AAB6-6D7AA5086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81002-570B-43FA-B449-1E63C6EC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0B0BF-A6DE-41BD-B3F6-B25E9D45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9E8E5-9E8F-45D6-AB40-CC2FC279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D0C4C-CAC4-419F-B586-A9468B1C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5EBD-F7D8-4772-AC18-A036F02E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72DE1-BC7D-4AD4-8FF4-E043C8AF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9D19B-812A-4044-B089-E18AA05C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27D38-BD91-4583-AA02-6F9CF955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96557-CB84-410E-ABA0-E0274D5E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36F95-FD32-4F6C-9D03-1C2C4152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8DBC8-3B77-4AF8-8253-3DE4A0D2C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B6DED-A14C-4D0E-8CB7-112CDD3F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3E673-E4B0-47A0-9477-FC12A7915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BB7B8-6746-4259-AC3D-AA70BBD6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6FC68-FCF2-42D0-9B4D-4DB2F2B4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6E04-0829-41F3-8677-9C812311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3852D-D03F-4E6E-9D28-A0EC2AD1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28956-CA04-4514-9B3E-11EA1A90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0EDBF-EE53-40AC-A733-60CF1374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2A14D-E76A-4040-ABBE-AEE0843A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EDBEC-742F-4656-BC68-E11CC63A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5490A-91DA-41AC-B46C-0B4C70E8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BE181-BF3A-4E0D-8AD4-B629CDA1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5E5FD-C121-4492-8559-1F1795C0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52A6A-AD43-4D8D-8298-09321458B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48D7-98A7-415C-98F9-BC0BF7DD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DB4F-5913-43BF-8ADE-E3CA36B0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16D5-4077-4B8E-A76B-1445B8C4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B394-F7D4-4991-8A92-56D7951D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7AB7-2020-47A7-A4F4-3D97E6F8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7354-6F50-4223-8437-724CC88EC98B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F9C1-BBDC-46F7-87B4-3BEDED997586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2C82-C0AD-4012-BB72-080C784BBE00}" type="slidenum">
              <a:rPr b="0" lang="es-C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5418-48F1-45B5-84ED-0103B7037B82}" type="slidenum">
              <a:rPr b="0" lang="es-C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1994040" y="1206360"/>
            <a:ext cx="6186240" cy="1970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71720" y="35719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Edita Núñez Sotelo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Ps. U. de Chile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Constantia"/>
              </a:rPr>
              <a:t>Mg. Desarrollo Cognitivo UDP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ualismo mente-cuerp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teoría de Descartes dividió el campo de estudio de la conducta humana y surgieron dos tradiciones distint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studio de la mente humana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y su funcionamiento. La introspección fue su método de análi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investigación sobre los reflejo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 Cómo estos son provocados por estímulos externos que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activan los órganos sensoriale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 Su estudio fue realizado po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fisiólogo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mediante la observación y la experiment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Ideas previas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ntido Común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ercicio práctic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 su compañero/a, reflexione acerca de las ideas de sentido común relacionadas con el saber y la práctica de la 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Psicología del sentido comú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xistencia previa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, en todos nosotros, de ideas, creencias y teorías acerca de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por qué las personas hacen lo que hace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aracterística univers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os seres human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herramienta fundament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para e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ntendimiento, predicción y contro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onducta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os demá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basa en e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upuesto de igualdad…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o que es válido para mí debe serlo para todo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No obstante esto, se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ebe hui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l sentido comú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ntui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no es un criterio válido para construir ciencia psicoló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00040" y="1484280"/>
            <a:ext cx="8454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entido comú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válid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sól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para 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establecimiento de hipótesi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no para su comprob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ducta human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como objeto de estudio, debe se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ndependiente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nosotros mis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Finalmente…</a:t>
            </a:r>
            <a:br>
              <a:rPr sz="4500"/>
            </a:br>
            <a:r>
              <a:rPr b="0" lang="es-CL" sz="4500" spc="-1" strike="noStrike">
                <a:solidFill>
                  <a:srgbClr val="04617b"/>
                </a:solidFill>
                <a:latin typeface="Calibri"/>
              </a:rPr>
              <a:t>¿Qué estudia la Psicología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sicología es una ciencia que estudia el comportamiento de los seres vivos y los procesos mentales por los que los sujetos conocen y se orientan en su entorno y aprenden de la experi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una cienci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erimen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tilización método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hipotético-deduc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Observación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rigurosa y sistemática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 los fenómenos psicológic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arte de los hechos y busca sus regularidades mediante l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verificación empír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una ciencia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cléc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coge datos aportados po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otras disciplinas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(biología, sociología, antropologí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see un carácter </a:t>
            </a: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multidisciplinar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ya q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stá interesada en el comportamiento (psic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De un organismo (bi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Que aprende a adaptarse al medio ambiente (ecología) cambiant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Mediante la relación con otros seres (sociología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Sin olvidar la cultura en la cual se desarroll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sicología opera c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stintos niveles de análi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odas las disciplinas pertenecientes a esta ciencia trabajan en alguno de dichos nive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sicólogo social se ocupa mas del estudio de  los grup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sicólogo clínico se centrará en el diagnóstico y tratamiento de individuos con problemas emocionales o de conduc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versas concepciones acerca de la psicologí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penden de las distintas ideas sobre la naturaleza del ser humano (filosofía) y de las formas del conocimiento (epistemologí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present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verse con su compañero/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porqué eligió estudiar bachillerat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é experiencia cercana ha tenido con la labor de los psicólogo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eflexione brevemente respecto de cómo se vivió el último terremoto que afectó a nuestro paí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ómo ha sido la conducta de las persona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e emociones nos han invadid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cree usted que en estas circunstancias son necesario los psicólogo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1935000"/>
          <a:ext cx="8229600" cy="4043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iveles de análi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lternat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pe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umana, otras e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l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tina, gitana, anglosajon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ru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amilia, pandilla, grupo, equ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í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reja, díada madre-hijo, profesor-alumno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dividu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dultos, niños, discapacitados, estudiantes universitario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ceso psico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rsonalidad, atención memoria, motivación, inteligenci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mponente psicoló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nducta manifiesta, bases fisiológica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82600" y="17730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isciplina académic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bus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Describi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la tarea básica de la psicología es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ecoger datos y recabar información detalla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sobre los procesos cognitivos y los comportamien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j: si un sujeto padece insomnio hay que investigar que estímulos influyen, en que situaciones se produce, o que problema le impide conciliar el sueñ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lica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la psicología no se conforma con describir los hechos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rata de averiguar las causas de determinada conduc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ara ell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mula hipótesis o explicaciones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asadas en una teor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iempre s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visionales y sujetas a revisi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a medida que se tiene mayor conocimiento de la conducta que se investig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edeci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es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pacidad para pronosticar un comportamien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relación causa-efecto dentro del ambiente nos asegura con bastante fiabilidad que unos hechos preceden a otr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Podemos saber si alguien mantendrá una conversación con nosotros por su forma de mirarno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prender  a predecir acontecimientos es necesario para adaptarnos a nuestro entor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Objetivo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42960" y="157140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trola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signific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terar las condiciones que influyen en el comportamiento de manera predeci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j: si una profesora sugiere cambios en clase para ayudar a adolescentes en su aprendizaje, ha ejercido un contr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obstante esto, algunas actividades humanas no son normales porque ocurren en situaciones inapropiad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ritar se aprueba socialmente si uno se encuentra viendo un partido de fútbol, pero se prohíbe en una catedra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preguntas que se hacen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fisiológic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por ejemplo a nivel de anatomía, fisiología, etc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fenomenológic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relacionadas con la experiencia subjetiva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Nivel conductual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hace referencia 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aracterísticas del comportamiento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que pueden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ser observada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modo objetivo. Aplicación del método científic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En este último nivel trabaja la psicología científ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nálisis de la conducta con el objetivo de entender la organización interna del siste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stablecimiento de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relaciones funcionale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entre situaciones (estímulos) y conducta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una relación funcional es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descripción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de la conducta o los cambios conductuales que suceden en una determinada situación ambient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a relación funcional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describe pero no explic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Tipos de respuestas en psicologí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escubrimiento de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structura y procesos internos del sistem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busca un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explicación de las razones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por las cuales el sistema se comporta como lo hace en una situación dad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Aproximación  a la </a:t>
            </a: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“caja negra”…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visualización del cerebro en acció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7932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caja negra en el estudio de los procesos psicológicos superiores…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4360" y="1557360"/>
            <a:ext cx="8270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nstantia"/>
              </a:rPr>
              <a:t>Cuerpo de conocimiento de cómo está estructurado nuestro sistema cognitivo y como realizan sus funcion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ensación y Percep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tención y conci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moción, sentimientos y estados de ánim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emor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teli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prendizaj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de siempre ha existido interés por comprender nuestra conducta y la de nuestros semejan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épocas pasadas la vida humana era más simpl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actualidad, nuestra sociedad es má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mplej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mas postmoderna, requerimos más información para poder funcion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93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4360" y="1268280"/>
            <a:ext cx="827064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aplicación del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método científico valid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l objeto de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troversia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respecto a l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fenomenológ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 investig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cuantita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cualita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7164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étodo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otético-deductiv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ienza con un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ide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, presentimiento, intuición o suposición acerca de algo, lo que se constituye como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ót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 realiza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rediccion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(preguntas) sobre las conductas observ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18728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eneralización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resul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ayoritariamente, el objetivo de los estudios psicológicos es la comprobación de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ipótesis general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que so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plicabl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 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población en general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y no solo a los sujetos participantes en el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El método científic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182600" y="1052280"/>
            <a:ext cx="77724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Factor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a considerar para poder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generalizar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los result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Tamaño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la muestr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Muestra amplia y datos promediad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lección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leatori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 los sujetos de la muest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eplicabilidad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del estudio por otros investigadores en otras ciudades o paí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istingue entre ciencia básica y ciencia aplica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básic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edica a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estigaci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os procesos psicológicos mediante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étodo científ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aplicada utiliz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ocimient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los diferentes ambientes donde los individuos actú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gener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estigar la naturaleza y funcionamient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os “procesos psicológicos básicos” como la percepción, la memoria o el pensa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xperiment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a los procesos psicológicos mediant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seños experimentales de laboratori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Es el área de la psicología más rigurosa y científica y utiliza tanto animales como seres humanos en sus investig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biologí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obiólogos estudian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bases biológicas del comportamien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no sólo el sistema nervioso y endocrino, sino también las influencias de la genética o la farmacología en la conduc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porqué unas lesiones del cerebro producen pérdida de memoria y otras causan trastornos del lenguaje?...¿qué áreas cerebrales son importantes en las emociones humana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volu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Ésta se preocupa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mbi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duct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que se producen durante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esarrollo del ciclo vi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uáles son las etapas del desarrollo de la inteligenci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hay una decadencia de la memoria en la vejez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social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 campo de estudio es muy amplio y abarca problemas diversos, como el análisis de la publicidad o las influencias de un grupo sobre el individu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ómo influye la sociedad en el comportamiento de los individuo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 la personal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de la personalidad investigan qu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aracterísticas definen a una person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como interactúan las fuerzas genéticas y ambientales en la personalidad del individuo y porqué este se comporta de una forma y no de ot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se nace con determinada personal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timologí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palabra Psicología proviene de dos términos grieg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syché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logos</a:t>
            </a:r>
            <a:r>
              <a:rPr b="0" i="1" lang="es-CL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significan alma (entendida como lo que “anima” o “da vida” al cuerpo),  y conocimiento o ciencia de la mis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s raíces se encuentran el la filosofía, la fisiología y la metodología científ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l aprendizaje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del aprendizaje, mediante la investigación animal y humana, han demostrado algun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cesos que influyen en el aprendizaje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las diferencias entre las diversas especies respecto a su capacidad para aprender conductas concreta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iferenc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 disciplina investiga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ferencias individuales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presentan los individuos, por ejemplo niños retrasados o superdotad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mparándolo con la media de su grup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refer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 principal herramienta es la utilización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est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psicológicos par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studiar distintas capacidades huma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cultu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culturales investigan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ma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qu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ultura afecta al pensamiento y al comportamiento huma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lenguaje que hablamos, la educación que recibimos, las leyes que obedecemos y otros muchos comportamientos dependen de la cultura en la que hemos creí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del gé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udia la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iferencias entre hombres y mujer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la forma en que se desarrolla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factores biológicos, la crianza, la educación, los estereotipos influyen en la diferencia de gé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bás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iber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ternet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s un marco de referencia para diseñar estudios experimentales, crear aulas virtuales en las que desarrollar nuevos enfoques docentes o crear nuevos procedimientos de investigació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uncionalidad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 los procesos psicológicos en los contextos donde los individuos actú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tiende a la dimensión normal, individual o colectiva y también a la conducta patoló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educa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educativos analizan la realidad educativa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alizan e interpretan pruebas psicológicas para ayudar a los estudiantes en sus decis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rientan a padres y profesores para lograr mejor rendimiento de los años escola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: ¿Cómo pueden los niños mejorar su aprendizaje y su creativida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clínic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sicólogos clínicos diagnostican y tratan problemas emocionales y de conducta, desde los más débiles, como falta de autoestima o timidez, hasta los más problemáticos como la separación de parejas, el estrés o la depres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yudan al ser humano a enfrentarse a su propio sufri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amas de la psicología aplica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sicología industrial y de las organiz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ocupa de la selección y entrenamiento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trabajador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ejorar las relaciones humana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n el ámbito labo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Taller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su devenir histórico la psicología ha tenido varios objetos de estu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l al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La men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La conduc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limitar su campo de investigación y crear métodos y técnicas propias permitieron su independ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Grecia antigua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latón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defendía un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oncepción dualist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la naturaleza huma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hombre estaba compuesto de alma y cuer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ra d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origen divin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una realidad distinta el cuerpo material, y a consecuencia de una culpa cometida llegó desde el otro mundo a encarnarse en un cuerpo mor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ás tarde,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ristótel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concibió la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syché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como un elemento o principi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biológic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l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ra así un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piedad esencial del ser viv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y no era independiente del cuer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uera de este el alma carecía de sentido y exist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s dos ideas de “alma” integradas en un horizonte filosófico son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icios de la psicologí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siglo XVII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produce un cambio de perspectiva con el comienzo de la filosofía moderna atribuida al filósofo y matemátic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ené Descar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ntes de sus ideas, cualquier función vital de los organismos se explicaba por la existencia del al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adie pensaba qu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ctos humanos pudieran deberse a la influencia de estímulos ambient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ntecedentes histór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Descart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formuló un visión de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c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Voluntarios e involuntar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gunos actos como lo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eflej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son reacciones automáticas e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nvoluntarias a estímulos extern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tras acciones so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voluntarias, gobernadas por la mente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(entidad no física) y debidas a que la persona elige comportarse as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1:55:38Z</dcterms:created>
  <dc:creator>Edita Núñez Sotelo</dc:creator>
  <dc:description/>
  <dc:language>en-US</dc:language>
  <cp:lastModifiedBy>Edita Núñez Sotelo</cp:lastModifiedBy>
  <dcterms:modified xsi:type="dcterms:W3CDTF">2012-03-12T03:23:43Z</dcterms:modified>
  <cp:revision>13</cp:revision>
  <dc:subject/>
  <dc:title>PSICOLOGÍA</dc:title>
</cp:coreProperties>
</file>