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CLIC.WAV" ContentType="audio/x-wav"/>
  <Override PartName="/ppt/media/image4.jpeg" ContentType="image/jpeg"/>
  <Override PartName="/ppt/media/image6.png" ContentType="image/pn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  <p:sldId id="286" r:id="rId41"/>
    <p:sldId id="287" r:id="rId42"/>
    <p:sldId id="288" r:id="rId43"/>
    <p:sldId id="289" r:id="rId44"/>
    <p:sldId id="290" r:id="rId45"/>
    <p:sldId id="291" r:id="rId46"/>
    <p:sldId id="292" r:id="rId47"/>
    <p:sldId id="293" r:id="rId48"/>
    <p:sldId id="294" r:id="rId49"/>
    <p:sldId id="295" r:id="rId50"/>
    <p:sldId id="296" r:id="rId51"/>
    <p:sldId id="297" r:id="rId52"/>
    <p:sldId id="298" r:id="rId53"/>
    <p:sldId id="299" r:id="rId54"/>
    <p:sldId id="300" r:id="rId55"/>
    <p:sldId id="301" r:id="rId56"/>
    <p:sldId id="302" r:id="rId57"/>
    <p:sldId id="303" r:id="rId58"/>
    <p:sldId id="304" r:id="rId59"/>
    <p:sldId id="305" r:id="rId60"/>
    <p:sldId id="306" r:id="rId61"/>
    <p:sldId id="307" r:id="rId62"/>
    <p:sldId id="308" r:id="rId63"/>
    <p:sldId id="309" r:id="rId64"/>
    <p:sldId id="310" r:id="rId65"/>
    <p:sldId id="311" r:id="rId66"/>
    <p:sldId id="312" r:id="rId67"/>
    <p:sldId id="313" r:id="rId68"/>
    <p:sldId id="314" r:id="rId69"/>
    <p:sldId id="315" r:id="rId70"/>
    <p:sldId id="316" r:id="rId7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slide" Target="slides/slide31.xml"/><Relationship Id="rId42" Type="http://schemas.openxmlformats.org/officeDocument/2006/relationships/slide" Target="slides/slide32.xml"/><Relationship Id="rId43" Type="http://schemas.openxmlformats.org/officeDocument/2006/relationships/slide" Target="slides/slide33.xml"/><Relationship Id="rId44" Type="http://schemas.openxmlformats.org/officeDocument/2006/relationships/slide" Target="slides/slide34.xml"/><Relationship Id="rId45" Type="http://schemas.openxmlformats.org/officeDocument/2006/relationships/slide" Target="slides/slide35.xml"/><Relationship Id="rId46" Type="http://schemas.openxmlformats.org/officeDocument/2006/relationships/slide" Target="slides/slide36.xml"/><Relationship Id="rId47" Type="http://schemas.openxmlformats.org/officeDocument/2006/relationships/slide" Target="slides/slide37.xml"/><Relationship Id="rId48" Type="http://schemas.openxmlformats.org/officeDocument/2006/relationships/slide" Target="slides/slide38.xml"/><Relationship Id="rId49" Type="http://schemas.openxmlformats.org/officeDocument/2006/relationships/slide" Target="slides/slide39.xml"/><Relationship Id="rId50" Type="http://schemas.openxmlformats.org/officeDocument/2006/relationships/slide" Target="slides/slide40.xml"/><Relationship Id="rId51" Type="http://schemas.openxmlformats.org/officeDocument/2006/relationships/slide" Target="slides/slide41.xml"/><Relationship Id="rId52" Type="http://schemas.openxmlformats.org/officeDocument/2006/relationships/slide" Target="slides/slide42.xml"/><Relationship Id="rId53" Type="http://schemas.openxmlformats.org/officeDocument/2006/relationships/slide" Target="slides/slide43.xml"/><Relationship Id="rId54" Type="http://schemas.openxmlformats.org/officeDocument/2006/relationships/slide" Target="slides/slide44.xml"/><Relationship Id="rId55" Type="http://schemas.openxmlformats.org/officeDocument/2006/relationships/slide" Target="slides/slide45.xml"/><Relationship Id="rId56" Type="http://schemas.openxmlformats.org/officeDocument/2006/relationships/slide" Target="slides/slide46.xml"/><Relationship Id="rId57" Type="http://schemas.openxmlformats.org/officeDocument/2006/relationships/slide" Target="slides/slide47.xml"/><Relationship Id="rId58" Type="http://schemas.openxmlformats.org/officeDocument/2006/relationships/slide" Target="slides/slide48.xml"/><Relationship Id="rId59" Type="http://schemas.openxmlformats.org/officeDocument/2006/relationships/slide" Target="slides/slide49.xml"/><Relationship Id="rId60" Type="http://schemas.openxmlformats.org/officeDocument/2006/relationships/slide" Target="slides/slide50.xml"/><Relationship Id="rId61" Type="http://schemas.openxmlformats.org/officeDocument/2006/relationships/slide" Target="slides/slide51.xml"/><Relationship Id="rId62" Type="http://schemas.openxmlformats.org/officeDocument/2006/relationships/slide" Target="slides/slide52.xml"/><Relationship Id="rId63" Type="http://schemas.openxmlformats.org/officeDocument/2006/relationships/slide" Target="slides/slide53.xml"/><Relationship Id="rId64" Type="http://schemas.openxmlformats.org/officeDocument/2006/relationships/slide" Target="slides/slide54.xml"/><Relationship Id="rId65" Type="http://schemas.openxmlformats.org/officeDocument/2006/relationships/slide" Target="slides/slide55.xml"/><Relationship Id="rId66" Type="http://schemas.openxmlformats.org/officeDocument/2006/relationships/slide" Target="slides/slide56.xml"/><Relationship Id="rId67" Type="http://schemas.openxmlformats.org/officeDocument/2006/relationships/slide" Target="slides/slide57.xml"/><Relationship Id="rId68" Type="http://schemas.openxmlformats.org/officeDocument/2006/relationships/slide" Target="slides/slide58.xml"/><Relationship Id="rId69" Type="http://schemas.openxmlformats.org/officeDocument/2006/relationships/slide" Target="slides/slide59.xml"/><Relationship Id="rId70" Type="http://schemas.openxmlformats.org/officeDocument/2006/relationships/slide" Target="slides/slide60.xml"/><Relationship Id="rId71" Type="http://schemas.openxmlformats.org/officeDocument/2006/relationships/slide" Target="slides/slide61.xml"/><Relationship Id="rId7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72A8E-F9E5-400A-BEFD-308079D77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621B9-F066-42A2-8D60-8506DDAF5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61DAC2-F1A0-45D4-B433-D76F56537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781B53-3979-4171-A360-B59435B5A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A6E1AF-9775-4A2E-B7D5-F63634D68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C083E6-4AB5-4173-94FB-9BBC26F47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143F01-E0C3-4184-A443-32F2C9A3F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B0F32D-8866-44AD-B7AE-5E07C1010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DBDA8E-BA3C-4812-8799-9E71E8B69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D7DCF3-8FD9-4D67-A738-2305BE4BE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F74D0A-3510-4B0F-946C-953AF8D40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8BB8B-9B65-405A-B39D-138A447D0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9DD0F-B7C0-4CF6-80A0-AE1245E50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C91A2-532A-4206-84A4-A845DD24C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BE031-47E9-41C2-8B7C-A1B968B33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0100F-1683-43E6-A9D0-3458FB8DB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44E2D-C3E0-486D-B5FB-E13F009E7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533EE-1C7B-4C71-BAB9-FBDDA2973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97F41-D2D8-424E-9F0E-645122303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5743C-CF08-436D-8EF6-39A6213E6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4F362-FADB-4CD4-84C5-E2BDF747E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712F7-EF61-4AC4-BFA0-35BBDE0E8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E87A8-A0A9-43A2-899D-DA15FB371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2B827-6AEC-4F5C-90F7-73F4C7C7A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9194B-7325-4B6A-8106-F380D30B3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2B906-75C7-478B-B94D-75F76A829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359A803-927D-460E-95F9-1286AA840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99F8C20-F129-41DF-807F-367F7DEEE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546BD45-F49A-401F-9D44-DA2E800C6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A998EB-03A7-4183-8D35-86CA4E83C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E307472-278B-4219-B780-EADDA19A9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12A35-8217-4B02-A6E4-84CC950B7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2ECE7AD-DBBF-46CD-A6DF-C74E89E50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4B7A08A-C3B0-49D5-9E6B-74D77F45E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9E12E65-AA3D-44CB-ADB1-1037A5AFB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53299E3-EBD1-4425-AFCF-1C22A13CD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3BD8FB-83DE-4128-8B66-CF36A055E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F8A5446-FEC1-43BE-BF8B-9CB8B8571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F9D7117-B9E9-4A46-95C8-83D9C9917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3676CA-0C88-4264-A92C-690286756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DC9602-2AC0-45E3-8138-2A32DE2B7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6302F4-9C2F-4047-A503-E64C03384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2E279-973E-4775-89A7-106B73967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D2A9B7-7EBE-4659-B656-8FEE0E1C4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3F1076-2A9D-4D24-848E-932FE357A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17A5AB-356C-4F7B-BD70-2B77C8EB3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2BF549-A2D7-43F7-B165-3AE1903F9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168BA3-2A43-4108-9A8E-2C8CCC92F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003F18-B06C-4B14-860F-98BA24978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210B9C-9BCD-4F32-AA8C-4D90973CB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D08F13-D713-4C15-8EEC-139856970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739B42-ADEC-4B3A-BD9C-B64147B91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FA3630B-35A8-4E95-8722-6D3D9F7CE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92FA3-9F87-4828-AD7F-BCFFB61E4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F942B31-FF3F-4D50-B3EF-82A77AE85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4F09D44-F3B5-4B06-8BEE-1F0B3B069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5A9FED4-983A-4300-8EA8-66CA91C3E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FB4D48F-8525-48A4-9F31-598F75775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3651F7E-8944-4D2E-B83B-08917A0CF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91D7BB5-7C9B-4D1C-A3E9-5798A8F9C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A6474AD-21B0-4F63-8FE1-85C404066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281A740-9347-450C-A7F9-785CC9D5D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9FFC8D7-842E-4F8B-947E-B09C8A5F5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5A17937-7588-47F4-8137-9A00D9756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F6143-AE44-4A2E-9F6D-7D1BB648B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DE715E9-F852-43DA-9972-A1075DD9C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88B6EAD-BA9F-4EE0-9F00-9FB1A6814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7FC033E-010F-4B25-BC86-7E580F483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A4527E0-F0DD-4D71-BA15-1CF07C871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EF09CA3-F6FF-4E90-8126-A6ADDEBF2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1D21F21-16DB-4CD9-B8DC-B5A34CB08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D464ECB-4EC0-4DF1-9464-F9E0DEDE7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B0374DB-3F0D-4B42-8036-E121900A9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AA89647-15A6-442E-B12A-C3A95A798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E6C8694-5729-4600-B41C-9E1B396BB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4A027-2655-4920-9ACE-624C4AB1A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FFACE69-6CC0-46B8-BAB7-43683F83A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095F8B7-3E8B-4963-BFBA-E5455B90F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5F727F9-FB30-4329-84A1-EA9F50A19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3714F64-3530-4D87-8C29-F0A920C62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3A0E511-8A4F-40B4-A492-9176B66EA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13B8765-3E5D-4DAB-8F1D-681143827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3E8927E-B9AD-4B1A-ACDF-0367944F5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D2E035E-4A45-49F3-BB5F-DC3423984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1DEBC83-B640-4719-97C5-DDE7056E6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E4B629C-7126-4CBB-A017-36FB6C2AB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A9947-FC2E-4B66-A7CE-7B1B9539E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33649B5-65E3-4511-A321-71C39C2FF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86B0534-C5CA-494F-A483-0BE935E0B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A2B4134-949B-42F4-9B64-B81F06B63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8D788B4-D623-451B-A2CD-6BDFAB891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4E1078B-B6D2-45B7-B800-3C6B38883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BC538C-BDAE-4EA6-880E-5A56A4DA4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774F17-59DC-40D6-AF13-EDD887C59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6066EC-E210-4D7A-857F-6DE50F85E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9E82ED-132B-4830-9385-FC9932CC1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9A413E-4CA6-4FE7-896E-C571BD2E2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88E14-24E8-4768-AB56-4A531967E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7E8A50-FFF3-40DF-BC7B-0EE55A469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14948C-FCAD-421B-B699-3BFC46DDE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F20C65-D376-4988-9299-5E43CE75C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1E943E-0F13-4D30-90FB-57DFA14FE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5DFC69-F5E3-4B3D-8569-025713668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F4A498-609E-4141-B932-FBB9CD64E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A2CBCD-41A5-4D36-B6A4-D68DBA584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9FE9CF-4788-445E-9C91-65D5B326C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0FFC36-8400-4E84-8778-662588038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C9AC01-A089-47F7-9DD0-4AF26E9E8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15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6 Conector recto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1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11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063D4-26F0-4DD3-95E8-3CAEC5071495}" type="slidenum"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12 Rectángulo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14 Rectángulo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16 Rectángulo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17 Rectángulo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18 Conector recto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19 Conector recto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20 Conector recto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23 Conector recto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24 Conector recto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25 Conector recto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26 Rectángulo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27 Elipse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28 Elipse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29 Elipse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30 Elipse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31 Elipse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BB7B0-EC64-4CEF-9C53-D9D1E2C28B2E}" type="slidenum"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15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6 Conector recto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1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11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3DCEA-790A-457E-BE5B-08DE2DFA848A}" type="slidenum"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12 Rectángulo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14 Rectángulo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16 Rectángulo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17 Rectángulo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18 Conector recto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19 Conector recto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20 Conector recto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23 Conector recto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24 Conector recto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25 Rectángulo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26 Elipse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27 Elipse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28 Elipse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29 Elipse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30 Elipse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31 Conector recto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F0C4E-A532-4605-9AB3-4FD3D38B4522}" type="slidenum"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15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6 Conector recto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1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11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2A2B6-A64B-4BB4-BD77-528ED83ED9B2}" type="slidenum"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12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14 Conector recto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16 Conector recto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17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18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19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20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7C028-EE06-40D7-8EB1-180460D87675}" type="slidenum"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12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14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16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17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18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19 Conector recto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20 Conector recto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6AD94-D7D6-4FFB-9A28-4827FAB7CC25}" type="slidenum"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15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6 Conector recto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1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11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 type="dt" idx="22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 type="ftr" idx="23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 type="sldNum" idx="24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15513-D494-479B-894F-24A20B2F810C}" type="slidenum">
              <a:rPr b="1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15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6 Conector recto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1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11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 type="dt" idx="25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 type="ftr" idx="26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 type="sldNum" idx="27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9F544-B7E2-4B2C-B0B5-676E35E372A4}" type="slidenum">
              <a:rPr b="1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audio" Target="../media/CLIC.WAV"/><Relationship Id="rId2" Type="http://schemas.openxmlformats.org/officeDocument/2006/relationships/audio" Target="../media/CLIC.WAV"/><Relationship Id="rId3" Type="http://schemas.openxmlformats.org/officeDocument/2006/relationships/audio" Target="../media/CLIC.WAV"/><Relationship Id="rId4" Type="http://schemas.openxmlformats.org/officeDocument/2006/relationships/audio" Target="../media/CLIC.WAV"/><Relationship Id="rId5" Type="http://schemas.openxmlformats.org/officeDocument/2006/relationships/audio" Target="../media/CLIC.WAV"/><Relationship Id="rId6" Type="http://schemas.openxmlformats.org/officeDocument/2006/relationships/audio" Target="../media/CLIC.WAV"/><Relationship Id="rId7" Type="http://schemas.openxmlformats.org/officeDocument/2006/relationships/audio" Target="../media/CLIC.WAV"/><Relationship Id="rId8" Type="http://schemas.openxmlformats.org/officeDocument/2006/relationships/audio" Target="../media/CLIC.WAV"/><Relationship Id="rId9" Type="http://schemas.openxmlformats.org/officeDocument/2006/relationships/audio" Target="../media/CLIC.WAV"/><Relationship Id="rId10" Type="http://schemas.openxmlformats.org/officeDocument/2006/relationships/slideLayout" Target="../slideLayouts/slideLayout8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97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999800" y="135684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000" spc="-1" strike="noStrike">
                <a:solidFill>
                  <a:srgbClr val="575f6d"/>
                </a:solidFill>
                <a:latin typeface="Century Schoolbook"/>
              </a:rPr>
              <a:t>PSICOLOGÍ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subTitle"/>
          </p:nvPr>
        </p:nvSpPr>
        <p:spPr>
          <a:xfrm>
            <a:off x="2071440" y="385776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MX" sz="18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REFLEXIONA SOBRE LAS SIGUIENTES SITUACIONE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456840" y="2133720"/>
            <a:ext cx="7859880" cy="43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Una pareja son los padres de un par de mellizos, de un año de edad. Ellos comentan que al nacer eran muy parecidos en su carácter, no obstante a medida que han ido creciendo están mostrando diferencias en su forma de ser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¿Dónde radicará la causa de sus diferencias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REFLEXIONA SOBRE LAS SIGUIENTES SITUACIONE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457200" y="1916280"/>
            <a:ext cx="8291520" cy="45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32c16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En un colegio de enseñanza básica, los profesores han discutido entre ellos y no han logrado ponerse de acuerdo respecto de que hacer con un grupo de niños que no logra avanzar en su aprendizaje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b32c16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Algunos profesores quieren derivarlos a una escuela especial, mientras que otros piensan que estos niños tienen una inteligencia normal y deben seguir en la escuela, apoyados mas de cerca por todos los docent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b32c16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b32c16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¿porqué estos niños no aprenden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EL DESARROLLO DE LA PSICOLOGÍ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68" name=""/>
          <p:cNvSpPr txBox="1"/>
          <p:nvPr/>
        </p:nvSpPr>
        <p:spPr>
          <a:xfrm>
            <a:off x="456840" y="1989000"/>
            <a:ext cx="8002440" cy="448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La psicología, tiene un largo pasado pero una historia brev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La nueva psicología, una ciencia de la ment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La historia de la psicología se divide en tres periodo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El surgimiento de la ciencia de la mente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Las décadas conductista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La revolución cognoscitiva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755280" y="112500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575f6d"/>
                </a:solidFill>
                <a:latin typeface="Century Schoolbook"/>
              </a:rPr>
              <a:t>WILHELM WUNDT Y EDWARD B.TITCHENER</a:t>
            </a:r>
            <a:br>
              <a:rPr sz="2700"/>
            </a:br>
            <a:r>
              <a:rPr b="0" lang="es-ES" sz="2700" spc="-1" strike="noStrike">
                <a:solidFill>
                  <a:srgbClr val="575f6d"/>
                </a:solidFill>
                <a:latin typeface="Century Schoolbook"/>
              </a:rPr>
              <a:t>VOLUNTARISMO Y ESTRUCTURALISMO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285480" y="2000160"/>
            <a:ext cx="8597880" cy="451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La psicología nace en 1879, con la fundación del primer laboratorio de psicología en la universidad de Leipzig en Alemania (Wundt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A nivel académico, un laboratorio daba el estatus de ciencia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Wundt quiere explicar la experiencia inmediata y como poder estudiarla científicamente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También creía que algunos procesos mentales no podían estudiarse mediante experimentos científico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575f6d"/>
                </a:solidFill>
                <a:latin typeface="Century Schoolbook"/>
              </a:rPr>
              <a:t>WILHELM WUND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456840" y="2924280"/>
            <a:ext cx="8002440" cy="35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Otorga un papel central al proceso de la atención selectiva, el proceso por el cual determinamos a que vamos a atender en un momento dad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Para Wundt, la atención es controlada activamente por las intenciones y los motivo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Esto dio lugar al uso del término del </a:t>
            </a:r>
            <a:r>
              <a:rPr b="1" lang="es-CL" sz="2400" spc="-1" strike="noStrike">
                <a:solidFill>
                  <a:srgbClr val="000000"/>
                </a:solidFill>
                <a:latin typeface="Century Schoolbook"/>
              </a:rPr>
              <a:t>voluntarismo</a:t>
            </a: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 para describir su visión de la psicologí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73" name="Picture 15" descr="wundt"/>
          <p:cNvPicPr/>
          <p:nvPr/>
        </p:nvPicPr>
        <p:blipFill>
          <a:blip r:embed="rId1"/>
          <a:stretch/>
        </p:blipFill>
        <p:spPr>
          <a:xfrm>
            <a:off x="5796000" y="808200"/>
            <a:ext cx="1584360" cy="20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7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Esto es lo que separa la atención humana de la atención de otros organismo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A su vez, la atención controla otros procesos psicológicos com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las percepcione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Los pensamiento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Los recuerdo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Con el uso de la medición y la experimentación, Wundt sacó a la psicología del campo de la filosofía para ubicarla en el mundo de la cienci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Método usado, el uso controlado de la instrospección u autoobservación de los </a:t>
            </a:r>
            <a:r>
              <a:rPr b="1" lang="es-ES" sz="2400" spc="-1" strike="noStrike">
                <a:solidFill>
                  <a:srgbClr val="000000"/>
                </a:solidFill>
                <a:latin typeface="Century Schoolbook"/>
              </a:rPr>
              <a:t>contenidos mentales conscient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Método de la </a:t>
            </a:r>
            <a:r>
              <a:rPr b="1" lang="es-ES" sz="2400" spc="-1" strike="noStrike">
                <a:solidFill>
                  <a:srgbClr val="000000"/>
                </a:solidFill>
                <a:latin typeface="Century Schoolbook"/>
              </a:rPr>
              <a:t>instrospección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Informe verbal de personas entrenadas que sometían a </a:t>
            </a:r>
            <a:r>
              <a:rPr b="1" lang="es-ES" sz="2400" spc="-1" strike="noStrike">
                <a:solidFill>
                  <a:srgbClr val="000000"/>
                </a:solidFill>
                <a:latin typeface="Century Schoolbook"/>
              </a:rPr>
              <a:t>observación cuidadosa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 su </a:t>
            </a:r>
            <a:r>
              <a:rPr b="1" lang="es-ES" sz="2400" spc="-1" strike="noStrike">
                <a:solidFill>
                  <a:srgbClr val="000000"/>
                </a:solidFill>
                <a:latin typeface="Century Schoolbook"/>
              </a:rPr>
              <a:t>experiencia subjetiva concient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A PARTIR DE LEIPZIG…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7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G. Stanley Hall. Primer laboratorio estadounidense de psicología, 1883. U. de Johns Hopkin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J. M. Cattell, U. de Pennsylvania, 1888. primer estadounidense que fue llamado “profesor de psicología”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Titchener, U. de Cornell (Inglaterra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TITCHENER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8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Muy influido por los recientes avances en química y físic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De manera similar, los psicólogos deberían analizar las experiencias complejas en términos de sus elementos básico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Titchener quiere buscar los “átomos del pensamiento”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32400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TITCHENER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Ej: cuando las personas ven un plátano de inmediato piensan…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“</a:t>
            </a: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aquí tenemos una fruta, algo para comer…”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Esta percepción se basa en asociaciones con la experiencia previ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Titchener buscaba los elementos  más fundamentales o “átomos” del pensamient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TEMAS DE INTERÉS PARA LA PSICOLOGÍ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Converse con su compañero/a … ¿Cuáles son los temas que investiga la psicología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Puntos centrales de interés psicológic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TITCHENER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Descompuso la conciencia en tres elementos básico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Sensaciones físicas (lo que vemos)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Sentimientos (si los plátanos nos gustan o nos desagradan)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Imágenes (recuerdo de otros plátanos)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Afirmaba que incluso los pensamientos y los sentimientos más complejos podían reducirse a esos elementos simpl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EL ESTRUCTURALISMO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8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Titchener consideraba que el papel de la psicología era identificar esos elementos y demostrar como podían combinarse e integrars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Este es el enfoque llamado ESTRUCTURALISM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Estructuralismo: escuela de psicología que enfatizaba las unidades básicas de la experiencia y las combinaciones en las que ocurre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ESCUELA ESTRUCTURALIST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Tuvo una corta vida y poco efecto a largo plaz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No obstante lo anterior, el estudio de la percepción y la sensación son parte importante de la psicología contemporáne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WILLIAM JAMES: </a:t>
            </a:r>
            <a:br>
              <a:rPr sz="3000"/>
            </a:b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EL FUNCIONALISMO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457200" y="1600200"/>
            <a:ext cx="83296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James, primer crítico del estructuralism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Él afirmaba que los “átomos de la experiencia” (sensaciones puras sin asociaciones) de Titchener, no existían en la vida rea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Nuestra mente siempre entreteje asociacion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Revisa las experiencia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Se activa, se detiene, avanza en el tiemp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James afirmaba que las percepciones, emociones e imágenes no pueden separarse; la conciencia fluye en una corriente contínu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92" name="Picture 18" descr="james"/>
          <p:cNvPicPr/>
          <p:nvPr/>
        </p:nvPicPr>
        <p:blipFill>
          <a:blip r:embed="rId1"/>
          <a:stretch/>
        </p:blipFill>
        <p:spPr>
          <a:xfrm>
            <a:off x="7093080" y="108000"/>
            <a:ext cx="1439640" cy="20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WILLIAM JAMES: EL FUNCIONALISMO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Recibe una gran influencia de la teoría de la evolución de Charles Darwi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De acuerdo con Darwin, tanto la anatomía como la conducta son resultado de la selección natura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James afirma que la conciencia evolucionó porque cumple una función adaptativ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Ej: si no pudiéramos reconocer un plátano, tendríamos que averiguar que es cada vez que viéramos un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WILLIAM JAMES: EL FUNCIONALISMO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468000" y="2492280"/>
            <a:ext cx="8351640" cy="30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Las asociaciones mentales nos permiten beneficiarnos de la experiencia previ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James sugirió que cuando repetimos algo, nuestro sistema nervioso cambia de modo que cada repetición es más sencilla que la anterior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TEORÍA FUNCIONALIST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98" name=""/>
          <p:cNvSpPr txBox="1"/>
          <p:nvPr/>
        </p:nvSpPr>
        <p:spPr>
          <a:xfrm>
            <a:off x="285840" y="1600200"/>
            <a:ext cx="850104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Teoría de la vida mental y la conducta que se interesa en la forma en que un organismo emplea sus habilidades perceptuales para funcionar en su ambient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Su teoría generó preguntas acerca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Del aprendizaje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Las complejidades de la vida mental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El impacto de la experiencia en el cerebro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El lugar del género humano en el mundo natural, etc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FREUD Y LA PSICOLOGÍA PSICODINÁMIC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00" name=""/>
          <p:cNvSpPr txBox="1"/>
          <p:nvPr/>
        </p:nvSpPr>
        <p:spPr>
          <a:xfrm>
            <a:off x="468000" y="170028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Freud, pionero de la psicología, el mas conocido y controvertid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Doctor en medicina, le interesaba especialmente el sistema nervioso centra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Comienza a trabajar con hipnosis para tratar los trastornos nervioso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501" name="Picture 14" descr="freud2"/>
          <p:cNvPicPr/>
          <p:nvPr/>
        </p:nvPicPr>
        <p:blipFill>
          <a:blip r:embed="rId1"/>
          <a:stretch/>
        </p:blipFill>
        <p:spPr>
          <a:xfrm>
            <a:off x="4859280" y="3975120"/>
            <a:ext cx="1800360" cy="24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FREUD Y LA PSICOLOGÍA PSICODINÁMIC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0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Él afirmaba que muchos trastornos nerviosos eran de origen psicológico más que fisiológic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Sus observaciones clínicas lo llevaron a desarrollar una teoría amplia de la vida mental que era radicalmente opuesta con lo propuesto hasta ese moment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Freud sostenía que los seres humanos no son tan racionales como se imagin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Pone en duda la existencia y real alcance de la voluntad o “libre albedrío” de Wund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FREUD Y LA PSICOLOGÍA PSICODINÁMIC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0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Freud afirmaba que los seres humanos estamos motivados por instintos e impulsos inconscientes que no están disponibles para la parte racional y conciente de nuestra ment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Inconciente como un “caldero” dinámico d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primitivas pulsiones sexuales y agresivas,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deseos prohibidos,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temores y deseos indescriptible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recuerdos infantiles traumático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PERSONA-SITUACIÓ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456840" y="2400120"/>
            <a:ext cx="8147160" cy="426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La conducta tiene sus causas ¿internas o externas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Lo que ocurre dentro de la persona como pensamientos, emociones, motivos, actitudes,  o valores, personalidad y genes…versus…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¿en que medida la conducta es causada por factores externos a la persona? Como por ejemplo otras personas o el ambient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FREUD Y LA PSICOLOGÍA PSICODINÁMIC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Reprimidos (o escondidos para la conciencia) los impulsos inconscientes presionan sobre la mente consciente y encuentran expresión de forma disfrazada o alterad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Esto incluye sueños,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Lapsus, síntomas de enfermedad menta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Actividades socialmente aceptables como el arte y la literatura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EL PSICOANÁLISI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09" name=""/>
          <p:cNvSpPr txBox="1"/>
          <p:nvPr/>
        </p:nvSpPr>
        <p:spPr>
          <a:xfrm>
            <a:off x="456840" y="2276280"/>
            <a:ext cx="746748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Técnica para descubrir el inconsciente, en la cual el paciente se recuesta en un diván, cuenta sus sueños y dice cualquier cosa que le venga a la mente (asociación libre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TEORÍA PSICODINÁMIC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11" name=""/>
          <p:cNvSpPr txBox="1"/>
          <p:nvPr/>
        </p:nvSpPr>
        <p:spPr>
          <a:xfrm>
            <a:off x="457200" y="1600200"/>
            <a:ext cx="83296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Teoría de la personalidad que afirma que la conducta es el resultado </a:t>
            </a:r>
            <a:r>
              <a:rPr b="1" lang="es-CL" sz="2400" spc="-1" strike="noStrike">
                <a:solidFill>
                  <a:srgbClr val="000000"/>
                </a:solidFill>
                <a:latin typeface="Century Schoolbook"/>
              </a:rPr>
              <a:t>de fuerzas psicológicas que interactúan dentro</a:t>
            </a: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 del individuo, a menudo fuera de la conscienci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Al aparecer esta teoría, genera escándalo en la sociedad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Especialmente por su énfasis en la sexualidad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Además por su sugerencia de que muchas veces no tenemos conciencia de nuestros verdaderos motivos y que, por ende, </a:t>
            </a:r>
            <a:r>
              <a:rPr b="1" lang="es-CL" sz="2400" spc="-1" strike="noStrike">
                <a:solidFill>
                  <a:srgbClr val="000000"/>
                </a:solidFill>
                <a:latin typeface="Century Schoolbook"/>
              </a:rPr>
              <a:t>no tenemos pleno control </a:t>
            </a: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sobre nuestros pensamientos y nuestros comportamiento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TEORÍA PSICODINÁMIC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A sido ampliada y revisada en el transcurso del tiemp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Aún en la actualidad sigue generando debat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Estableció la base para el estudio de la personalidad y los trastornos psicológico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79328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575f6d"/>
                </a:solidFill>
                <a:latin typeface="Century Schoolbook"/>
              </a:rPr>
              <a:t>EL CONDUCTISMO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15" name=""/>
          <p:cNvSpPr txBox="1"/>
          <p:nvPr/>
        </p:nvSpPr>
        <p:spPr>
          <a:xfrm>
            <a:off x="1182600" y="1052640"/>
            <a:ext cx="77724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Este surge como respuesta al malestar general que existía entre la comunidad académica y que abría un periodo de crisis paradigmática…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¿Qué es una crisis paradigmática?..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2"/>
          <p:cNvSpPr/>
          <p:nvPr/>
        </p:nvSpPr>
        <p:spPr>
          <a:xfrm>
            <a:off x="4191120" y="2057400"/>
            <a:ext cx="609480" cy="1600200"/>
          </a:xfrm>
          <a:prstGeom prst="rect">
            <a:avLst/>
          </a:prstGeom>
          <a:gradFill rotWithShape="0">
            <a:gsLst>
              <a:gs pos="0">
                <a:srgbClr val="612d0d"/>
              </a:gs>
              <a:gs pos="50000">
                <a:srgbClr val="d2611c"/>
              </a:gs>
              <a:gs pos="100000">
                <a:srgbClr val="612d0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3"/>
          <p:cNvSpPr/>
          <p:nvPr/>
        </p:nvSpPr>
        <p:spPr>
          <a:xfrm>
            <a:off x="914400" y="1752480"/>
            <a:ext cx="5029200" cy="581400"/>
          </a:xfrm>
          <a:prstGeom prst="rect">
            <a:avLst/>
          </a:prstGeom>
          <a:gradFill rotWithShape="0">
            <a:gsLst>
              <a:gs pos="0">
                <a:srgbClr val="612d0d"/>
              </a:gs>
              <a:gs pos="50000">
                <a:srgbClr val="d2611c"/>
              </a:gs>
              <a:gs pos="100000">
                <a:srgbClr val="612d0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39d"/>
                </a:solidFill>
                <a:latin typeface="USABlack"/>
              </a:rPr>
              <a:t>Comunidad científ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Oval 4"/>
          <p:cNvSpPr/>
          <p:nvPr/>
        </p:nvSpPr>
        <p:spPr>
          <a:xfrm>
            <a:off x="3657600" y="2971800"/>
            <a:ext cx="3733920" cy="1143000"/>
          </a:xfrm>
          <a:prstGeom prst="ellipse">
            <a:avLst/>
          </a:prstGeom>
          <a:gradFill rotWithShape="0">
            <a:gsLst>
              <a:gs pos="0">
                <a:srgbClr val="d2611c"/>
              </a:gs>
              <a:gs pos="100000">
                <a:srgbClr val="612d0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39d"/>
                </a:solidFill>
                <a:latin typeface="USABlack"/>
              </a:rPr>
              <a:t>Paradig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Oval 5"/>
          <p:cNvSpPr/>
          <p:nvPr/>
        </p:nvSpPr>
        <p:spPr>
          <a:xfrm>
            <a:off x="380880" y="3809880"/>
            <a:ext cx="2819520" cy="838440"/>
          </a:xfrm>
          <a:prstGeom prst="ellipse">
            <a:avLst/>
          </a:prstGeom>
          <a:gradFill rotWithShape="0">
            <a:gsLst>
              <a:gs pos="0">
                <a:srgbClr val="ccff66"/>
              </a:gs>
              <a:gs pos="100000">
                <a:srgbClr val="5e762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99"/>
                </a:solidFill>
                <a:latin typeface="USABlack"/>
              </a:rPr>
              <a:t>Enig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Oval 6"/>
          <p:cNvSpPr/>
          <p:nvPr/>
        </p:nvSpPr>
        <p:spPr>
          <a:xfrm>
            <a:off x="1905120" y="4343400"/>
            <a:ext cx="2819160" cy="838080"/>
          </a:xfrm>
          <a:prstGeom prst="ellipse">
            <a:avLst/>
          </a:prstGeom>
          <a:gradFill rotWithShape="0">
            <a:gsLst>
              <a:gs pos="0">
                <a:srgbClr val="ccff66"/>
              </a:gs>
              <a:gs pos="100000">
                <a:srgbClr val="5e762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99"/>
                </a:solidFill>
                <a:latin typeface="USABlack"/>
              </a:rPr>
              <a:t>Enig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Oval 7"/>
          <p:cNvSpPr/>
          <p:nvPr/>
        </p:nvSpPr>
        <p:spPr>
          <a:xfrm>
            <a:off x="2895480" y="5029200"/>
            <a:ext cx="2819520" cy="838080"/>
          </a:xfrm>
          <a:prstGeom prst="ellipse">
            <a:avLst/>
          </a:prstGeom>
          <a:gradFill rotWithShape="0">
            <a:gsLst>
              <a:gs pos="0">
                <a:srgbClr val="ccff66"/>
              </a:gs>
              <a:gs pos="100000">
                <a:srgbClr val="5e762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99"/>
                </a:solidFill>
                <a:latin typeface="USABlack"/>
              </a:rPr>
              <a:t>Enig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AutoShape 8"/>
          <p:cNvSpPr/>
          <p:nvPr/>
        </p:nvSpPr>
        <p:spPr>
          <a:xfrm flipH="1" flipV="1">
            <a:off x="5790600" y="3733920"/>
            <a:ext cx="1447560" cy="1371600"/>
          </a:xfrm>
          <a:prstGeom prst="pie">
            <a:avLst/>
          </a:prstGeom>
          <a:gradFill rotWithShape="0">
            <a:gsLst>
              <a:gs pos="0">
                <a:srgbClr val="612d0d"/>
              </a:gs>
              <a:gs pos="50000">
                <a:srgbClr val="d2611c"/>
              </a:gs>
              <a:gs pos="100000">
                <a:srgbClr val="612d0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0" lang="es-ES_tradnl" sz="3000" spc="-1" strike="noStrike">
                <a:solidFill>
                  <a:srgbClr val="575f6d"/>
                </a:solidFill>
                <a:latin typeface="Century Schoolbook"/>
              </a:rPr>
              <a:t>PARADIGMA &amp; ENIGMAS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5148000" y="1844640"/>
            <a:ext cx="3817800" cy="4114800"/>
          </a:xfrm>
          <a:prstGeom prst="rect">
            <a:avLst/>
          </a:prstGeom>
          <a:solidFill>
            <a:srgbClr val="d2611c">
              <a:alpha val="5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entury Schoolbook"/>
              </a:rPr>
              <a:t>”</a:t>
            </a:r>
            <a:r>
              <a:rPr b="0" lang="es-MX" sz="2400" spc="-1" strike="noStrike">
                <a:solidFill>
                  <a:srgbClr val="000000"/>
                </a:solidFill>
                <a:latin typeface="Century Schoolbook"/>
              </a:rPr>
              <a:t>Una realización científica universalmente reconocida que, durante cierto tiempo, proporciona modelos de problemas y soluciones a una comunidad científica" (Kuhn, 1971)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4" dur="500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0" lang="es-ES_tradnl" sz="3000" spc="-1" strike="noStrike">
                <a:solidFill>
                  <a:srgbClr val="575f6d"/>
                </a:solidFill>
                <a:latin typeface="Century Schoolbook"/>
              </a:rPr>
              <a:t>PARADIGMA &amp; ENIGMAS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26" name="Line 3"/>
          <p:cNvSpPr/>
          <p:nvPr/>
        </p:nvSpPr>
        <p:spPr>
          <a:xfrm flipV="1">
            <a:off x="0" y="3885840"/>
            <a:ext cx="6629400" cy="1447920"/>
          </a:xfrm>
          <a:prstGeom prst="line">
            <a:avLst/>
          </a:prstGeom>
          <a:noFill/>
          <a:ln w="120600">
            <a:solidFill>
              <a:srgbClr val="d261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AutoShape 4"/>
          <p:cNvSpPr/>
          <p:nvPr/>
        </p:nvSpPr>
        <p:spPr>
          <a:xfrm>
            <a:off x="2133720" y="2971800"/>
            <a:ext cx="2971800" cy="2133720"/>
          </a:xfrm>
          <a:prstGeom prst="irregularSeal1">
            <a:avLst/>
          </a:prstGeom>
          <a:gradFill rotWithShape="0">
            <a:gsLst>
              <a:gs pos="0">
                <a:srgbClr val="ccff66"/>
              </a:gs>
              <a:gs pos="100000">
                <a:srgbClr val="5e762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b435b"/>
                </a:solidFill>
                <a:latin typeface="USABlack"/>
              </a:rPr>
              <a:t>Cri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8" name="Group 5"/>
          <p:cNvGrpSpPr/>
          <p:nvPr/>
        </p:nvGrpSpPr>
        <p:grpSpPr>
          <a:xfrm>
            <a:off x="990720" y="1523880"/>
            <a:ext cx="6324480" cy="942840"/>
            <a:chOff x="990720" y="1523880"/>
            <a:chExt cx="6324480" cy="942840"/>
          </a:xfrm>
        </p:grpSpPr>
        <p:sp>
          <p:nvSpPr>
            <p:cNvPr id="529" name="AutoShape 6"/>
            <p:cNvSpPr/>
            <p:nvPr/>
          </p:nvSpPr>
          <p:spPr>
            <a:xfrm>
              <a:off x="990720" y="1523880"/>
              <a:ext cx="6324480" cy="942840"/>
            </a:xfrm>
            <a:prstGeom prst="leftRightArrow">
              <a:avLst>
                <a:gd name="adj1" fmla="val 50000"/>
                <a:gd name="adj2" fmla="val 133537"/>
              </a:avLst>
            </a:prstGeom>
            <a:gradFill rotWithShape="0">
              <a:gsLst>
                <a:gs pos="0">
                  <a:srgbClr val="612d0d"/>
                </a:gs>
                <a:gs pos="50000">
                  <a:srgbClr val="d2611c"/>
                </a:gs>
                <a:gs pos="100000">
                  <a:srgbClr val="612d0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Text Box 7"/>
            <p:cNvSpPr/>
            <p:nvPr/>
          </p:nvSpPr>
          <p:spPr>
            <a:xfrm>
              <a:off x="2209680" y="1752480"/>
              <a:ext cx="3886200" cy="459720"/>
            </a:xfrm>
            <a:prstGeom prst="rect">
              <a:avLst/>
            </a:prstGeom>
            <a:gradFill rotWithShape="0">
              <a:gsLst>
                <a:gs pos="0">
                  <a:srgbClr val="612d0d"/>
                </a:gs>
                <a:gs pos="50000">
                  <a:srgbClr val="d2611c"/>
                </a:gs>
                <a:gs pos="100000">
                  <a:srgbClr val="612d0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39d"/>
                  </a:solidFill>
                  <a:latin typeface="USABlack"/>
                </a:rPr>
                <a:t>Paradigma       Enigm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1" name="Text Box 8"/>
          <p:cNvSpPr/>
          <p:nvPr/>
        </p:nvSpPr>
        <p:spPr>
          <a:xfrm>
            <a:off x="5544000" y="3124080"/>
            <a:ext cx="2757960" cy="459720"/>
          </a:xfrm>
          <a:prstGeom prst="rect">
            <a:avLst/>
          </a:prstGeom>
          <a:gradFill rotWithShape="0">
            <a:gsLst>
              <a:gs pos="0">
                <a:srgbClr val="612d0d"/>
              </a:gs>
              <a:gs pos="50000">
                <a:srgbClr val="d2611c"/>
              </a:gs>
              <a:gs pos="100000">
                <a:srgbClr val="612d0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39d"/>
                </a:solidFill>
                <a:latin typeface="USABlack"/>
              </a:rPr>
              <a:t>Nuevo paradig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0" lang="es-ES_tradnl" sz="3000" spc="-1" strike="noStrike">
                <a:solidFill>
                  <a:srgbClr val="575f6d"/>
                </a:solidFill>
                <a:latin typeface="Century Schoolbook"/>
              </a:rPr>
              <a:t>FASES DE LOS PARADIGMA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3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Período precientífico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Century Schoolbook"/>
              </a:rPr>
              <a:t>No hay hegemonía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Century Schoolbook"/>
              </a:rPr>
              <a:t>Inmadurez de la ciencia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Período de Ciencia Normal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Century Schoolbook"/>
              </a:rPr>
              <a:t>Adecuación, ¿anomalías?, crisis, nuevo paradigma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Período revolucionario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Century Schoolbook"/>
              </a:rPr>
              <a:t>Nuevo paradigma se vuelve hegemónico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cover dir="d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" dur="500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4" dur="500"/>
                                        <p:tgtEl>
                                          <p:spTgt spid="5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7" dur="500"/>
                                        <p:tgtEl>
                                          <p:spTgt spid="5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2" dur="500"/>
                                        <p:tgtEl>
                                          <p:spTgt spid="5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5" dur="500"/>
                                        <p:tgtEl>
                                          <p:spTgt spid="5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0" dur="500"/>
                                        <p:tgtEl>
                                          <p:spTgt spid="5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3" dur="500"/>
                                        <p:tgtEl>
                                          <p:spTgt spid="5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0" lang="es-ES_tradnl" sz="3000" spc="-1" strike="noStrike">
                <a:solidFill>
                  <a:srgbClr val="575f6d"/>
                </a:solidFill>
                <a:latin typeface="Century Schoolbook"/>
              </a:rPr>
              <a:t>PROBLEMÁTIC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3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Espacio de </a:t>
            </a: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problemas de la realidad</a:t>
            </a: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 que un modelo decide abordar como su </a:t>
            </a: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campo de investigación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Se genera una </a:t>
            </a: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solución prototípica</a:t>
            </a: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 para el mismo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Esta debe aportar sus </a:t>
            </a: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propias coordenadas teórico explicativas</a:t>
            </a: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cover dir="d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0" dur="500"/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5" dur="500"/>
                                        <p:tgtEl>
                                          <p:spTgt spid="5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0" dur="500"/>
                                        <p:tgtEl>
                                          <p:spTgt spid="5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0" lang="es-ES_tradnl" sz="3000" spc="-1" strike="noStrike">
                <a:solidFill>
                  <a:srgbClr val="575f6d"/>
                </a:solidFill>
                <a:latin typeface="Century Schoolbook"/>
              </a:rPr>
              <a:t>FUNDAMENTOS EPISTEMOLÓGICO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Supuestos </a:t>
            </a: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metacientíficos</a:t>
            </a: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 para abordar la problemática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La </a:t>
            </a: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comunidad</a:t>
            </a: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 se </a:t>
            </a: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compromete</a:t>
            </a: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 con estos </a:t>
            </a: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supuestos</a:t>
            </a: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 en la creación del paradigma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Se vinculan a </a:t>
            </a: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concepciones epistemológicas y filosóficas</a:t>
            </a: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 de diverso orden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cover dir="d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7" dur="500"/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2" dur="500"/>
                                        <p:tgtEl>
                                          <p:spTgt spid="5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7" dur="500"/>
                                        <p:tgtEl>
                                          <p:spTgt spid="5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NATURALEZA-CRIANZ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468360" y="2205000"/>
            <a:ext cx="7991280" cy="43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Importante debate naturaleza v/s crianz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Grado de influencia que tienen la herencia o genes frente al ambient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Ej, la concepción de inteligencia y el C.I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0" lang="es-ES_tradnl" sz="3000" spc="-1" strike="noStrike">
                <a:solidFill>
                  <a:srgbClr val="575f6d"/>
                </a:solidFill>
                <a:latin typeface="Century Schoolbook"/>
              </a:rPr>
              <a:t>SUPUESTOS TEÓRICO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Hipótesis o </a:t>
            </a: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sustentos teóricos</a:t>
            </a: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 que </a:t>
            </a: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comparte</a:t>
            </a: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 la comunidad de especialistas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Son la </a:t>
            </a: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base conceptual y explicativa</a:t>
            </a: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 fundamental de la matriz disciplinar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Cada </a:t>
            </a: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modelo</a:t>
            </a: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 tiene su </a:t>
            </a: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propio lenguaje</a:t>
            </a: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 y su </a:t>
            </a: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sistema conceptual</a:t>
            </a: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cover dir="d"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4" dur="500"/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9" dur="500"/>
                                        <p:tgtEl>
                                          <p:spTgt spid="5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4" dur="500"/>
                                        <p:tgtEl>
                                          <p:spTgt spid="5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0" lang="es-ES_tradnl" sz="3000" spc="-1" strike="noStrike">
                <a:solidFill>
                  <a:srgbClr val="575f6d"/>
                </a:solidFill>
                <a:latin typeface="Century Schoolbook"/>
              </a:rPr>
              <a:t>PRESCRIPCIONES METODOLÓGICA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4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Conjunto</a:t>
            </a: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 de métodos, procedimientos, técnicas y reglas que </a:t>
            </a: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acepta</a:t>
            </a: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 la comunidad de profesionales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Se utilizan para el </a:t>
            </a: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trabajo</a:t>
            </a: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 de </a:t>
            </a: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construcción o refinamiento del modelo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cover dir="d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1" dur="500"/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6" dur="500"/>
                                        <p:tgtEl>
                                          <p:spTgt spid="5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042920" y="260280"/>
            <a:ext cx="779328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575f6d"/>
                </a:solidFill>
                <a:latin typeface="Century Schoolbook"/>
              </a:rPr>
              <a:t>ENTONCES…</a:t>
            </a:r>
            <a:br>
              <a:rPr sz="3000"/>
            </a:br>
            <a:r>
              <a:rPr b="0" lang="es-ES" sz="3000" spc="-1" strike="noStrike">
                <a:solidFill>
                  <a:srgbClr val="575f6d"/>
                </a:solidFill>
                <a:latin typeface="Century Schoolbook"/>
              </a:rPr>
              <a:t>EL CONDUCTISMO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97164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La Psicología Conductista aparece en el siglo XX como una </a:t>
            </a:r>
            <a:r>
              <a:rPr b="1" lang="es-ES" sz="2400" spc="-1" strike="noStrike">
                <a:solidFill>
                  <a:srgbClr val="000000"/>
                </a:solidFill>
                <a:latin typeface="Century Schoolbook"/>
              </a:rPr>
              <a:t>disciplina empírica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 para </a:t>
            </a:r>
            <a:r>
              <a:rPr b="1" lang="es-ES" sz="2400" spc="-1" strike="noStrike">
                <a:solidFill>
                  <a:srgbClr val="000000"/>
                </a:solidFill>
                <a:latin typeface="Century Schoolbook"/>
              </a:rPr>
              <a:t>estudiar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 el </a:t>
            </a:r>
            <a:r>
              <a:rPr b="1" lang="es-ES" sz="2400" spc="-1" strike="noStrike">
                <a:solidFill>
                  <a:srgbClr val="000000"/>
                </a:solidFill>
                <a:latin typeface="Century Schoolbook"/>
              </a:rPr>
              <a:t>comportamiento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 en términos de </a:t>
            </a:r>
            <a:r>
              <a:rPr b="1" lang="es-ES" sz="2400" spc="-1" strike="noStrike">
                <a:solidFill>
                  <a:srgbClr val="000000"/>
                </a:solidFill>
                <a:latin typeface="Century Schoolbook"/>
              </a:rPr>
              <a:t>adaptación a estímulos del medio.</a:t>
            </a:r>
            <a:br>
              <a:rPr sz="2400"/>
            </a:b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La </a:t>
            </a:r>
            <a:r>
              <a:rPr b="1" lang="es-ES" sz="2400" spc="-1" strike="noStrike">
                <a:solidFill>
                  <a:srgbClr val="000000"/>
                </a:solidFill>
                <a:latin typeface="Century Schoolbook"/>
              </a:rPr>
              <a:t>esencia 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del Conductismo es que el </a:t>
            </a:r>
            <a:r>
              <a:rPr b="1" lang="es-ES" sz="2400" spc="-1" strike="noStrike">
                <a:solidFill>
                  <a:srgbClr val="000000"/>
                </a:solidFill>
                <a:latin typeface="Century Schoolbook"/>
              </a:rPr>
              <a:t>individuo aprende a adaptarse al ambiente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 y que este aprendizaje está regido por </a:t>
            </a:r>
            <a:r>
              <a:rPr b="1" lang="es-ES" sz="2400" spc="-1" strike="noStrike">
                <a:solidFill>
                  <a:srgbClr val="000000"/>
                </a:solidFill>
                <a:latin typeface="Century Schoolbook"/>
              </a:rPr>
              <a:t>principios de asociación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4" name="Picture 2" descr="pavlov"/>
          <p:cNvPicPr/>
          <p:nvPr/>
        </p:nvPicPr>
        <p:blipFill>
          <a:blip r:embed="rId1"/>
          <a:stretch/>
        </p:blipFill>
        <p:spPr>
          <a:xfrm>
            <a:off x="2843280" y="765000"/>
            <a:ext cx="3711600" cy="5112000"/>
          </a:xfrm>
          <a:prstGeom prst="rect">
            <a:avLst/>
          </a:prstGeom>
          <a:ln w="0">
            <a:noFill/>
          </a:ln>
        </p:spPr>
      </p:pic>
      <p:sp>
        <p:nvSpPr>
          <p:cNvPr id="545" name="Rectangle 3"/>
          <p:cNvSpPr/>
          <p:nvPr/>
        </p:nvSpPr>
        <p:spPr>
          <a:xfrm>
            <a:off x="2776680" y="5996160"/>
            <a:ext cx="467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568180"/>
                </a:solidFill>
                <a:latin typeface="Verdana"/>
              </a:rPr>
              <a:t>Iván Petrovitch Pavlov ( 1849-1936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150560" y="515880"/>
            <a:ext cx="779292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575f6d"/>
                </a:solidFill>
                <a:latin typeface="Century Schoolbook"/>
              </a:rPr>
              <a:t>IVÁN PAVLOV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4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En 1904, Pavlov recibió el premio Nobel por sus trabajos sobre las bases nerviosas y ganglionares de la digestión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Durante esta investigación, descubrió los </a:t>
            </a:r>
            <a:r>
              <a:rPr b="1" lang="es-ES" sz="2800" spc="-1" strike="noStrike">
                <a:solidFill>
                  <a:srgbClr val="000000"/>
                </a:solidFill>
                <a:latin typeface="Century Schoolbook"/>
              </a:rPr>
              <a:t>principios del condicionamiento basado en la asociación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Pavlov observó que los perros salivaban sin falta en anticipación de la comida, que era anunciada por la llegada de un asistente o la presentación de un plato.</a:t>
            </a:r>
            <a:r>
              <a:rPr b="0" lang="es-ES" sz="2000" spc="-1" strike="noStrike">
                <a:solidFill>
                  <a:srgbClr val="56818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/>
          </p:nvPr>
        </p:nvSpPr>
        <p:spPr>
          <a:xfrm>
            <a:off x="13716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549" name="Picture 3" descr="perro"/>
          <p:cNvPicPr/>
          <p:nvPr/>
        </p:nvPicPr>
        <p:blipFill>
          <a:blip r:embed="rId1"/>
          <a:stretch/>
        </p:blipFill>
        <p:spPr>
          <a:xfrm>
            <a:off x="1476360" y="2349360"/>
            <a:ext cx="6480360" cy="3422880"/>
          </a:xfrm>
          <a:prstGeom prst="rect">
            <a:avLst/>
          </a:prstGeom>
          <a:ln w="0">
            <a:noFill/>
          </a:ln>
        </p:spPr>
      </p:pic>
      <p:sp>
        <p:nvSpPr>
          <p:cNvPr id="550" name="Rectangle 4"/>
          <p:cNvSpPr/>
          <p:nvPr/>
        </p:nvSpPr>
        <p:spPr>
          <a:xfrm>
            <a:off x="457200" y="388800"/>
            <a:ext cx="7543800" cy="73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575f6d"/>
                </a:solidFill>
                <a:latin typeface="Century Schoolbook"/>
              </a:rPr>
              <a:t>La Caja de Pavlo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9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575f6d"/>
                </a:solidFill>
                <a:latin typeface="Century Schoolbook"/>
              </a:rPr>
              <a:t>CONDICIONAMIENTO CLÁSICO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52" name=""/>
          <p:cNvSpPr txBox="1"/>
          <p:nvPr/>
        </p:nvSpPr>
        <p:spPr>
          <a:xfrm>
            <a:off x="501120" y="1341360"/>
            <a:ext cx="864252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11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Señaló cuatro hechos experimentales en los procesos de adquisición y extinción: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lnSpc>
                <a:spcPct val="11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entury Schoolbook"/>
              </a:rPr>
              <a:t>Estímulo Incondicionado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 (EI): Suceso ambiental que por sus propiedades inherentes, provoca un reflejo orgánico. (Ej.:la carne)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lnSpc>
                <a:spcPct val="11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entury Schoolbook"/>
              </a:rPr>
              <a:t>Estímulo Condicionado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 (EC): Suceso ambiental que es neutral (</a:t>
            </a:r>
            <a:r>
              <a:rPr b="1" lang="es-ES" sz="2200" spc="-1" strike="noStrike">
                <a:solidFill>
                  <a:srgbClr val="000000"/>
                </a:solidFill>
                <a:latin typeface="Century Schoolbook"/>
              </a:rPr>
              <a:t>Estímulo Neutro)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 con respecto a la respuesta antes de su apareamiento con le EI. (Ej.:la campana)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lnSpc>
                <a:spcPct val="11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entury Schoolbook"/>
              </a:rPr>
              <a:t>Respuesta Incondicionada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 (RI): Reflejo natural que el EI produce en forma automática e involuntaria.(Ej.:Salivación)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lnSpc>
                <a:spcPct val="11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entury Schoolbook"/>
              </a:rPr>
              <a:t>Respuesta Condicionada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 (RC): Reflejo adquirido suscitado por el EC después de asociarse con el EI. (Ej.:Salivación Condicionada)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792920" cy="9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575f6d"/>
                </a:solidFill>
                <a:latin typeface="Century Schoolbook"/>
              </a:rPr>
              <a:t>CONDICIONAMIENTO CLÁSICO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1116000" y="126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200" spc="-1" strike="noStrike">
                <a:solidFill>
                  <a:srgbClr val="000000"/>
                </a:solidFill>
                <a:latin typeface="Century Schoolbook"/>
              </a:rPr>
              <a:t>Principios Derivados del Paradigma: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32c1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Los procedimientos de Condicionamiento representan la </a:t>
            </a:r>
            <a:r>
              <a:rPr b="1" lang="es-ES" sz="2200" spc="-1" strike="noStrike">
                <a:solidFill>
                  <a:srgbClr val="000000"/>
                </a:solidFill>
                <a:latin typeface="Century Schoolbook"/>
              </a:rPr>
              <a:t>cuantificación y la objetivización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 de la </a:t>
            </a:r>
            <a:r>
              <a:rPr b="1" lang="es-ES" sz="2200" spc="-1" strike="noStrike">
                <a:solidFill>
                  <a:srgbClr val="000000"/>
                </a:solidFill>
                <a:latin typeface="Century Schoolbook"/>
              </a:rPr>
              <a:t>adquisición y el olvido de asociaciones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32c1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entury Schoolbook"/>
              </a:rPr>
              <a:t>No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 había </a:t>
            </a:r>
            <a:r>
              <a:rPr b="1" lang="es-ES" sz="2200" spc="-1" strike="noStrike">
                <a:solidFill>
                  <a:srgbClr val="000000"/>
                </a:solidFill>
                <a:latin typeface="Century Schoolbook"/>
              </a:rPr>
              <a:t>necesidad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 de </a:t>
            </a:r>
            <a:r>
              <a:rPr b="1" lang="es-ES" sz="2200" spc="-1" strike="noStrike">
                <a:solidFill>
                  <a:srgbClr val="000000"/>
                </a:solidFill>
                <a:latin typeface="Century Schoolbook"/>
              </a:rPr>
              <a:t>ningún constructo mental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, pues el sistema nervioso, y en especial el córtex, ofrecen los mecanismos para el aprendizaje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32c1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El paradigma del condicionamiento permitía </a:t>
            </a:r>
            <a:r>
              <a:rPr b="1" lang="es-ES" sz="2200" spc="-1" strike="noStrike">
                <a:solidFill>
                  <a:srgbClr val="000000"/>
                </a:solidFill>
                <a:latin typeface="Century Schoolbook"/>
              </a:rPr>
              <a:t>investigar la actividad nerviosa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 superior y todas las clases de </a:t>
            </a:r>
            <a:r>
              <a:rPr b="1" lang="es-ES" sz="2200" spc="-1" strike="noStrike">
                <a:solidFill>
                  <a:srgbClr val="000000"/>
                </a:solidFill>
                <a:latin typeface="Century Schoolbook"/>
              </a:rPr>
              <a:t>comportamiento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32c1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La </a:t>
            </a:r>
            <a:r>
              <a:rPr b="1" lang="es-ES" sz="2200" spc="-1" strike="noStrike">
                <a:solidFill>
                  <a:srgbClr val="000000"/>
                </a:solidFill>
                <a:latin typeface="Century Schoolbook"/>
              </a:rPr>
              <a:t>relación temporal o contigüidad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 era el principio fundamental de la adquisición de asociaciones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5" name="Picture 2" descr="watson"/>
          <p:cNvPicPr/>
          <p:nvPr/>
        </p:nvPicPr>
        <p:blipFill>
          <a:blip r:embed="rId1"/>
          <a:stretch/>
        </p:blipFill>
        <p:spPr>
          <a:xfrm>
            <a:off x="2987640" y="907920"/>
            <a:ext cx="3235320" cy="4753080"/>
          </a:xfrm>
          <a:prstGeom prst="rect">
            <a:avLst/>
          </a:prstGeom>
          <a:ln w="0">
            <a:noFill/>
          </a:ln>
        </p:spPr>
      </p:pic>
      <p:sp>
        <p:nvSpPr>
          <p:cNvPr id="556" name="Rectangle 3"/>
          <p:cNvSpPr/>
          <p:nvPr/>
        </p:nvSpPr>
        <p:spPr>
          <a:xfrm>
            <a:off x="3248280" y="5877000"/>
            <a:ext cx="311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568180"/>
                </a:solidFill>
                <a:latin typeface="Constantia"/>
              </a:rPr>
              <a:t>John Watson ( 1878-1958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1150560" y="775800"/>
            <a:ext cx="779292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575f6d"/>
                </a:solidFill>
                <a:latin typeface="Century Schoolbook"/>
              </a:rPr>
              <a:t>EL CONDUCTISMO DE JOHN WATSON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58" name=""/>
          <p:cNvSpPr txBox="1"/>
          <p:nvPr/>
        </p:nvSpPr>
        <p:spPr>
          <a:xfrm>
            <a:off x="468360" y="1773360"/>
            <a:ext cx="8229600" cy="45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entury Schoolbook"/>
              </a:rPr>
              <a:t>John Watson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 ( 1878-1958 )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propuso la separación radical de las teorías psicológicas al afirmar que </a:t>
            </a:r>
            <a:r>
              <a:rPr b="1" lang="es-ES" sz="2400" spc="-1" strike="noStrike">
                <a:solidFill>
                  <a:srgbClr val="000000"/>
                </a:solidFill>
                <a:latin typeface="Century Schoolbook"/>
              </a:rPr>
              <a:t>la psicología debía estudiar la conducta abierta y observable como su único objeto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ESTABILIDAD- CAMBIO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54" name=""/>
          <p:cNvSpPr txBox="1"/>
          <p:nvPr/>
        </p:nvSpPr>
        <p:spPr>
          <a:xfrm>
            <a:off x="457200" y="1989000"/>
            <a:ext cx="8075520" cy="448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Debate respecto a si los seres humanos tenemos características estables o vivimos en constante cambi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¿nacemos con características regulares o nuestra personalidad se conforma a través de los distintos cambios en la vida?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94920" y="692280"/>
            <a:ext cx="75438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575f6d"/>
                </a:solidFill>
                <a:latin typeface="Century Schoolbook"/>
              </a:rPr>
              <a:t>EL CONDUCTISMO DE JOHN WATSON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826920" y="1628640"/>
            <a:ext cx="812808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Century Schoolbook"/>
              </a:rPr>
              <a:t>Watson se </a:t>
            </a:r>
            <a:r>
              <a:rPr b="1" lang="es-ES" sz="2700" spc="-1" strike="noStrike">
                <a:solidFill>
                  <a:srgbClr val="000000"/>
                </a:solidFill>
                <a:latin typeface="Century Schoolbook"/>
              </a:rPr>
              <a:t>rebeló</a:t>
            </a:r>
            <a:r>
              <a:rPr b="0" lang="es-ES" sz="2700" spc="-1" strike="noStrike">
                <a:solidFill>
                  <a:srgbClr val="000000"/>
                </a:solidFill>
                <a:latin typeface="Century Schoolbook"/>
              </a:rPr>
              <a:t> contra el método de la </a:t>
            </a:r>
            <a:r>
              <a:rPr b="1" lang="es-ES" sz="2700" spc="-1" strike="noStrike">
                <a:solidFill>
                  <a:srgbClr val="000000"/>
                </a:solidFill>
                <a:latin typeface="Century Schoolbook"/>
              </a:rPr>
              <a:t>introspección</a:t>
            </a:r>
            <a:r>
              <a:rPr b="0" lang="es-ES" sz="2700" spc="-1" strike="noStrike">
                <a:solidFill>
                  <a:srgbClr val="000000"/>
                </a:solidFill>
                <a:latin typeface="Century Schoolbook"/>
              </a:rPr>
              <a:t> y contra el estudio de la </a:t>
            </a:r>
            <a:r>
              <a:rPr b="1" lang="es-ES" sz="2700" spc="-1" strike="noStrike">
                <a:solidFill>
                  <a:srgbClr val="000000"/>
                </a:solidFill>
                <a:latin typeface="Century Schoolbook"/>
              </a:rPr>
              <a:t>conciencia</a:t>
            </a:r>
            <a:r>
              <a:rPr b="0" lang="es-ES" sz="2700" spc="-1" strike="noStrike">
                <a:solidFill>
                  <a:srgbClr val="000000"/>
                </a:solidFill>
                <a:latin typeface="Century Schoolbook"/>
              </a:rPr>
              <a:t>, considerándola un pseudoproblema, produciendo una reformulación completa de la psicología. 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Century Schoolbook"/>
              </a:rPr>
              <a:t>El campo de la Psicología era el </a:t>
            </a:r>
            <a:r>
              <a:rPr b="1" lang="es-ES" sz="2700" spc="-1" strike="noStrike">
                <a:solidFill>
                  <a:srgbClr val="000000"/>
                </a:solidFill>
                <a:latin typeface="Century Schoolbook"/>
              </a:rPr>
              <a:t>comportamiento, medido en términos de Estímulo-Respuesta</a:t>
            </a:r>
            <a:r>
              <a:rPr b="0" lang="es-ES" sz="2700" spc="-1" strike="noStrike">
                <a:solidFill>
                  <a:srgbClr val="000000"/>
                </a:solidFill>
                <a:latin typeface="Century Schoolbook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Century Schoolbook"/>
              </a:rPr>
              <a:t>Definió la </a:t>
            </a:r>
            <a:r>
              <a:rPr b="1" lang="es-CL" sz="2700" spc="-1" strike="noStrike">
                <a:solidFill>
                  <a:srgbClr val="000000"/>
                </a:solidFill>
                <a:latin typeface="Century Schoolbook"/>
              </a:rPr>
              <a:t>Psicología </a:t>
            </a:r>
            <a:r>
              <a:rPr b="0" lang="es-CL" sz="2700" spc="-1" strike="noStrike">
                <a:solidFill>
                  <a:srgbClr val="000000"/>
                </a:solidFill>
                <a:latin typeface="Century Schoolbook"/>
              </a:rPr>
              <a:t>como una </a:t>
            </a:r>
            <a:r>
              <a:rPr b="1" lang="es-CL" sz="2700" spc="-1" strike="noStrike">
                <a:solidFill>
                  <a:srgbClr val="000000"/>
                </a:solidFill>
                <a:latin typeface="Century Schoolbook"/>
              </a:rPr>
              <a:t>rama experimental de las ciencias naturales.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394920" y="692280"/>
            <a:ext cx="75438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575f6d"/>
                </a:solidFill>
                <a:latin typeface="Century Schoolbook"/>
              </a:rPr>
              <a:t>EL CONDUCTISMO DE JOHN WATSON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899640" y="1700280"/>
            <a:ext cx="80550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Century Schoolbook"/>
              </a:rPr>
              <a:t>Es posible </a:t>
            </a:r>
            <a:r>
              <a:rPr b="1" lang="es-ES" sz="2700" spc="-1" strike="noStrike">
                <a:solidFill>
                  <a:srgbClr val="000000"/>
                </a:solidFill>
                <a:latin typeface="Century Schoolbook"/>
              </a:rPr>
              <a:t>analizar </a:t>
            </a:r>
            <a:r>
              <a:rPr b="0" lang="es-ES" sz="2700" spc="-1" strike="noStrike">
                <a:solidFill>
                  <a:srgbClr val="000000"/>
                </a:solidFill>
                <a:latin typeface="Century Schoolbook"/>
              </a:rPr>
              <a:t>la </a:t>
            </a:r>
            <a:r>
              <a:rPr b="1" lang="es-ES" sz="2700" spc="-1" strike="noStrike">
                <a:solidFill>
                  <a:srgbClr val="000000"/>
                </a:solidFill>
                <a:latin typeface="Century Schoolbook"/>
              </a:rPr>
              <a:t>conducta</a:t>
            </a:r>
            <a:r>
              <a:rPr b="0" lang="es-ES" sz="2700" spc="-1" strike="noStrike">
                <a:solidFill>
                  <a:srgbClr val="000000"/>
                </a:solidFill>
                <a:latin typeface="Century Schoolbook"/>
              </a:rPr>
              <a:t> mediante la </a:t>
            </a:r>
            <a:r>
              <a:rPr b="1" lang="es-ES" sz="2700" spc="-1" strike="noStrike">
                <a:solidFill>
                  <a:srgbClr val="000000"/>
                </a:solidFill>
                <a:latin typeface="Century Schoolbook"/>
              </a:rPr>
              <a:t>relación causal</a:t>
            </a:r>
            <a:r>
              <a:rPr b="0" lang="es-ES" sz="2700" spc="-1" strike="noStrike">
                <a:solidFill>
                  <a:srgbClr val="000000"/>
                </a:solidFill>
                <a:latin typeface="Century Schoolbook"/>
              </a:rPr>
              <a:t> entre los elementos del estímulo y la respuesta que inciden en el organismo. 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Century Schoolbook"/>
              </a:rPr>
              <a:t>Para Watson los </a:t>
            </a:r>
            <a:r>
              <a:rPr b="1" lang="es-ES" sz="2700" spc="-1" strike="noStrike">
                <a:solidFill>
                  <a:srgbClr val="000000"/>
                </a:solidFill>
                <a:latin typeface="Century Schoolbook"/>
              </a:rPr>
              <a:t>principios de asociación</a:t>
            </a:r>
            <a:r>
              <a:rPr b="0" lang="es-ES" sz="2700" spc="-1" strike="noStrike">
                <a:solidFill>
                  <a:srgbClr val="000000"/>
                </a:solidFill>
                <a:latin typeface="Century Schoolbook"/>
              </a:rPr>
              <a:t> eran la clave del crecimiento psicológico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Century Schoolbook"/>
              </a:rPr>
              <a:t>En los años 30 el </a:t>
            </a:r>
            <a:r>
              <a:rPr b="1" lang="es-ES" sz="2700" spc="-1" strike="noStrike">
                <a:solidFill>
                  <a:srgbClr val="000000"/>
                </a:solidFill>
                <a:latin typeface="Century Schoolbook"/>
              </a:rPr>
              <a:t>conductismo</a:t>
            </a:r>
            <a:r>
              <a:rPr b="0" lang="es-ES" sz="2700" spc="-1" strike="noStrike">
                <a:solidFill>
                  <a:srgbClr val="000000"/>
                </a:solidFill>
                <a:latin typeface="Century Schoolbook"/>
              </a:rPr>
              <a:t> dominaba la </a:t>
            </a:r>
            <a:r>
              <a:rPr b="1" lang="es-ES" sz="2700" spc="-1" strike="noStrike">
                <a:solidFill>
                  <a:srgbClr val="000000"/>
                </a:solidFill>
                <a:latin typeface="Century Schoolbook"/>
              </a:rPr>
              <a:t>psicología estadounidense.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3" name="Picture 2" descr="Skinner11a"/>
          <p:cNvPicPr/>
          <p:nvPr/>
        </p:nvPicPr>
        <p:blipFill>
          <a:blip r:embed="rId1"/>
          <a:stretch/>
        </p:blipFill>
        <p:spPr>
          <a:xfrm>
            <a:off x="2556000" y="981000"/>
            <a:ext cx="3539880" cy="4532400"/>
          </a:xfrm>
          <a:prstGeom prst="rect">
            <a:avLst/>
          </a:prstGeom>
          <a:ln w="0">
            <a:noFill/>
          </a:ln>
        </p:spPr>
      </p:pic>
      <p:sp>
        <p:nvSpPr>
          <p:cNvPr id="564" name="Rectangle 3"/>
          <p:cNvSpPr/>
          <p:nvPr/>
        </p:nvSpPr>
        <p:spPr>
          <a:xfrm>
            <a:off x="2268360" y="58770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575f6d"/>
                </a:solidFill>
                <a:latin typeface="Constantia"/>
              </a:rPr>
              <a:t>B. F. Skin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575f6d"/>
                </a:solidFill>
                <a:latin typeface="Constantia"/>
              </a:rPr>
              <a:t>(1904 – 199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100" spc="-1" strike="noStrike">
                <a:solidFill>
                  <a:srgbClr val="575f6d"/>
                </a:solidFill>
                <a:latin typeface="Century Schoolbook"/>
              </a:rPr>
              <a:t>EL CONDUCTISMO RADICAL</a:t>
            </a:r>
            <a:endParaRPr b="0" lang="en-US" sz="41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66" name=""/>
          <p:cNvSpPr txBox="1"/>
          <p:nvPr/>
        </p:nvSpPr>
        <p:spPr>
          <a:xfrm>
            <a:off x="457200" y="171936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7" name="Rectangle 4"/>
          <p:cNvSpPr/>
          <p:nvPr/>
        </p:nvSpPr>
        <p:spPr>
          <a:xfrm>
            <a:off x="395280" y="1557360"/>
            <a:ext cx="85694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000099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Característica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000099"/>
              </a:buClr>
              <a:buSzPct val="60000"/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Teórico ambientalis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000099"/>
              </a:buClr>
              <a:buSzPct val="60000"/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Investigador experimental y aplicad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000099"/>
              </a:buClr>
              <a:buSzPct val="60000"/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Describe mas que explic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000099"/>
              </a:buClr>
              <a:buSzPct val="60000"/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Creador del paradigma Operante y el análisis conductual aplicad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000099"/>
              </a:buClr>
              <a:buSzPct val="60000"/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Intenta construir un sistema empírico que no precise de un marco teórico para organizar los dato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000099"/>
              </a:buClr>
              <a:buSzPct val="60000"/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100" spc="-1" strike="noStrike">
                <a:solidFill>
                  <a:srgbClr val="575f6d"/>
                </a:solidFill>
                <a:latin typeface="Century Schoolbook"/>
              </a:rPr>
              <a:t>EL CONDUCTISMO RADICAL</a:t>
            </a:r>
            <a:endParaRPr b="0" lang="en-US" sz="41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457200" y="171936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0" name="Rectangle 4"/>
          <p:cNvSpPr/>
          <p:nvPr/>
        </p:nvSpPr>
        <p:spPr>
          <a:xfrm>
            <a:off x="395280" y="1557360"/>
            <a:ext cx="85694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1680" indent="-5716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3b435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0000"/>
                </a:solidFill>
                <a:latin typeface="Century Schoolbook"/>
              </a:rPr>
              <a:t>Psicología</a:t>
            </a: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. </a:t>
            </a:r>
            <a:r>
              <a:rPr b="1" lang="es-MX" sz="2600" spc="-1" strike="noStrike">
                <a:solidFill>
                  <a:srgbClr val="000000"/>
                </a:solidFill>
                <a:latin typeface="Century Schoolbook"/>
              </a:rPr>
              <a:t>Investigar leyes entre variables observables</a:t>
            </a: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, sacar lo oculto en lugar de especul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3b435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Acontecimientos privados tienen limitada accesibilidad a la investigación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3b435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0000"/>
                </a:solidFill>
                <a:latin typeface="Century Schoolbook"/>
              </a:rPr>
              <a:t>Rechaza causas internas de la conducta</a:t>
            </a: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3b435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Se aparta de Watson, en cuanto </a:t>
            </a:r>
            <a:r>
              <a:rPr b="1" lang="es-MX" sz="2600" spc="-1" strike="noStrike">
                <a:solidFill>
                  <a:srgbClr val="000000"/>
                </a:solidFill>
                <a:latin typeface="Century Schoolbook"/>
              </a:rPr>
              <a:t>acepta</a:t>
            </a: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 el </a:t>
            </a:r>
            <a:r>
              <a:rPr b="1" lang="es-MX" sz="2600" spc="-1" strike="noStrike">
                <a:solidFill>
                  <a:srgbClr val="000000"/>
                </a:solidFill>
                <a:latin typeface="Century Schoolbook"/>
              </a:rPr>
              <a:t>pensamiento</a:t>
            </a: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 y otras conductas privadas que se </a:t>
            </a:r>
            <a:r>
              <a:rPr b="1" lang="es-MX" sz="2600" spc="-1" strike="noStrike">
                <a:solidFill>
                  <a:srgbClr val="000000"/>
                </a:solidFill>
                <a:latin typeface="Century Schoolbook"/>
              </a:rPr>
              <a:t>reflejen verbalmente</a:t>
            </a: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3b435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3b435b"/>
              </a:buClr>
              <a:buSzPct val="60000"/>
              <a:buFont typeface="Century School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100" spc="-1" strike="noStrike">
                <a:solidFill>
                  <a:srgbClr val="575f6d"/>
                </a:solidFill>
                <a:latin typeface="Century Schoolbook"/>
              </a:rPr>
              <a:t>EL CONDUCTISMO RADICAL</a:t>
            </a:r>
            <a:endParaRPr b="0" lang="en-US" sz="41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72" name=""/>
          <p:cNvSpPr txBox="1"/>
          <p:nvPr/>
        </p:nvSpPr>
        <p:spPr>
          <a:xfrm>
            <a:off x="457200" y="171936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3" name="Rectangle 4"/>
          <p:cNvSpPr/>
          <p:nvPr/>
        </p:nvSpPr>
        <p:spPr>
          <a:xfrm>
            <a:off x="395280" y="1557360"/>
            <a:ext cx="85694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1680" indent="-5716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3b435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La </a:t>
            </a:r>
            <a:r>
              <a:rPr b="1" lang="es-MX" sz="2600" spc="-1" strike="noStrike">
                <a:solidFill>
                  <a:srgbClr val="000000"/>
                </a:solidFill>
                <a:latin typeface="Century Schoolbook"/>
              </a:rPr>
              <a:t>conducta está determinada por el ambiente</a:t>
            </a: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3b435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Su </a:t>
            </a:r>
            <a:r>
              <a:rPr b="1" lang="es-MX" sz="2600" spc="-1" strike="noStrike">
                <a:solidFill>
                  <a:srgbClr val="000000"/>
                </a:solidFill>
                <a:latin typeface="Century Schoolbook"/>
              </a:rPr>
              <a:t>proceso de adquisición</a:t>
            </a: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, la </a:t>
            </a:r>
            <a:r>
              <a:rPr b="1" lang="es-MX" sz="2600" spc="-1" strike="noStrike">
                <a:solidFill>
                  <a:srgbClr val="000000"/>
                </a:solidFill>
                <a:latin typeface="Century Schoolbook"/>
              </a:rPr>
              <a:t>experiencia</a:t>
            </a: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  es importante para determinar personalidad y disturbios en la conduct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3b435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Considera: Conductas respondientes, mediadas por S.N.A.(reflejas) y C. Operant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100" spc="-1" strike="noStrike">
                <a:solidFill>
                  <a:srgbClr val="575f6d"/>
                </a:solidFill>
                <a:latin typeface="Century Schoolbook"/>
              </a:rPr>
              <a:t>HUMOR CONDICIONADO</a:t>
            </a:r>
            <a:endParaRPr b="0" lang="en-US" sz="41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575" name="Picture 4" descr="Explorar2"/>
          <p:cNvPicPr/>
          <p:nvPr/>
        </p:nvPicPr>
        <p:blipFill>
          <a:blip r:embed="rId1"/>
          <a:stretch/>
        </p:blipFill>
        <p:spPr>
          <a:xfrm>
            <a:off x="1116000" y="1557360"/>
            <a:ext cx="7201080" cy="4824360"/>
          </a:xfrm>
          <a:prstGeom prst="rect">
            <a:avLst/>
          </a:prstGeom>
          <a:ln w="0">
            <a:noFill/>
          </a:ln>
        </p:spPr>
      </p:pic>
      <p:sp>
        <p:nvSpPr>
          <p:cNvPr id="576" name="Rectangle 3"/>
          <p:cNvSpPr/>
          <p:nvPr/>
        </p:nvSpPr>
        <p:spPr>
          <a:xfrm>
            <a:off x="395280" y="1557360"/>
            <a:ext cx="85694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1680" indent="-5716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3b435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000" spc="-1" strike="noStrike">
                <a:solidFill>
                  <a:srgbClr val="575f6d"/>
                </a:solidFill>
                <a:latin typeface="Century Schoolbook"/>
              </a:rPr>
              <a:t>TIPOS DE CONDICIONAMIENTO OPERANT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" sz="18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9" name=""/>
          <p:cNvGraphicFramePr/>
          <p:nvPr/>
        </p:nvGraphicFramePr>
        <p:xfrm>
          <a:off x="324000" y="189000"/>
          <a:ext cx="8496000" cy="6591240"/>
        </p:xfrm>
        <a:graphic>
          <a:graphicData uri="http://schemas.openxmlformats.org/drawingml/2006/table">
            <a:tbl>
              <a:tblPr/>
              <a:tblGrid>
                <a:gridCol w="1487160"/>
                <a:gridCol w="2124360"/>
                <a:gridCol w="2512800"/>
                <a:gridCol w="2371680"/>
              </a:tblGrid>
              <a:tr h="52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PRINCIP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PROCEDIMIEN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EFECT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EJEMPL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</a:tr>
              <a:tr h="958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REFUERZO POSITIV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La respuesta produce un acontecimiento agrad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Fortalece o incrementa la conducta que precede a la ocurrencia del estímul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R. 1°: comida, agua, sex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R. 2°: dinero, alabanz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1798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REFUERZO NEGATIV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La respuesta impide la presentación de un estímulo aversiv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Fortalece la conducta que permite evitar o escapar del estímul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Condic. Escape: tomar una aspirina para no tener dolor de cabeza (inmediato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Condic. Evitación:  usar crema protectora para evitar quemaduras de sol (a futuro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11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CASTIG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La respuesta produce un estímulo aversivo  (indeseabl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Disminuye o suprime la respuesta. Los organismos dejan de realizar conductas con consecuencias aversiv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Multa, por exceso de velocidad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Irse suspendido, por faltar a clas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958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ENTRENAMIENTO POR OMIS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La respuesta interrumpe o impide un estímulo agrad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Debilita la conducta que precede a la pérdida del estímul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Los padres dejan sin auto a su hijo durante el fin de sema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11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EXTINC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Si una respuesta aprendida no se refuerza, gradualmente deja de realizar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Disminuye o desaparece la respuesta reforzada previamen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Si un programa de TV te aburre, con el tiempo dejarás de verl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APLICACIÓ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81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Cualquier evento cuya presencia incrementa la probabilidad de que vuelva a ocurrir la conducta en curso se llama…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¿Cuál de los siguientes no es un ejemplo de conducta operante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entury Schoolbook"/>
              </a:rPr>
              <a:t>Una rata que presiona una palanca después de recibir comida por esta conducta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entury Schoolbook"/>
              </a:rPr>
              <a:t>Una rata que presiona una palanca para evitar una descarga por esta conducta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entury Schoolbook"/>
              </a:rPr>
              <a:t>Un niño que estudia para obtener la aprobación del maestro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entury Schoolbook"/>
              </a:rPr>
              <a:t>Un parpadeo después de un destello de luz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DIVERSIDAD-UNIVERSALIDAD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457200" y="2060280"/>
            <a:ext cx="8075520" cy="441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Debate respecto a la similitud o diferenciación entre las persona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¿las personas se parecen entre sí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¿Qué ocurre entre los diversos grupos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¿los chilenos somos iguales o hay diferencias entre nosotros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575f6d"/>
                </a:solidFill>
                <a:latin typeface="Century Schoolbook"/>
              </a:rPr>
              <a:t>QUE NOMBRE RECIBE CADA UNA DE LAS SIGUIENTES ACCIONES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83" name=""/>
          <p:cNvSpPr txBox="1"/>
          <p:nvPr/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Recibir un diploma por realizar un curs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Tomar un paraguas para no mojarse o pagar la hipoteca para evitar un embarg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Una persona realiza ventas por comisió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Un soldado es detenido por ausentarse del cuart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Un padre le dice a su hijo: “si estudias te daré un premio…”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Un caballo galopa para escapar de la fusta de un jinet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575f6d"/>
                </a:solidFill>
                <a:latin typeface="Century Schoolbook"/>
              </a:rPr>
              <a:t>ACTIVIDAD EN AUL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85" name=""/>
          <p:cNvSpPr txBox="1"/>
          <p:nvPr/>
        </p:nvSpPr>
        <p:spPr>
          <a:xfrm>
            <a:off x="456840" y="2204640"/>
            <a:ext cx="8435880" cy="392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568180"/>
                </a:solidFill>
                <a:latin typeface="Verdana"/>
              </a:rPr>
              <a:t>Formen tríos entre sus compañer@s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568180"/>
                </a:solidFill>
                <a:latin typeface="Verdana"/>
              </a:rPr>
              <a:t>Elaboren un ejemplo aplicado al control conductual en la sala de clases de niños de 2ª Básico de acuerdo a: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lnSpc>
                <a:spcPct val="100000"/>
              </a:lnSpc>
              <a:spcBef>
                <a:spcPts val="476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568180"/>
                </a:solidFill>
                <a:latin typeface="Verdana"/>
              </a:rPr>
              <a:t>Entrenamiento de Recompensa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lnSpc>
                <a:spcPct val="100000"/>
              </a:lnSpc>
              <a:spcBef>
                <a:spcPts val="476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568180"/>
                </a:solidFill>
                <a:latin typeface="Verdana"/>
              </a:rPr>
              <a:t>Entrenamiento de Omisión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lnSpc>
                <a:spcPct val="100000"/>
              </a:lnSpc>
              <a:spcBef>
                <a:spcPts val="476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568180"/>
                </a:solidFill>
                <a:latin typeface="Verdana"/>
              </a:rPr>
              <a:t>Castigo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lnSpc>
                <a:spcPct val="100000"/>
              </a:lnSpc>
              <a:spcBef>
                <a:spcPts val="476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568180"/>
                </a:solidFill>
                <a:latin typeface="Verdana"/>
              </a:rPr>
              <a:t>Refuerzo Negativo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600" spc="-1" strike="noStrike">
                <a:solidFill>
                  <a:srgbClr val="568180"/>
                </a:solidFill>
                <a:latin typeface="Verdana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MENTE-CUERPO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456840" y="2060280"/>
            <a:ext cx="8147160" cy="441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¿Cómo están conectados la mente y el cuerpo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Se preocupa de estudiar la relación entre lo que sentimos (ej: pensamientos, sentimientos) y los procesos biológicos a la bas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REFLEXIONA SOBRE LAS SIGUIENTES SITUACIONE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457200" y="2133720"/>
            <a:ext cx="8291520" cy="43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Pedro siempre ha sido una persona más bien triste, siempre ha tenido amigos parecidos a él, ahora desde que dejó de pololear con Paola su ánimo ha decaído y le ha dicho a sus amigos que se va a suicidar…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¿Dónde radicará la causa de su conducta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REFLEXIONA SOBRE LAS SIGUIENTES SITUACIONE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62" name=""/>
          <p:cNvSpPr txBox="1"/>
          <p:nvPr/>
        </p:nvSpPr>
        <p:spPr>
          <a:xfrm>
            <a:off x="457200" y="1844280"/>
            <a:ext cx="8291520" cy="462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Juan es un niño de diez años,  hijo de padres divorciados, viene de un hogar con mucha violencia intrafamiliar. Cuando se enfada insulta y pega a sus compañero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¿Cuál será la posible causa de su conducta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3T02:59:52Z</dcterms:created>
  <dc:creator>Edita Núñez Sotelo</dc:creator>
  <dc:description/>
  <dc:language>en-US</dc:language>
  <cp:lastModifiedBy>AOgaldeS</cp:lastModifiedBy>
  <dcterms:modified xsi:type="dcterms:W3CDTF">2012-04-09T15:52:02Z</dcterms:modified>
  <cp:revision>13</cp:revision>
  <dc:subject/>
  <dc:title>Psicología</dc:title>
</cp:coreProperties>
</file>