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54B3-CF86-4EEA-9C00-B179BC355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0BC2-3764-45E0-926D-724F557FB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E051-42ED-4B5E-841C-77F5ACBF0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91BA-2E31-4A97-9662-A6F376212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C4D18-1B2E-4075-A68C-F0170952A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93270-7B3C-489D-8DEF-2CFBE0F57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33EFD-3BDA-4376-BD2D-1684C5BF2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2686B-AD32-45BA-ADBD-757DC5E40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33083-1C62-4071-AD91-4EA5BB5E3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893C8-2178-423D-B003-FF817F55A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E8F7C-6983-4EA5-9D66-851A11FC0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32CB-3A3F-4593-8FB7-2E925BCD8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BA0DA-BE86-4FB9-96F0-C0E5A90B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49F86-397D-4084-BE18-8D5DF6F3C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05DE9-2F51-45AD-A6DF-942516FAC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83D3D-EF45-495F-96CD-8991E2E9D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076CD-8B3D-4EA9-84D6-974624F8E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EC8E6-3D3E-48B6-90EC-7DBDAEA5E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8AB29-68C4-41C2-9879-5DAFA06EB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F077D-03BB-4BB2-AB74-2612AAC5B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8B0CD-275C-40BE-BC61-BB68C4CE8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925C6-0027-4A0D-9592-EDFA11570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A4EB-9176-41CC-A694-F5A93A648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B0ECE-0FC5-4672-9482-A76273181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D9AF1-BC4B-472B-9333-C85EA631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8EB90-7298-44D3-A3C6-53157245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BDAC5-5173-4CC9-A7EB-F469979C7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DFB1A-C71E-4EE0-A57D-89144430A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CD9A4-9ED3-404B-BC48-E7CA771A6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1C56A-E179-4B8C-B311-D0CBE92E9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C8475-7F1C-4AA1-A39D-7AD7DDB7D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9F12F-C84A-4614-91B4-746474EE2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CB577-3943-41ED-8044-2A98611BF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39D9-C4A5-4A24-9AE5-F82ABC1F5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4A2E6-1CA2-4E9F-A78A-8DFCDB2D3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71268-C220-42E7-B020-A96EE5762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3BC14-4B45-4F55-B482-D8AE798EF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39D94-E3FA-4AB3-B344-9A04A55F5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B7B6E-6E13-4067-A9E3-E25E4F16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7BF93-15E6-4CC0-B200-9C8A8BF7A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8F139-7397-4A88-A23C-671B8856C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0D752-09E7-42BC-AB2F-D153D5427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E3B48-925F-484A-9AAB-C63169057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DA5F-1555-480D-B53C-5F86B0D0C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77B3-D959-4598-9914-7ED5A3DFD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A563-9FDF-4D38-A457-FB68683C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59F3-991C-4A50-93A5-9F250B98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A67C-E05F-43B0-9843-603F9A93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61D7D-426F-43E6-8C54-274537094488}" type="slidenum">
              <a:rPr b="0" lang="es-C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5ACEE-382A-41A1-B25B-FF41C5DC6609}" type="slidenum">
              <a:rPr b="0" lang="es-C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F2F24-C8AC-4F62-BFE2-72509DA80E28}" type="slidenum">
              <a:rPr b="0" lang="es-C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C97AC-6C50-4EA0-B558-873C0721DB2B}" type="slidenum">
              <a:rPr b="0" lang="es-C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1 Título" descr=""/>
          <p:cNvPicPr/>
          <p:nvPr/>
        </p:nvPicPr>
        <p:blipFill>
          <a:blip r:embed="rId1"/>
          <a:stretch/>
        </p:blipFill>
        <p:spPr>
          <a:xfrm>
            <a:off x="1994040" y="1206360"/>
            <a:ext cx="6186240" cy="19702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071720" y="35719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Constantia"/>
              </a:rPr>
              <a:t>Edita Núñez Sotelo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Constantia"/>
              </a:rPr>
              <a:t>Ps. U. de Chile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Constantia"/>
              </a:rPr>
              <a:t>Mg. Desarrollo Cognitivo UDP 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Dualismo mente-cuerp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La teoría de Descartes dividió el campo de estudio de la conducta humana y surgieron dos tradiciones distint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l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estudio de la mente humana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y su funcionamiento. La introspección fue su método de análisi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investigación sobre los reflejos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. Cómo estos son provocados por estímulos externos que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activan los órganos sensoriales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. Su estudio fue realizado por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fisiólogos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, mediante la observación y la experimentació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Ideas previas…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entido Común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jercicio práctico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on su compañero/a, reflexione acerca de las ideas de sentido común relacionadas con el saber y la práctica de la psicologí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Psicología del sentido comú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Existencia previa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, en todos nosotros, de ideas, creencias y teorías acerca de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por qué las personas hacen lo que hace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Es un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característica universal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de los seres humano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Es l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herramienta fundamental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para el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entendimiento, predicción y control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de l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conducta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de los demá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Se basa en el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supuesto de igualdad…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lo que es válido para mí debe serlo para todo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No obstante esto, se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debe huir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del sentido comú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intuición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no es un criterio válido para construir ciencia psicológi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Objetivo de la psic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500040" y="1484280"/>
            <a:ext cx="84549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Sentido común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: válido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sólo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para el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establecimiento de hipótesi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, no para su comprobació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conducta human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, como objeto de estudio, debe ser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independiente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de nosotros mism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500" spc="-1" strike="noStrike">
                <a:solidFill>
                  <a:srgbClr val="04617b"/>
                </a:solidFill>
                <a:latin typeface="Calibri"/>
              </a:rPr>
              <a:t>Finalmente…</a:t>
            </a:r>
            <a:br>
              <a:rPr sz="4500"/>
            </a:br>
            <a:r>
              <a:rPr b="0" lang="es-CL" sz="4500" spc="-1" strike="noStrike">
                <a:solidFill>
                  <a:srgbClr val="04617b"/>
                </a:solidFill>
                <a:latin typeface="Calibri"/>
              </a:rPr>
              <a:t>¿Qué estudia la Psicología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psicología es una ciencia que estudia el comportamiento de los seres vivos y los procesos mentales por los que los sujetos conocen y se orientan en su entorno y aprenden de la experie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aracterístic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 una cienci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experiment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Utilización método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hipotético-deductiv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Observación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rigurosa y sistemática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de los fenómenos psicológic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arte de los hechos y busca sus regularidades mediante la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verificación empíric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aracterístic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s una ciencia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ecléctic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Recoge datos aportados por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otras disciplinas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(biología, sociología, antropología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osee un carácter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multidisciplinar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, ya qu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está interesada en el comportamiento (psicología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De un organismo (biología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Que aprende a adaptarse al medio ambiente (ecología) cambiant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Mediante la relación con otros seres (sociología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Sin olvidar la cultura en la cual se desarroll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aracterístic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psicología opera con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istintos niveles de análi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Todas las disciplinas pertenecientes a esta ciencia trabajan en alguno de dichos nive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Un psicólogo social se ocupa mas del estudio de  los grup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Un psicólogo clínico se centrará en el diagnóstico y tratamiento de individuos con problemas emocionales o de conduct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aracterístic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iversas concepciones acerca de la psicología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penden de las distintas ideas sobre la naturaleza del ser humano (filosofía) y de las formas del conocimiento (epistemología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presentació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onverse con su compañero/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porqué eligió estudiar bachillerato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Qué experiencia cercana ha tenido con la labor de los psicólogos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Reflexione brevemente respecto de cómo se vivió el último terremoto que afectó a nuestro paí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Cómo ha sido la conducta de las personas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Que emociones nos han invadido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cree usted que en estas circunstancias son necesario los psicólogos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57200" y="1935000"/>
          <a:ext cx="8229600" cy="4043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Niveles de análi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alternativ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pec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umana, otras espec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ltu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atina, gitana, anglosajona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ru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amilia, pandilla, grupo, equi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í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reja, díada madre-hijo, profesor-alumno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ndividu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dultos, niños, discapacitados, estudiantes universitarios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roceso psicológ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ersonalidad, atención memoria, motivación, inteligencia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omponente psicológ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onducta manifiesta, bases fisiológicas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9292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Objetivos de la psic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182600" y="1773000"/>
            <a:ext cx="777240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omo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disciplina académic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, bus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Describir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: la tarea básica de la psicología es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recoger datos y recabar información detallad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sobre los procesos cognitivos y los comportamient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j: si un sujeto padece insomnio hay que investigar que estímulos influyen, en que situaciones se produce, o que problema le impide conciliar el sueñ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Objetivos de la psic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Explicar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 la psicología no se conforma con describir los hechos,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trata de averiguar las causas de determinada conduct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ara ello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formula hipótesis o explicaciones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basadas en una teorí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iempre son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rovisionales y sujetas a revisión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, a medida que se tiene mayor conocimiento de la conducta que se investig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Objetivos de la psic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redecir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 es 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apacidad para pronosticar un comportamient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Una relación causa-efecto dentro del ambiente nos asegura con bastante fiabilidad que unos hechos preceden a otro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: Podemos saber si alguien mantendrá una conversación con nosotros por su forma de mirarno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prender  a predecir acontecimientos es necesario para adaptarnos a nuestro entorn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Objetivos de la psic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42960" y="157140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ontrolar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 signific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lterar las condiciones que influyen en el comportamiento de manera predecib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j: si una profesora sugiere cambios en clase para ayudar a adolescentes en su aprendizaje, ha ejercido un contro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No obstante esto, algunas actividades humanas no son normales porque ocurren en situaciones inapropiad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Gritar se aprueba socialmente si uno se encuentra viendo un partido de fútbol, pero se prohíbe en una catedral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Tipos de preguntas que se hacen en psicologí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Nivel fisiológico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: por ejemplo a nivel de anatomía, fisiología, etc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Nivel fenomenológico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: relacionadas con la experiencia subjetiva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Nivel conductual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: hace referencia 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características del comportamiento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que pueden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ser observadas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de modo objetivo. Aplicación del método científico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En este último nivel trabaja la psicología científic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Tipos de respuestas en psicologí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Análisis de la conducta con el objetivo de entender la organización interna del sistem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Tipos de respuestas en psicologí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Establecimiento de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relaciones funcionales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entre situaciones (estímulos) y conducta: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una relación funcional es un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descripción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de la conducta o los cambios conductuales que suceden en una determinada situación ambienta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La relación funcional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describe pero no explic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Tipos de respuestas en psicologí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Descubrimiento de l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estructura y procesos internos del sistem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Se busca un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explicación de las razones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por las cuales el sistema se comporta como lo hace en una situación dad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Aproximación  a l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“caja negra”…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visualización del cerebro en acció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42920" y="115560"/>
            <a:ext cx="7793280" cy="1343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La caja negra en el estudio de los procesos psicológicos superiores…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4360" y="1557360"/>
            <a:ext cx="82706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Cuerpo de conocimiento de cómo está estructurado nuestro sistema cognitivo y como realizan sus funcion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Por ejemplo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Sensación y Percepció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Atención y concienc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Emoción, sentimientos y estados de ánim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Memor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Inteligenc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Aprendizaj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ntecedentes histór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sde siempre ha existido interés por comprender nuestra conducta y la de nuestros semejant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épocas pasadas la vida humana era más simple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la actualidad, nuestra sociedad es má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omplej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y mas postmoderna, requerimos más información para poder funcion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7932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El método científic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84360" y="1268280"/>
            <a:ext cx="8270640" cy="486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a aplicación del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método científico valid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al objeto de estudi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Controversia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respecto a lo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fenomenológic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n investigació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Lo cuantitativ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Lo cualitativ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9328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El método científic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971640" y="1341000"/>
            <a:ext cx="7772400" cy="47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Método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hipotético-deductivo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omienza con un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ide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, presentimiento, intuición o suposición acerca de algo, lo que se constituye como l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hipóte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e realizan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prediccione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(preguntas) sobre las conductas observab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83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El método científic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187280" y="1125360"/>
            <a:ext cx="77724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Generalización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de resultad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Mayoritariamente, el objetivo de los estudios psicológicos es la comprobación de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hipótesis generale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que son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aplicable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a l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población en general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y no solo a los sujetos participantes en el estudi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El método científico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182600" y="1052280"/>
            <a:ext cx="7772400" cy="50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Factore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a considerar para poder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generalizar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los resultad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Tamaño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de la muestra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Muestra amplia y datos promediad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elección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aleatori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de los sujetos de la muestr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replicabilidad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del estudio por otros investigadores en otras ciudades o país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distingue entre ciencia básica y ciencia aplicad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básica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dedica a 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investigación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de los procesos psicológicos mediante el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método científic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aplicada utiliz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onocimiento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n los diferentes ambientes donde los individuos actúa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general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ocupa d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investigar la naturaleza y funcionamiento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 los “procesos psicológicos básicos” como la percepción, la memoria o el pensamien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experimental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tudia los procesos psicológicos mediant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iseños experimentales de laboratori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. Es el área de la psicología más rigurosa y científica y utiliza tanto animales como seres humanos en sus investigacio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biologí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sicobiólogos estudian la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bases biológicas del comportamient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, no sólo el sistema nervioso y endocrino, sino también las influencias de la genética o la farmacología en la conduct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: ¿porqué unas lesiones del cerebro producen pérdida de memoria y otras causan trastornos del lenguaje?...¿qué áreas cerebrales son importantes en las emociones humana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evolutiv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Ésta se preocupa de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ambio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de 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onduct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que se producen durante el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esarrollo del ciclo vit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: ¿Cuáles son las etapas del desarrollo de la inteligencia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¿hay una decadencia de la memoria en la vejez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social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u campo de estudio es muy amplio y abarca problemas diversos, como el análisis de la publicidad o las influencias de un grupo sobre el individu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: ¿Cómo influye la sociedad en el comportamiento de los individuo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de la personalida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sicólogos de la personalidad investigan qu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aracterísticas definen a una person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, como interactúan las fuerzas genéticas y ambientales en la personalidad del individuo y porqué este se comporta de una forma y no de otr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: ¿se nace con determinada personalidad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etim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palabra Psicología proviene de dos términos grieg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600" spc="-1" strike="noStrike">
                <a:solidFill>
                  <a:srgbClr val="000000"/>
                </a:solidFill>
                <a:latin typeface="Constantia"/>
              </a:rPr>
              <a:t>Psyché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y </a:t>
            </a:r>
            <a:r>
              <a:rPr b="1" i="1" lang="es-CL" sz="2600" spc="-1" strike="noStrike">
                <a:solidFill>
                  <a:srgbClr val="000000"/>
                </a:solidFill>
                <a:latin typeface="Constantia"/>
              </a:rPr>
              <a:t>logos</a:t>
            </a:r>
            <a:r>
              <a:rPr b="0" i="1" lang="es-CL" sz="26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que significan alma (entendida como lo que “anima” o “da vida” al cuerpo),  y conocimiento o ciencia de la mism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us raíces se encuentran el la filosofía, la fisiología y la metodología científi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del aprendizaje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sicólogos del aprendizaje, mediante la investigación animal y humana, han demostrado algun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rocesos que influyen en el aprendizaje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y las diferencias entre las diversas especies respecto a su capacidad para aprender conductas concreta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diferenci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ta disciplina investiga la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iferencias individuales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que presentan los individuos, por ejemplo niños retrasados o superdotad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omparándolo con la media de su grupo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 refere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u principal herramienta es la utilización d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test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psicológicos par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estudiar distintas capacidades human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cultur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sicólogos culturales investigan la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forma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n que 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ultura afecta al pensamiento y al comportamiento human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lenguaje que hablamos, la educación que recibimos, las leyes que obedecemos y otros muchos comportamientos dependen de la cultura en la que hemos creíd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del géner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tudia la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iferencias entre hombres y mujere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y la forma en que se desarrolla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factores biológicos, la crianza, la educación, los estereotipos influyen en la diferencia de géner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iberpsicologí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Internet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s un marco de referencia para diseñar estudios experimentales, crear aulas virtuales en las que desarrollar nuevos enfoques docentes o crear nuevos procedimientos de investigación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aplicad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ocupa de 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funcionalidad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de los procesos psicológicos en los contextos donde los individuos actúa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tiende a la dimensión normal, individual o colectiva y también a la conducta patológi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aplicad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educativ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sicólogos educativos analizan la realidad educativa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realizan e interpretan pruebas psicológicas para ayudar a los estudiantes en sus decisio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Orientan a padres y profesores para lograr mejor rendimiento de los años escolar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: ¿Cómo pueden los niños mejorar su aprendizaje y su creatividad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aplicad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clínic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sicólogos clínicos diagnostican y tratan problemas emocionales y de conducta, desde los más débiles, como falta de autoestima o timidez, hasta los más problemáticos como la separación de parejas, el estrés o la depresió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yudan al ser humano a enfrentarse a su propio sufrimien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aplicad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industrial y de las organizacio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ocupa de la selección y entrenamiento de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trabajadore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y d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mejorar las relaciones humana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n el ámbito labor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onstantia"/>
              </a:rPr>
              <a:t>Taller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ntecedentes histór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su devenir histórico la psicología ha tenido varios objetos de estudi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El alm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La men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La conduct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limitar su campo de investigación y crear métodos y técnicas propias permitieron su independe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ntecedentes histór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la Grecia antigua,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latón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defendía un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oncepción dualista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 la naturaleza human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hombre estaba compuesto de alma y cuerp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lm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ra d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origen divin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, una realidad distinta el cuerpo material, y a consecuencia de una culpa cometida llegó desde el otro mundo a encarnarse en un cuerpo mort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ntecedentes histór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Más tarde,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ristótele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concibió la </a:t>
            </a:r>
            <a:r>
              <a:rPr b="1" i="1" lang="es-CL" sz="2600" spc="-1" strike="noStrike">
                <a:solidFill>
                  <a:srgbClr val="000000"/>
                </a:solidFill>
                <a:latin typeface="Constantia"/>
              </a:rPr>
              <a:t>psyché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como un elemento o principio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biológic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lm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ra así un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ropiedad esencial del ser viv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, y no era independiente del cuerp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Fuera de este el alma carecía de sentido y existe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tas dos ideas de “alma” integradas en un horizonte filosófico son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inicios de la psicologí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ntecedentes histór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el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siglo XVII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produce un cambio de perspectiva con el comienzo de la filosofía moderna atribuida al filósofo y matemático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René Descart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ntes de sus ideas, cualquier función vital de los organismos se explicaba por la existencia del alm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Nadie pensaba que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ctos humanos pudieran deberse a la influencia de estímulos ambienta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ntecedentes histór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escarte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formuló un visión de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ct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Voluntarios e involuntari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lgunos actos como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reflejo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son reacciones automáticas 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involuntarias a estímulos extern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Otras acciones son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voluntarias, gobernadas por la mente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(entidad no física) y debidas a que la persona elige comportarse así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01:55:38Z</dcterms:created>
  <dc:creator>Edita Núñez Sotelo</dc:creator>
  <dc:description/>
  <dc:language>en-US</dc:language>
  <cp:lastModifiedBy>Edita Núñez Sotelo</cp:lastModifiedBy>
  <dcterms:modified xsi:type="dcterms:W3CDTF">2012-03-12T03:23:43Z</dcterms:modified>
  <cp:revision>13</cp:revision>
  <dc:subject/>
  <dc:title>PSICOLOGÍA</dc:title>
</cp:coreProperties>
</file>