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EDD4-2BB3-400D-A389-5487457A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31D0-83DD-4EBB-AC58-CF520A9D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F6AF-5F50-41DA-AA4C-0681EB00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A64B-8488-40FF-A51C-8D9065CA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E794-6C1B-4D6C-916C-698FC704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3566-61ED-485F-B637-597BC951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B8D0-ED50-425C-9356-2F8632EE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C38C-12CC-40E6-90EF-F1981600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48C2-4C11-4D3D-B927-07B70D70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639D-8613-4A7A-8997-8EF23F3D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7DB9-4E9A-4CA8-BC62-C2BF6BF5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2E6E-7627-4BC1-BE30-B5020F47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6F1B-27D1-461E-982F-6A226DFC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CAB5-92C6-43D4-B3C6-513EFC99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8703-A2BF-476A-B60F-724A1C5C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53C9-0985-4957-8D3B-AB8CD536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4D7C-9E7C-4C22-BB72-43816192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8CACD-D324-4E9C-B5A0-94C8DF02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294E1-5522-4DE2-90BE-0CE3E017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F239E-1CD6-4E67-AC30-B9FBACAF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1BE81-4C0E-4E87-B729-2FC7F1D8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A560C-9052-413D-B644-D08B4E9E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1E3-1984-4470-BA81-45677F07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B0652-2296-4329-91BC-294C95E1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04CB4-9233-4401-AA89-75611C6E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21B4F-8152-4569-8648-3FD4501F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36A35-6760-416D-A2B3-331C8828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011A3-90D1-41DD-B58C-BDFD57EF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913F1-4587-46BD-A786-E3EEA853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7A061-9186-46A3-8AB6-CA7662C2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4E209-C12F-4D69-BD17-7FA16802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C52D0-58E7-44E4-8628-AB4F6073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118A7-95E6-404C-BA99-8AA571E0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C4A-EAC2-4AD2-831A-4E5BFE34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09306-FD3E-4781-8DF1-8A240DEB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21640-2EF3-46CF-B897-4C23A666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0AD62-C1BB-4095-9006-62877813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6B96E-4520-4ACD-AFAC-A0CDC700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AF291-E518-42F1-BED3-2E105827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DAACF-C499-4373-8824-52640DDF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5E66A-33C3-4101-B982-5FC4B47D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ED752-F8B3-4C03-8AC1-9B3B9AFB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BEFCB-11C9-4BAC-8C8C-770FAE48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2B9C1-1786-4AD5-85C6-C3630CEC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AE9D-AD68-4FE8-B9CF-A2E14911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FAF5C-4993-4520-A949-E8C58253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342F9-7B52-4A8A-B6C1-F0B5AA88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5E194-EBF8-482E-B217-8DC9908F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43F1D-80D1-4A56-B194-B8C044BA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71FC8-9360-489E-B367-F33E6120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7CAC1-B5C1-48A6-8C9E-93A39B09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609DD-B4DA-462A-BF74-0D9F890E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FE6F1-7668-42C9-94E9-7AE9A502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6669D-D4AE-4377-B4F1-47AFCB13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9818F-F85E-48DC-9CB8-BCEDE5C7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F8D3-44D0-4DF7-9D00-F7190EF4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F1E93-0D47-47F6-B328-0C2B1583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F5C4D-7847-4AAA-9EAB-FEDCB351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CF754-0177-4555-BB77-A24F0511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E06F2-82AE-4BD2-B9D0-533524EC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B3002-5FEC-4547-B615-8CFB346E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7B575-5DA4-4B20-B6EE-22BB2EAC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6CDDD-06B2-4EBD-AF03-538FCDA8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94B5F-AC76-463C-B973-5660083B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30D31-555B-4691-B748-7EF1B3F5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E8EAE-8B75-44B8-8C59-6E2FB0B8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FEB-2B59-43CC-8587-B97EC6C4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6C5B8-4C59-4631-AB22-40538229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40E60-7BD3-4F39-9391-E9010B2A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F9C61-8F3F-4EDA-AA99-826F7783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5E0D9-E6A5-4656-B203-85209821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9F0C4-1B33-4C28-B6CB-47C73CCC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7635A-258A-49FC-97F0-65C52F36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C7AB6-EC95-4FD2-B68E-8EF5E65E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AAAAE-48E6-49FB-A073-7DA16690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9A669-D71C-4171-AF9A-BBFEBBBE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69C8A-464B-45F7-A97D-465436C9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7C2-9D7A-4FC1-90DD-80041994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9E184-3E04-4614-A79C-B0D2CFBE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0FF9F-3478-4DFC-8153-1BA1C7DB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37686-6E96-466B-9D6B-602B13F7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7F6F9-6CA4-43E9-B982-402AFE82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8DF32-D194-4042-AFBC-A49149D5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E17D6-0843-424E-88A8-703C6F8B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42280-C983-428A-9B0C-24389FD7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04DBD-99A9-4746-9B5A-77BAC155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12344-19E4-4F38-A056-DD1FE04E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3109C-707B-40E6-AE82-415F83F1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AED5-619E-43C6-A191-7059C2F2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80752-0E4C-478F-856E-E58E7850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FCAA8-20AD-4262-9DFC-1FA7088C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F2F76-5047-4B14-934A-0B7018D4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3637B-B217-4020-A0C3-0A09E724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4ABBB-BE0C-48F1-B8EC-20907E85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D018B-ACD1-4F5D-AB34-358EA27A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51E9C-A3DE-42B5-923B-1B5B01A2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471E-74C1-4E2E-994F-4EE77255F7F9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14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15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BA7C-4D34-453F-8A85-7CC6014799EA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7908-ADA5-4668-85A7-2CD0CB9ED41A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450E-C0D7-4622-8703-3B06E1547B5A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044D-43ED-4C5D-AB91-F5ADB218C908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14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281F-EA73-4760-8E72-7C3446719B47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14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5E91-A118-4E82-850F-FA6FFA1C3881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14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49F2-17C7-4FC3-AF81-414D01218688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15920"/>
            <a:ext cx="6858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Terapia Humanista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la tercera fuerza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La mente condicionada. Obstáculo que debe ser sorteado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El continuum del darse cuen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municación personal YO-TU en las que se expresan y reconocen las perspectivas subjetivas en su calidad de t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Inici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Sabiduría organísmi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 organismo, en su interacción con el medio, posee la capacidad de discriminar aquellas experiencias que le son o no enriquecedoras para si mismo en un momento d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2. Consciencia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Mor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Fisiológica. Desde una menor a una mayor cons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Darse cuenta 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univers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iveles de con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3. responsabilidad.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o somos prisioneros del condicionamien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1° término: Esta responsabilidad a la vez nos hace lib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2° término: Autorrealización del hombre en la salud y no centrado en la enfermeda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3° término: Confrontación en el aquí y en el aho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l cuerpo y el uso de técnicas no verb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4° término: Se amplia el espectro del terapeuta: psicologos, profesores, et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5° término: Exploración con drogas para investigar la existencia de realidades diferent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464653"/>
                </a:solidFill>
                <a:latin typeface="Bookman Old Style"/>
              </a:rPr>
              <a:t>Fundamentos de la psicología humanis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nfianza en la naturaleza y búsqueda de lo natural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ón incondicional de lo que somos y no pretender ser lo que no som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Énfasis en la expresión de lo personal y único en el desarrollo de la creatividad y en la capacidad de juego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entredicho los conceptos de normal y a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conocimiento de las limitaciones de la conciencia 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Trascendencia de la identidad personal egoica y reconocimiento y aceptacion de la totalidad que somos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reprimida o bloqueada que empobrece el verdadero potencial del ser human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Superación de la escisión mente-cuerpo. 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conocimiento de la comunicación con y desde el cuerp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equilibrio entre polaridades y revalorización de lo emocional, lo intuitivo, lo interno y el lenguaje del hemisferio derech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olaridades que finalmente armoniz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on y comprension 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Todas nuestras facet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0" name="Picture 2" descr="C:\Users\Edita Núñez Sotelo\Pictures\yinyan5.jpg"/>
          <p:cNvPicPr/>
          <p:nvPr/>
        </p:nvPicPr>
        <p:blipFill>
          <a:blip r:embed="rId1"/>
          <a:stretch/>
        </p:blipFill>
        <p:spPr>
          <a:xfrm>
            <a:off x="6012000" y="3584520"/>
            <a:ext cx="29145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1:55:27Z</dcterms:created>
  <dc:creator>Edita Núñez Sotelo</dc:creator>
  <dc:description/>
  <dc:language>en-US</dc:language>
  <cp:lastModifiedBy>Edita Núñez Sotelo</cp:lastModifiedBy>
  <dcterms:modified xsi:type="dcterms:W3CDTF">2012-04-23T03:02:00Z</dcterms:modified>
  <cp:revision>7</cp:revision>
  <dc:subject/>
  <dc:title>Diapositiva 1</dc:title>
</cp:coreProperties>
</file>