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E117-3277-4ABF-8763-DA4D954A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E0A-06DA-47F0-BC52-35AFE269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87E-07DE-41D5-8B34-DB555605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EA3-3335-48A3-BBCF-FB6189BC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1E74-A5F2-4E01-B7A8-55CC671C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B5EF-78F4-440D-83C5-3B7C3A2C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E11E-2E7B-4DF1-95FD-ACD62A51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5E15-DE2A-4A46-B02E-17D44ED3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6A9A-3601-40D1-80D6-DCC1D8A5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0C9A-980F-44F7-9FB3-1FDE48C3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EBFE-D19B-4884-B746-CC19A6F3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7925-9BAD-402E-B1E4-4D578E4D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E8DD-AF06-4547-90CF-96D4D9C8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4905-B685-4A6A-8711-22E235BF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C881-4EC3-4ECA-9A5B-85C86F4E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DB5F-7FC8-4DC8-A04A-559282AB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6D60-B942-4698-937F-8F365EA4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798F1-A016-4540-ADBC-99D982DB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0C94A-AB7D-4799-A758-4DE68266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D0EC6-F66D-4D6B-ADE7-3EF53F73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6F3A0-4C33-4FD6-91BB-8AB8D61B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E4F93-B20E-438D-84C4-4B604857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E81-652E-4D05-88C0-BC11651D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75BE7-E42E-42CE-97FF-DE913D3D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13E7A-EF3C-458A-8929-BDD33246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6FC8D-820B-4F48-92A4-BBC5989A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5424A-C227-43AD-AF7B-9BE3F063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40ACA-9B13-4950-8BEF-13A97D39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7324A-7E06-40E3-B6C0-3BDDB3CB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135DC-51EE-4FAF-B746-8186B136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345B4-2369-4A7B-B044-6B0E1313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FD09F-DB25-430F-B553-C72D2148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04664-FE33-40F1-B038-35B8238D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EF9-32B2-4F51-A7FC-CC83DD52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B2641-AC0E-4402-A447-15FFA19C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12DA9-9997-4AAF-ACFB-93342F0A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51BAA-5658-4415-81DF-085A7204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2E11C-B0CE-4D55-9899-92AFDEE1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69D2D-B33C-49F8-AEDA-DA40A87D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6D3D2-3F98-4836-B64A-83B3DD27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E6B13-9FF9-405D-AE2A-F37BFA5A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A1CC3-CFA7-42CA-A9C0-BCC527E8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6F0EC-17D6-463C-8390-7729C09A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BD5F6-60CD-4328-895E-94229CE0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E3B4-F89E-457D-B5AC-E15E6EB5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7AB8F-2340-4DE1-83B2-9DD56D20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0F157-8B0D-42DC-9FD8-55BDE458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F1D83-F712-4BF9-AC66-ED631DB9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B86F8-1D04-4307-B0C6-1538BA2F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55CC1-74A9-4081-B3F9-4C06210D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4FB00-6AF4-47D5-9257-CBD7E419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404BE-4E86-42A6-9DB4-6558C5C7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328E0-445A-49E1-B933-883BC557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9C976-DB7E-4378-A3A4-89CB6428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0D7DC-D3D5-46B0-A9B1-6715D4D4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B06-A937-40C8-924B-5EB3C759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6EE4D-AC09-4FEE-B328-30E662A0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1A956-7095-480C-8A98-31A2177D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81032-E8C2-49E8-A20D-FDF1AA92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F568A-F28A-40C1-B3B8-FDBA612C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B1EDC-2808-4336-B928-17792F61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CC81E-55DE-48CA-9138-C608E552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8F24F-7D47-46D6-9E68-042A4EEA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E3677-C405-4598-B6C0-F6D4996B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0A234-F783-4A94-B31D-D06DF4EF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0AD73-901C-42FE-96AA-8FC3D3D9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1E9-5313-49C9-88FD-6574110B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62150-D724-4484-88AA-5E33972F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37ACE-60DA-4149-A0B6-22E71BC2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7CFF9-9D1A-442A-BF08-956BF923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289ED-6663-4B42-9E30-4401198D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2A5CE-B8DF-4512-9274-847AEDB2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CC482-FD9B-4DB5-8D38-A611D223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F1146-A6F6-47E9-BBA5-1CCAC025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7C31A-6200-41E3-BA96-F879A5B8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8148E-5676-42E8-B13D-191ECB64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1591F-E9C1-4C6C-97CC-4BD3B068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E00-490F-4569-9357-3F85A1D4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ABFD1-40AA-4C74-8554-0470D1FE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9C4C1-C35B-4A07-9278-9B61DD30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D8FBE-A446-452A-B04B-7430630E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8C677-4D0E-4919-B058-7F77C87F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771B8-2DF9-446C-915C-76FF7C5E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864BF-4DB7-4D55-88A2-3F982629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5B8D0-9E61-47AC-8836-1E24FC82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B9524-A38D-439E-8700-A107AADA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03103-5407-4217-A9CB-D85E0C97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D5585-77BE-429C-8E1A-C74FB4A8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DB29-DD8D-4B2F-AF3B-886F873B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20FC9-7202-4C97-BB56-BEF48D23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A7221-AAA6-482D-9E6D-E433BA8C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1AEE7-CB68-4DD6-B2FA-1F6935B8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7D1E4-1B8D-4375-B296-0B373509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C83E4-0E25-436F-9D02-A90182E5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719DC-BC30-448D-98A7-57181544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D7AA2-69E3-4769-A3A3-012C8DE0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AB0C-44F6-4636-9426-725A7D2EA9CD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EB3B-F467-4CCD-969D-5B465A13526B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719E-622C-46E5-B0FE-CDFEFFAB8B82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9C0B-F2E0-49DC-BCEC-FDB915E69529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8F38-380E-4C41-B7E3-F8AC20378AC7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A9C2-1EB5-483B-B176-1795250543EB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DBB1-9E03-47F1-9FDD-30A15240D154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895C-6653-46AE-AC90-D367EFED6A1E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15920"/>
            <a:ext cx="6858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Terapia Humanista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la tercera fuerza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La mente condicionada. Obstáculo que debe ser sorteado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El continuum del darse cuen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municación personal YO-TU en las que se expresan y reconocen las perspectivas subjetivas en su calidad de t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Inici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Sabiduría organísm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organismo, en su interacción con el medio, posee la capacidad de discriminar aquellas experiencias que le son o no enriquecedoras para si mismo en un momento d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2. Consciencia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Mor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Fisiológica. Desde una menor a una mayor cons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Darse cuenta 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univers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iveles de con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3. responsabilidad.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o somos prisioneros del condicionamien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1° término: Esta responsabilidad a la vez nos hace lib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2° término: Autorrealización del hombre en la salud y no centrado en la enfermeda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3° término: Confrontación en el aquí y en el aho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l cuerpo y el uso de técnicas no verb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4° término: Se amplia el espectro del terapeuta: psicologos, profesores, et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5° término: Exploración con drogas para investigar la existencia de realidades diferent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464653"/>
                </a:solidFill>
                <a:latin typeface="Bookman Old Style"/>
              </a:rPr>
              <a:t>Fundamentos de la psicología humanis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nfianza en la naturaleza y búsqueda de lo natural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ón incondicional de lo que somos y no pretender ser lo que no som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Énfasis en la expresión de lo personal y único en el desarrollo de la creatividad y en la capacidad de juego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entredicho los conceptos de normal y a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conocimiento de las limitaciones de la conciencia 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Trascendencia de la identidad personal egoica y reconocimiento y aceptacion de la totalidad que somos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reprimida o bloqueada que empobrece el verdadero potencial del ser human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Superación de la escisión mente-cuerpo. 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conocimiento de la comunicación con y desde el cuerp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equilibrio entre polaridades y revalorización de lo emocional, lo intuitivo, lo interno y el lenguaje del hemisferio derech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olaridades que finalmente armon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on y comprensio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Todas nuestras facet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Picture 2" descr="C:\Users\Edita Núñez Sotelo\Pictures\yinyan5.jpg"/>
          <p:cNvPicPr/>
          <p:nvPr/>
        </p:nvPicPr>
        <p:blipFill>
          <a:blip r:embed="rId1"/>
          <a:stretch/>
        </p:blipFill>
        <p:spPr>
          <a:xfrm>
            <a:off x="6012000" y="3584520"/>
            <a:ext cx="29145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1:55:27Z</dcterms:created>
  <dc:creator>Edita Núñez Sotelo</dc:creator>
  <dc:description/>
  <dc:language>en-US</dc:language>
  <cp:lastModifiedBy>Edita Núñez Sotelo</cp:lastModifiedBy>
  <dcterms:modified xsi:type="dcterms:W3CDTF">2012-04-23T03:02:00Z</dcterms:modified>
  <cp:revision>7</cp:revision>
  <dc:subject/>
  <dc:title>Diapositiva 1</dc:title>
</cp:coreProperties>
</file>