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582-405E-4FB2-A44D-D68792D6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7C1-C7F8-415D-9154-7FDAC5AD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CECB-5B2E-48F7-A8F5-61B56A53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736-DA97-4012-8E0A-F2A5C161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9068-5C07-4732-AF36-C1C3AD18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0B64-E013-4D2F-A041-296320D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3321-D367-48E0-9F3A-A23C476B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6D70-A897-4E2B-9423-0C35F65B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419F-0214-47F9-A976-D97E91EB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502-6561-40E5-A279-69C71A42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668E-C981-465A-BDEC-5D5FCD1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DFB-AF7F-4505-BA2E-40AE69BB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A77C-1F3E-448E-BA2B-6A488325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D5B2-3872-413F-943A-C277936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5424-3091-426F-A64C-5725FC7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5B1-412E-4ED2-82B7-47D32F12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1588-F5A4-4984-90D3-1BF67081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6127-16B5-4E3B-8446-FEFEBE2A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5373-8A60-456C-A86A-DA9804A0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2D14-02A0-4008-A650-74C19082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7AA36-CCB6-4F53-A140-3CAA44CA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7268-4212-443E-9D43-F09ADCF6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E9C-AA44-4D92-AA38-5F6A0F1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1D3D-BEAE-4F27-891C-C505D41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C935-27B2-4113-B83F-A8483C6E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C054-6E4A-40F0-878A-C85841C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2966-3A96-44A5-9527-717093FD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D46D-701E-4AB6-89F3-CA5E7F5A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46DD-E0C7-4CC5-8F86-40CB61E9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A1F9A-3767-461B-8463-063E21A2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8883E-BCDA-45C2-A7DA-D0BD07E9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2EE63-D9A8-4987-B619-F04804C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FE3F-3ADD-4725-9B89-837540E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261-E597-4995-8C8B-33669A11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8E14-FDE0-47F7-8777-0AE57EF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69F4-9900-47F4-B0BE-AC5404A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87C40-6BFE-48FC-9852-3761F0CA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EB864-C51F-4FF5-A4A3-1ACFDB47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BC981-E6D5-4F52-8FAF-0AB9761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5DC3-D273-4098-9E1D-DEB67241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BF71C-CD87-4EE2-936D-4DD8D582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326F9-B2A6-47B1-81DD-0A796D8D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34A4-CFF5-48DF-9989-7A1514CD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EC7B-8FF0-4853-9EBE-F2D0E32A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52C-9787-4377-AF2D-0F59353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25B3-6303-4AD6-9A1A-7DF0E890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6FA5-FB67-43D9-A481-CD1F6845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58C5B-3055-4E0C-BE17-190007E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C06BC-019C-4AE5-A914-B6855172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5C9CC-1358-4148-930C-89188C5B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4005F-AF99-4102-8D33-419496FB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A335-98FD-489A-A9A1-A659F1EF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60B32-5861-4205-8326-A9A67BE0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5A209-7A5B-4F44-BEFF-C6E7E55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4BBE-0501-4D94-B429-F1AAD1FE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792-2367-4EE0-BE1D-CCA2B03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8985E-AF88-463C-963D-E2970457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ECE54-5641-479F-975D-6ABAE706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130B-7D3C-4A19-B72F-B4EB79F9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87768-2618-4E08-8462-86FE10CB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C81C-48BD-440C-A10A-E46FB43C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C75A-7142-47C4-837D-0900330C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E8AAA-A2A5-44A0-A74D-71C5A3D1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81E7F-8C1A-4971-995F-F291E4D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D6616-29E7-4A91-96FA-15B7EC4F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A969F-5BB7-46D4-AF87-82FDE6E9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782-B05E-4CD1-9C97-8DB9A454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C1100-1777-49B1-9280-97EF656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D0EF8-A775-4940-959D-8D1E095C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B3825-87DC-4C15-B060-391B793E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3635-DF0F-435C-8E69-00B5F605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B51BE-BAC5-4DCF-8839-94D947F4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712A-A24B-4E14-A251-55AB4301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0AAA3-1F86-4E9B-ACBD-FC50783C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21045-0BF9-4297-9963-F3EE3848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B231F-9516-4ED6-9E6F-50F09704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E5A43-FF04-4361-B4F8-D67C828C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6D2-AC18-47BB-9CFC-5B747CC9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199D-50A2-43B8-A26B-669BB4A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3BF6C-117A-43E7-AD03-26416586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BC7E1-C02B-40F2-B537-A07D1C6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6128F-337D-4EEB-8757-67127DE9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E6454-315B-48CD-90C6-D39C3E92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9752B-DC80-41BE-8A0B-B82EA4EB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AEE0B-7C12-49F1-BBF4-D1C1C65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45B6B-FDD5-4FE1-824F-F93F31EE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6536A-FB74-4A99-A5B9-DC730663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3354B-7039-4E62-A9F3-74DD29F1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3A4-7D3D-4ED5-88A6-1DCF1F08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04846-485D-4B84-AC5A-D4BEE81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2D7D-ACFC-44EC-A0D4-6352931F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D7703-53AB-4844-B30F-8DD3A843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2E0E2-D4EC-4CDB-8909-5A594AD4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7CB4D-30F1-4F7D-9B01-0EAA882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19767-CA1F-4462-B82A-5129DEEB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0FE4E-8799-4FA3-A4D7-FE527853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7C5E-5208-4CA7-AEA0-370EC1B757F4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Rectángulo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14 Rectángulo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15 Rectángulo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9F25-D4E2-4D86-B030-06D3206419C5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Rectángulo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11 Rectángulo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D215-4322-4C90-93F6-098D144AFC67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27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28 Conector recto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9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10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FB7B-F29B-4EDF-9FE1-C893EF9751F6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3C6-A377-428B-96AF-A37F96BC2F58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11 Conector recto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14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9239-6826-4ADA-9E56-38A7E1EBD25E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14 Rectángulo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DD1-44B0-4A1D-84DA-9A0D7A6EF08C}" type="slidenum">
              <a:rPr b="0" lang="es-CL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0 Conector recto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11 Triángulo isósceles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14 Conector recto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BE13-178B-46D0-83BA-E144F6F311B2}" type="slidenum">
              <a:rPr b="0" lang="es-CL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15920"/>
            <a:ext cx="6858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Terapia Humanista</a:t>
            </a:r>
            <a:br>
              <a:rPr sz="3600"/>
            </a:br>
            <a:r>
              <a:rPr b="1" lang="es-CL" sz="3600" spc="-1" strike="noStrike">
                <a:solidFill>
                  <a:srgbClr val="000000"/>
                </a:solidFill>
                <a:latin typeface="Bookman Old Style"/>
              </a:rPr>
              <a:t>la tercera fuerza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La mente condicionada. Obstáculo que debe ser sorteado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El continuum del darse cuent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municación personal YO-TU en las que se expresan y reconocen las perspectivas subjetivas en su calidad de t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Inici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Sabiduría organísmic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l organismo, en su interacción con el medio, posee la capacidad de discriminar aquellas experiencias que le son o no enriquecedoras para si mismo en un momento dad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2. Consciencia: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Mor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Fisiológica. Desde una menor a una mayor cons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Darse cuenta d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univers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iveles de conci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64653"/>
                </a:solidFill>
                <a:latin typeface="Bookman Old Style"/>
              </a:rPr>
              <a:t>3. responsabilidad.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No somos prisioneros del condicionamien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1° término: Esta responsabilidad a la vez nos hace lib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2° término: Autorrealización del hombre en la salud y no centrado en la enfermeda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3° término: Confrontación en el aquí y en el ahor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l cuerpo y el uso de técnicas no verba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4° término: Se amplia el espectro del terapeuta: psicologos, profesores, etc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5° término: Exploración con drogas para investigar la existencia de realidades diferent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464653"/>
                </a:solidFill>
                <a:latin typeface="Bookman Old Style"/>
              </a:rPr>
              <a:t>Fundamentos de la psicología humanis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Confianza en la naturaleza y búsqueda de lo natural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ón incondicional de lo que somos y no pretender ser lo que no som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Énfasis en la expresión de lo personal y único en el desarrollo de la creatividad y en la capacidad de juego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 entredicho los conceptos de normal y a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conocimiento de las limitaciones de la conciencia norm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Trascendencia de la identidad personal egoica y reconocimiento y aceptacion de la totalidad que somos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Energía reprimida o bloqueada que empobrece el verdadero potencial del ser human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Superación de la escisión mente-cuerpo. </a:t>
            </a: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Reconocimiento de la comunicación con y desde el cuerp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Gill Sans MT"/>
              </a:rPr>
              <a:t>Reequilibrio entre polaridades y revalorización de lo emocional, lo intuitivo, lo interno y el lenguaje del hemisferio derech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Polaridades que finalmente armoniz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Aceptacion y comprensio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ill Sans MT"/>
              </a:rPr>
              <a:t>Todas nuestras facet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0" name="Picture 2" descr="C:\Users\Edita Núñez Sotelo\Pictures\yinyan5.jpg"/>
          <p:cNvPicPr/>
          <p:nvPr/>
        </p:nvPicPr>
        <p:blipFill>
          <a:blip r:embed="rId1"/>
          <a:stretch/>
        </p:blipFill>
        <p:spPr>
          <a:xfrm>
            <a:off x="6012000" y="3584520"/>
            <a:ext cx="291456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1:55:27Z</dcterms:created>
  <dc:creator>Edita Núñez Sotelo</dc:creator>
  <dc:description/>
  <dc:language>en-US</dc:language>
  <cp:lastModifiedBy>Edita Núñez Sotelo</cp:lastModifiedBy>
  <dcterms:modified xsi:type="dcterms:W3CDTF">2012-04-23T03:02:00Z</dcterms:modified>
  <cp:revision>7</cp:revision>
  <dc:subject/>
  <dc:title>Diapositiva 1</dc:title>
</cp:coreProperties>
</file>