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CLIC.WAV" ContentType="audio/x-wav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97B9-F93F-4260-A564-B5AE5C873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CC7E-E6AC-4DBC-BA31-EE60169E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68E4A7-E410-403B-80E4-E1916A35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09FC96-A6E1-4286-A72F-04071F53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60F4B-F171-4D63-9DE7-9564B029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96883-B967-4B05-8102-7D16E741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1E6FA5-F77B-4796-84B9-210C6F47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13F4C6-B98A-470D-850E-ED2FA4FC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8ABDA-0E08-41B4-A487-5E1BFB18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44EBA6-6C88-4C82-B4AB-A0A1EF338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270F5E-1D8B-4642-8DE3-6B60A30C2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8255-771C-4C80-9976-77A1B0FB6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5B90-A383-48CD-BF0C-4C72B06C2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2D47-8ED3-4E09-A832-6E969A2DF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190C-AC7F-4CA9-BA29-23008B03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E2A5-716B-4C83-BD00-C1EED6E3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F000-8CDE-41AD-986A-31CA4E54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C3A3-AD71-4B68-A551-8045D7FF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4A92-CABA-4F1C-B01A-5D156638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C5CE-AD6E-4564-BEF0-13714E07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A858-87C3-4CBA-8460-AB5F5045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9D42-D58A-4829-8713-6DEE5322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4A4B-5B8B-4574-AA8C-C8169D91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4F9F-6EDD-446A-832E-C9EE4FA4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BD91-DB78-4379-A92C-C2253093A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CA8A-5CDE-4F2C-986C-09156E329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158699-AAFD-491A-B2EF-35F3DDB25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338E40-F940-4A99-81E2-BE2B9774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438B9F-71AB-4DCB-9059-D2EAF8D7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34F03C-9B6F-45D1-9720-9BB72612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3CF47E-1AD2-40E6-81AA-E14D2078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B37A-E215-43E4-9475-666E7C7D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AEC62B-DE62-45CB-98FF-6BA9F0E9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9A5F61-B8F9-4014-90A1-D2D519EB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FFC1F2-FFC5-4511-A019-607753E8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E73916-6A50-46FC-BB9B-408A9F21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7DD273-97C8-493B-AAE4-3F8D8302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E6F91B-756D-4D8D-9AAF-802BBDEDB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C0D327-EA97-4FB0-B7CD-A3FC7B653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2465A-0FE4-468E-BA2B-2394DAEA4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8820D-5C46-4C87-BF71-7AE45190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52A2F-0474-4BE6-86A9-9FCB00C4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03DB-0033-4AF3-AD19-A9D9E4AD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BDC23-B01A-4F5B-A07A-12A926D3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B7592-9DC4-47CE-B10F-6D6E1048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1E069-3050-4254-ACA6-4E71049B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5FA4B-2FEE-42FB-9946-DE54E24F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7ABAD-5CA1-4BF8-B498-0B57E39E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912F0-E5B7-4C3B-9891-7203031A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576F0-09F1-4984-845E-F956067B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D8788-2BAA-4F42-9573-EB89F88F3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5B0EC-C54C-4C8A-B5B0-06F33BB99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D5C617-B4FD-4961-BE5A-1FBF46B5E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FC40-123C-48FC-B2C2-F19C3AF1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D2AA9F-11AF-40FF-883A-72764028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911D9E-1AE2-460E-B28B-B2D56668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A9E2DC-D868-4D99-97A8-10B31008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871FF4-6209-4882-BD13-B99A6701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DB62D9-D2A5-4536-AAA4-76CB589A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21D1E7-8DA1-4659-8CE8-F599AAD5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0A506C-7B1E-453A-BC5B-39E2621F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0C9B17-86AE-4A85-B7F0-B73AE30B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6353C8-6D66-4F6C-8336-BFC6151A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E85276-8034-475F-A199-BD2E03134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2325-174B-4CFE-A69D-F03C6491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711D28-7E13-4EB2-BED9-9206A9478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5AAB79-C727-4913-B8C1-9BF2BD84B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B6B1BD-8AFD-40FE-84E0-EC634FDC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D6BB14-2E80-466A-9CB6-B8CB0560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6C5934-053D-482A-BD3D-118605A3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60A86F-F180-4197-BF62-F39F5660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731F58-9834-4C52-BF13-8A819459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AA2C01-95F3-4CF3-8FF8-A71D5839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7B04C5-D687-41AD-B851-6B7FD711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B78522-B8E7-4A75-BD19-FB5B1CB3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C3AC-2955-44C1-81F5-6B1F67AB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8D0F08-4321-4C57-8C93-25D800EB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92BF78-50EE-48D0-AE70-E4F642F95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1A6EBB-9F5E-41B8-A144-7894CA8C6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C5F7E7-B333-4172-AE19-8E741A495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3856BF-4576-449E-9D0F-05B7CC46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B9057B-D52D-492C-8717-7092C87D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52A68B-BCEA-42D4-911E-D414CA4E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C285CE-DED1-4225-97DA-EEF756AE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077FC0-2E0A-4D56-AB08-92AF7004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3A9B2A-0790-4033-B762-B511A44E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9C53-3C36-468E-9119-B2959862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88269D-787F-4594-9514-E3C5648F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A60473-447A-46B5-A2EA-8E693A77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765644-A3EB-4DA3-9966-B6E4543D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8198E0-1079-4190-9989-7E934E354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A7B17B-09A4-4703-8E53-9FC5FB70B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1F8C5-BA0B-4666-8C9A-BAD11AEFA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60068-BBAB-461D-9D9A-5E065AFA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6EE05-99EB-457A-A7B8-125631DB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50E22-E157-477F-9E50-EA9994AD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9156C-613A-4650-84F1-90B06AF7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F1AE-8875-46EC-9F10-D038ADD0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BD505-B769-48AB-B99B-48A1D1D6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9D02C-DE39-4F18-A6B4-37175210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91DEF-F924-4FF5-ADF9-1067BC73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56B62-8511-4C2C-9217-2160EAB7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EADD2-ADA3-4B2D-B1F4-CBB231C5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404D9-B0C7-4A13-A416-673281FE3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B0345-ED56-48B9-9D1C-2D0D43FBA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992733-CA28-40B9-8D91-378780BF9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D91AC4-A498-4E32-8D0A-B08CFE7A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D1AE9D-DDF0-48D0-8EA8-11AC2DB1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D5C6-48E8-4963-9CE3-243A666D6D99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D1DC-31B8-4D29-A357-C9755FB16206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82B3-E34B-42EA-9283-D2841075022A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E78D-3984-43BC-AB50-0FA9B7F6D1EA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61AC-CCF9-4DF2-AA12-6A789F3129C3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EA62-B748-4C5B-8C2C-610DBB08A4F1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E4BF-DB05-41DE-B866-8C1C40F036E7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28FF-3043-45FD-9FD1-D9B959262837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D491-D224-4411-9E4A-81AC2DFBAC24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999800" y="13568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2071440" y="385776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6840" y="2133720"/>
            <a:ext cx="78598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a pareja son los padres de un par de mellizos, de un año de edad. Ellos comentan que al nacer eran muy parecidos en su carácter, no obstante a medida que han ido creciendo están mostrando diferencias en su forma de ser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Dónde radicará la causa de sus diferencia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916280"/>
            <a:ext cx="8291520" cy="45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n un colegio de enseñanza básica, los profesores han discutido entre ellos y no han logrado ponerse de acuerdo respecto de que hacer con un grupo de niños que no logra avanzar en su aprendizaj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lgunos profesores quieren derivarlos a una escuela especial, mientras que otros piensan que estos niños tienen una inteligencia normal y deben seguir en la escuela, apoyados mas de cerca por todos los doc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porqué estos niños no aprende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DESARROLLO DE LA 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6840" y="1989000"/>
            <a:ext cx="800244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psicología, tiene un largo pasado pero una historia bre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nueva psicología, una ciencia de la m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historia de la psicología se divide en tres period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surgimiento de la ciencia de la ment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décadas conductist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 revolución cognoscitiv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55280" y="112500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WILHELM WUNDT Y EDWARD B.TITCHENER</a:t>
            </a:r>
            <a:br>
              <a:rPr sz="2700"/>
            </a:b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VOLUNTARISMO Y ESTRUCTURALISMO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285480" y="2000160"/>
            <a:ext cx="859788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La psicología nace en 1879, con la fundación del primer laboratorio de psicología en la universidad de Leipzig en Alemania (Wundt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A nivel académico, un laboratorio daba el estatus de cienci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Wundt quiere explicar la experiencia inmediata y como poder estudiarla científicamen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También creía que algunos procesos mentales no podían estudiarse mediante experimentos científic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WILHELM WUND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6840" y="2924280"/>
            <a:ext cx="8002440" cy="35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Otorga un papel central al proceso de la atención selectiva, el proceso por el cual determinamos a que vamos a atender en un momento da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ara Wundt, la atención es controlada activamente por las intenciones y los motiv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dio lugar al uso del término del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voluntarismo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para describir su visión de la psicologí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3" name="Picture 15" descr="wundt"/>
          <p:cNvPicPr/>
          <p:nvPr/>
        </p:nvPicPr>
        <p:blipFill>
          <a:blip r:embed="rId1"/>
          <a:stretch/>
        </p:blipFill>
        <p:spPr>
          <a:xfrm>
            <a:off x="5796000" y="808200"/>
            <a:ext cx="158436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es lo que separa la atención humana de la atención de otros organism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 su vez, la atención controla otros procesos psicológicos co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percepcion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pensamient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recuerd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on el uso de la medición y la experimentación, Wundt sacó a la psicología del campo de la filosofía para ubicarla en el mundo de la cien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étodo usado, el uso controlado de la instrospección u autoobservación de los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contenidos mentales consci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étodo de l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instrospecció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Informe verbal de personas entrenadas que sometían 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observación cuidados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su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xperiencia subjetiva conc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 PARTIR DE LEIPZIG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G. Stanley Hall. Primer laboratorio estadounidense de psicología, 1883. U. de Johns Hopki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. M. Cattell, U. de Pennsylvania, 1888. primer estadounidense que fue llamado “profesor de psicología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, U. de Cornell (Inglaterr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Muy influido por los recientes avances en química y físi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 manera similar, los psicólogos deberían analizar las experiencias complejas en términos de sus elementos bás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quiere buscar los “átomos del pensamiento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: cuando las personas ven un plátano de inmediato piensan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quí tenemos una fruta, algo para comer…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a percepción se basa en asociaciones con la experiencia prev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buscaba los elementos  más fundamentales o “átomos” del pensa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MAS DE INTERÉS PARA LA 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nverse con su compañero/a … ¿Cuáles son los temas que investiga la psicologí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untos centrales de interés psicológ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scompuso la conciencia en tres elementos bás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ensaciones físicas (lo que vemo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entimientos (si los plátanos nos gustan o nos desagradan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Imágenes (recuerdo de otros plátano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firmaba que incluso los pensamientos y los sentimientos más complejos podían reducirse a esos elementos simp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ESTRUCTUR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consideraba que el papel de la psicología era identificar esos elementos y demostrar como podían combinarse e integrar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e es el enfoque llamado ESTRUCTURAL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ructuralismo: escuela de psicología que enfatizaba las unidades básicas de la experiencia y las combinaciones en las que ocurr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SCUELA ESTRUCTURALIS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uvo una corta vida y poco efecto a largo plaz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No obstante lo anterior, el estudio de la percepción y la sensación son parte importante de la psicología contemporáne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</a:t>
            </a:r>
            <a:br>
              <a:rPr sz="3000"/>
            </a:b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00200"/>
            <a:ext cx="8329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, primer crítico del estructural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Él afirmaba que los “átomos de la experiencia” (sensaciones puras sin asociaciones) de Titchener, no existían en la vida re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Nuestra mente siempre entreteje asociacio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visa las experienci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 activa, se detiene, avanza en el tiem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afirmaba que las percepciones, emociones e imágenes no pueden separarse; la conciencia fluye en una corriente contínu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92" name="Picture 18" descr="james"/>
          <p:cNvPicPr/>
          <p:nvPr/>
        </p:nvPicPr>
        <p:blipFill>
          <a:blip r:embed="rId1"/>
          <a:stretch/>
        </p:blipFill>
        <p:spPr>
          <a:xfrm>
            <a:off x="7093080" y="108000"/>
            <a:ext cx="143964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cibe una gran influencia de la teoría de la evolución de Charles Darw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 acuerdo con Darwin, tanto la anatomía como la conducta son resultado de la selección natu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afirma que la conciencia evolucionó porque cumple una función adaptativ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: si no pudiéramos reconocer un plátano, tendríamos que averiguar que es cada vez que viéramos un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68000" y="2492280"/>
            <a:ext cx="835164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s asociaciones mentales nos permiten beneficiarnos de la experiencia prev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sugirió que cuando repetimos algo, nuestro sistema nervioso cambia de modo que cada repetición es más sencilla que la anteri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FUNCIONALIS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85840" y="1600200"/>
            <a:ext cx="85010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eoría de la vida mental y la conducta que se interesa en la forma en que un organismo emplea sus habilidades perceptuales para funcionar en su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u teoría generó preguntas acerc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el aprendizaj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complejidades de la vida menta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impacto de la experiencia en el cerebr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lugar del género humano en el mundo natural, etc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68000" y="1700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, pionero de la psicología, el mas conocido y controverti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octor en medicina, le interesaba especialmente el sistema nervioso cent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mienza a trabajar con hipnosis para tratar los trastornos nervios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01" name="Picture 14" descr="freud2"/>
          <p:cNvPicPr/>
          <p:nvPr/>
        </p:nvPicPr>
        <p:blipFill>
          <a:blip r:embed="rId1"/>
          <a:stretch/>
        </p:blipFill>
        <p:spPr>
          <a:xfrm>
            <a:off x="4859280" y="3975120"/>
            <a:ext cx="180036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Él afirmaba que muchos trastornos nerviosos eran de origen psicológico más que fisiológ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us observaciones clínicas lo llevaron a desarrollar una teoría amplia de la vida mental que era radicalmente opuesta con lo propuesto hasta ese mom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 sostenía que los seres humanos no son tan racionales como se imagi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one en duda la existencia y real alcance de la voluntad o “libre albedrío” de Wund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 afirmaba que los seres humanos estamos motivados por instintos e impulsos inconscientes que no están disponibles para la parte racional y conciente de nuestra m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nconciente como un “caldero” dinámico d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primitivas pulsiones sexuales y agresivas,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eseos prohibidos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temores y deseos indescriptibl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recuerdos infantiles traumátic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ERSONA-SITU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6840" y="2400120"/>
            <a:ext cx="814716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conducta tiene sus causas ¿internas o externa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o que ocurre dentro de la persona como pensamientos, emociones, motivos, actitudes,  o valores, personalidad y genes…versus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en que medida la conducta es causada por factores externos a la persona? Como por ejemplo otras personas o el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primidos (o escondidos para la conciencia) los impulsos inconscientes presionan sobre la mente consciente y encuentran expresión de forma disfrazada o alterad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incluye sueños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psus, síntomas de enfermedad ment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ctividades socialmente aceptables como el arte y la literatur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PSICOANÁLI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6840" y="2276280"/>
            <a:ext cx="74674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écnica para descubrir el inconsciente, en la cual el paciente se recuesta en un diván, cuenta sus sueños y dice cualquier cosa que le venga a la mente (asociación libr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7200" y="1600200"/>
            <a:ext cx="8329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eoría de la personalidad que afirma que la conducta es el resultado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de fuerzas psicológicas que interactúan dentro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del individuo, a menudo fuera de la conscien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l aparecer esta teoría, genera escándalo en la socieda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pecialmente por su énfasis en la sexualida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demás por su sugerencia de que muchas veces no tenemos conciencia de nuestros verdaderos motivos y que, por ende,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no tenemos pleno control 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obre nuestros pensamientos y nuestros comportamient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 sido ampliada y revisada en el transcurso del tiem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ún en la actualidad sigue generando deb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ableció la base para el estudio de la personalidad y los trastornos psicológ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32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L CONDUCT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182600" y="105264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ste surge como respuesta al malestar general que existía entre la comunidad académica y que abría un periodo de crisis paradigmática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¿Qué es una crisis paradigmática?..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4191120" y="2057400"/>
            <a:ext cx="609480" cy="160020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914400" y="1752480"/>
            <a:ext cx="5029200" cy="58140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39d"/>
                </a:solidFill>
                <a:latin typeface="USABlack"/>
              </a:rPr>
              <a:t>Comunidad cientí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4"/>
          <p:cNvSpPr/>
          <p:nvPr/>
        </p:nvSpPr>
        <p:spPr>
          <a:xfrm>
            <a:off x="3657600" y="2971800"/>
            <a:ext cx="3733920" cy="1143000"/>
          </a:xfrm>
          <a:prstGeom prst="ellipse">
            <a:avLst/>
          </a:prstGeom>
          <a:gradFill rotWithShape="0">
            <a:gsLst>
              <a:gs pos="0">
                <a:srgbClr val="d2611c"/>
              </a:gs>
              <a:gs pos="100000">
                <a:srgbClr val="612d0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39d"/>
                </a:solidFill>
                <a:latin typeface="USABlack"/>
              </a:rPr>
              <a:t>Paradi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5"/>
          <p:cNvSpPr/>
          <p:nvPr/>
        </p:nvSpPr>
        <p:spPr>
          <a:xfrm>
            <a:off x="380880" y="3809880"/>
            <a:ext cx="2819520" cy="83844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6"/>
          <p:cNvSpPr/>
          <p:nvPr/>
        </p:nvSpPr>
        <p:spPr>
          <a:xfrm>
            <a:off x="1905120" y="4343400"/>
            <a:ext cx="2819160" cy="83808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7"/>
          <p:cNvSpPr/>
          <p:nvPr/>
        </p:nvSpPr>
        <p:spPr>
          <a:xfrm>
            <a:off x="2895480" y="5029200"/>
            <a:ext cx="2819520" cy="83808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8"/>
          <p:cNvSpPr/>
          <p:nvPr/>
        </p:nvSpPr>
        <p:spPr>
          <a:xfrm flipH="1" flipV="1">
            <a:off x="5790600" y="3733920"/>
            <a:ext cx="1447560" cy="1371600"/>
          </a:xfrm>
          <a:prstGeom prst="pie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ARADIGMA &amp; ENIGMA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148000" y="1844640"/>
            <a:ext cx="3817800" cy="4114800"/>
          </a:xfrm>
          <a:prstGeom prst="rect">
            <a:avLst/>
          </a:prstGeom>
          <a:solidFill>
            <a:srgbClr val="d2611c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Una realización científica universalmente reconocida que, durante cierto tiempo, proporciona modelos de problemas y soluciones a una comunidad científica" (Kuhn, 1971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ARADIGMA &amp; ENIGMA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6" name="Line 3"/>
          <p:cNvSpPr/>
          <p:nvPr/>
        </p:nvSpPr>
        <p:spPr>
          <a:xfrm flipV="1">
            <a:off x="0" y="3885840"/>
            <a:ext cx="6629400" cy="1447920"/>
          </a:xfrm>
          <a:prstGeom prst="line">
            <a:avLst/>
          </a:prstGeom>
          <a:noFill/>
          <a:ln w="12060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4"/>
          <p:cNvSpPr/>
          <p:nvPr/>
        </p:nvSpPr>
        <p:spPr>
          <a:xfrm>
            <a:off x="2133720" y="2971800"/>
            <a:ext cx="2971800" cy="2133720"/>
          </a:xfrm>
          <a:prstGeom prst="irregularSeal1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b435b"/>
                </a:solidFill>
                <a:latin typeface="USABlack"/>
              </a:rPr>
              <a:t>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5"/>
          <p:cNvGrpSpPr/>
          <p:nvPr/>
        </p:nvGrpSpPr>
        <p:grpSpPr>
          <a:xfrm>
            <a:off x="990720" y="1523880"/>
            <a:ext cx="6324480" cy="942840"/>
            <a:chOff x="990720" y="1523880"/>
            <a:chExt cx="6324480" cy="942840"/>
          </a:xfrm>
        </p:grpSpPr>
        <p:sp>
          <p:nvSpPr>
            <p:cNvPr id="529" name="AutoShape 6"/>
            <p:cNvSpPr/>
            <p:nvPr/>
          </p:nvSpPr>
          <p:spPr>
            <a:xfrm>
              <a:off x="990720" y="1523880"/>
              <a:ext cx="6324480" cy="942840"/>
            </a:xfrm>
            <a:prstGeom prst="leftRightArrow">
              <a:avLst>
                <a:gd name="adj1" fmla="val 50000"/>
                <a:gd name="adj2" fmla="val 133537"/>
              </a:avLst>
            </a:prstGeom>
            <a:gradFill rotWithShape="0">
              <a:gsLst>
                <a:gs pos="0">
                  <a:srgbClr val="612d0d"/>
                </a:gs>
                <a:gs pos="50000">
                  <a:srgbClr val="d2611c"/>
                </a:gs>
                <a:gs pos="100000">
                  <a:srgbClr val="612d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7"/>
            <p:cNvSpPr/>
            <p:nvPr/>
          </p:nvSpPr>
          <p:spPr>
            <a:xfrm>
              <a:off x="2209680" y="1752480"/>
              <a:ext cx="3886200" cy="459720"/>
            </a:xfrm>
            <a:prstGeom prst="rect">
              <a:avLst/>
            </a:prstGeom>
            <a:gradFill rotWithShape="0">
              <a:gsLst>
                <a:gs pos="0">
                  <a:srgbClr val="612d0d"/>
                </a:gs>
                <a:gs pos="50000">
                  <a:srgbClr val="d2611c"/>
                </a:gs>
                <a:gs pos="100000">
                  <a:srgbClr val="612d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39d"/>
                  </a:solidFill>
                  <a:latin typeface="USABlack"/>
                </a:rPr>
                <a:t>Paradigma       Enig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Text Box 8"/>
          <p:cNvSpPr/>
          <p:nvPr/>
        </p:nvSpPr>
        <p:spPr>
          <a:xfrm>
            <a:off x="5544000" y="3124080"/>
            <a:ext cx="2757960" cy="45972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39d"/>
                </a:solidFill>
                <a:latin typeface="USABlack"/>
              </a:rPr>
              <a:t>Nuevo parad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FASES DE LOS PARADIGM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precientífic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No hay hegemoní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Inmadurez de la cienci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de Ciencia Norma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Adecuación, ¿anomalías?, crisis, nuevo paradigm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revolucionari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Nuevo paradigma se vuelve hegemónico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ROBLEMÁT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pacio d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blemas de la realidad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que un modelo decide abordar como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ampo de investiga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genera un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olución prototípic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para el mism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ta debe aportar su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pias coordenadas teórico explicativa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FUNDAMENTOS EPISTEMOLÓGIC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upuesto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metacientífic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para abordar la problemátic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unidad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s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promet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con esto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upuest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en la creación del paradigm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vinculan 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cepciones epistemológicas y filosófica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diverso orde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NATURALEZA-CRIANZ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68360" y="2205000"/>
            <a:ext cx="79912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mportante debate naturaleza v/s crianz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Grado de influencia que tienen la herencia o genes frente al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, la concepción de inteligencia y el C.I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SUPUESTOS TEÓRIC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Hipótesis o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ustentos teóric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qu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part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la comunidad de especialista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on l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base conceptual y explicativ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fundamental de la matriz disciplina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Cad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model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tiene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pio lenguaj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y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istema conceptual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RESCRIPCIONES METODOLÓGIC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junt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métodos, procedimientos, técnicas y reglas qu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acept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la comunidad de profesional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utilizan para el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trabaj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strucción o refinamiento del model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NTONCES…</a:t>
            </a:r>
            <a:br>
              <a:rPr sz="3000"/>
            </a:b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L CONDUCT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971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Psicología Conductista aparece en el siglo XX como un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disciplina empíric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par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studiar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el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comportamiento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en términos de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adaptación a estímulos del medio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sencia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el Conductismo es que el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individuo aprende a adaptarse al ambiente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y que este aprendizaje está regido por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principios de asocia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pavlov"/>
          <p:cNvPicPr/>
          <p:nvPr/>
        </p:nvPicPr>
        <p:blipFill>
          <a:blip r:embed="rId1"/>
          <a:stretch/>
        </p:blipFill>
        <p:spPr>
          <a:xfrm>
            <a:off x="2843280" y="765000"/>
            <a:ext cx="3711600" cy="511200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3"/>
          <p:cNvSpPr/>
          <p:nvPr/>
        </p:nvSpPr>
        <p:spPr>
          <a:xfrm>
            <a:off x="2776680" y="5996160"/>
            <a:ext cx="467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68180"/>
                </a:solidFill>
                <a:latin typeface="Verdana"/>
              </a:rPr>
              <a:t>Iván Petrovitch Pavlov ( 1849-1936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515880"/>
            <a:ext cx="77929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575f6d"/>
                </a:solidFill>
                <a:latin typeface="Century Schoolbook"/>
              </a:rPr>
              <a:t>IVÁN PAVLOV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En 1904, Pavlov recibió el premio Nobel por sus trabajos sobre las bases nerviosas y ganglionares de la digestió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Durante esta investigación, descubrió los </a:t>
            </a:r>
            <a:r>
              <a:rPr b="1" lang="es-ES" sz="2800" spc="-1" strike="noStrike">
                <a:solidFill>
                  <a:srgbClr val="000000"/>
                </a:solidFill>
                <a:latin typeface="Century Schoolbook"/>
              </a:rPr>
              <a:t>principios del condicionamiento basado en la asociació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Pavlov observó que los perros salivaban sin falta en anticipación de la comida, que era anunciada por la llegada de un asistente o la presentación de un plato.</a:t>
            </a:r>
            <a:r>
              <a:rPr b="0" lang="es-ES" sz="2000" spc="-1" strike="noStrike">
                <a:solidFill>
                  <a:srgbClr val="56818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49" name="Picture 3" descr="perro"/>
          <p:cNvPicPr/>
          <p:nvPr/>
        </p:nvPicPr>
        <p:blipFill>
          <a:blip r:embed="rId1"/>
          <a:stretch/>
        </p:blipFill>
        <p:spPr>
          <a:xfrm>
            <a:off x="1476360" y="2349360"/>
            <a:ext cx="6480360" cy="342288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4"/>
          <p:cNvSpPr/>
          <p:nvPr/>
        </p:nvSpPr>
        <p:spPr>
          <a:xfrm>
            <a:off x="457200" y="388800"/>
            <a:ext cx="75438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575f6d"/>
                </a:solidFill>
                <a:latin typeface="Century Schoolbook"/>
              </a:rPr>
              <a:t>La Caja de Pavl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ONDICIONAMIENTO CLÁSIC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501120" y="1341360"/>
            <a:ext cx="8642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Señaló cuatro hechos experimentales en los procesos de adquisición y extinción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Incondicionad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EI): Suceso ambiental que por sus propiedades inherentes, provoca un reflejo orgánico. (Ej.:la carne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Condicionad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EC): Suceso ambiental que es neutral (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Neutro)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con respecto a la respuesta antes de su apareamiento con le EI. (Ej.:la campan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spuesta Incondicionad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RI): Reflejo natural que el EI produce en forma automática e involuntaria.(Ej.:Salivación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spuesta Condicionad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RC): Reflejo adquirido suscitado por el EC después de asociarse con el EI. (Ej.:Salivación Condicionad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ONDICIONAMIENTO CLÁSIC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1160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Century Schoolbook"/>
              </a:rPr>
              <a:t>Principios Derivados del Paradigma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os procedimientos de Condicionamiento representan 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cuantificación y la objetivización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de 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adquisición y el olvido de asociaciones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habí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ecesidad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de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ingún constructo mental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, pues el sistema nervioso, y en especial el córtex, ofrecen los mecanismos para el aprendizaje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El paradigma del condicionamiento permití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investigar la actividad nervios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superior y todas las clases de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comportamient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lación temporal o contigüidad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era el principio fundamental de la adquisición de asociacione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watson"/>
          <p:cNvPicPr/>
          <p:nvPr/>
        </p:nvPicPr>
        <p:blipFill>
          <a:blip r:embed="rId1"/>
          <a:stretch/>
        </p:blipFill>
        <p:spPr>
          <a:xfrm>
            <a:off x="2987640" y="907920"/>
            <a:ext cx="3235320" cy="4753080"/>
          </a:xfrm>
          <a:prstGeom prst="rect">
            <a:avLst/>
          </a:prstGeom>
          <a:ln w="0">
            <a:noFill/>
          </a:ln>
        </p:spPr>
      </p:pic>
      <p:sp>
        <p:nvSpPr>
          <p:cNvPr id="556" name="Rectangle 3"/>
          <p:cNvSpPr/>
          <p:nvPr/>
        </p:nvSpPr>
        <p:spPr>
          <a:xfrm>
            <a:off x="3248280" y="587700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68180"/>
                </a:solidFill>
                <a:latin typeface="Constantia"/>
              </a:rPr>
              <a:t>John Watson ( 1878-1958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775800"/>
            <a:ext cx="7792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68360" y="1773360"/>
            <a:ext cx="82296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John Watso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( 1878-1958 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ropuso la separación radical de las teorías psicológicas al afirmar que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la psicología debía estudiar la conducta abierta y observable como su único objeto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STABILIDAD- CAMBI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989000"/>
            <a:ext cx="807552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bate respecto a si los seres humanos tenemos características estables o vivimos en constante cambi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nacemos con características regulares o nuestra personalidad se conforma a través de los distintos cambios en la vida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826920" y="1628640"/>
            <a:ext cx="8128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Watson se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rebeló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contra el método d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introspección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y contra el estudio d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cienci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, considerándola un pseudoproblema, produciendo una reformulación completa de la psicología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l campo de la Psicología era el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mportamiento, medido en términos de Estímulo-Respuest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Definió la </a:t>
            </a:r>
            <a:r>
              <a:rPr b="1" lang="es-CL" sz="2700" spc="-1" strike="noStrike">
                <a:solidFill>
                  <a:srgbClr val="000000"/>
                </a:solidFill>
                <a:latin typeface="Century Schoolbook"/>
              </a:rPr>
              <a:t>Psicología </a:t>
            </a: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como una </a:t>
            </a:r>
            <a:r>
              <a:rPr b="1" lang="es-CL" sz="2700" spc="-1" strike="noStrike">
                <a:solidFill>
                  <a:srgbClr val="000000"/>
                </a:solidFill>
                <a:latin typeface="Century Schoolbook"/>
              </a:rPr>
              <a:t>rama experimental de las ciencias naturales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899640" y="1700280"/>
            <a:ext cx="8055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s posible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analizar 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duct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mediant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relación causal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entre los elementos del estímulo y la respuesta que inciden en el organismo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Para Watson los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principios de asociación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eran la clave del crecimiento psicológico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n los años 30 el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ductismo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dominaba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psicología estadounidense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Skinner11a"/>
          <p:cNvPicPr/>
          <p:nvPr/>
        </p:nvPicPr>
        <p:blipFill>
          <a:blip r:embed="rId1"/>
          <a:stretch/>
        </p:blipFill>
        <p:spPr>
          <a:xfrm>
            <a:off x="2556000" y="981000"/>
            <a:ext cx="3539880" cy="453240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3"/>
          <p:cNvSpPr/>
          <p:nvPr/>
        </p:nvSpPr>
        <p:spPr>
          <a:xfrm>
            <a:off x="2268360" y="5877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onstantia"/>
              </a:rPr>
              <a:t>B. F. Ski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onstantia"/>
              </a:rPr>
              <a:t>(1904 – 19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aracteríst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Teórico ambientali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Investigador experimental y apli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Describe mas que expli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reador del paradigma Operante y el análisis conductual apli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Intenta construir un sistema empírico que no precise de un marco teórico para organizar los da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sicologí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Investigar leyes entre variables observables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, sacar lo oculto en lugar de espec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Acontecimientos privados tienen limitada accesibilidad a la investigació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Rechaza causas internas de la conduct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Se aparta de Watson, en cuanto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acept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el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ensamiento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y otras conductas privadas que se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reflejen verbalmente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conducta está determinada por el ambiente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Su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roceso de adquisición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, la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experienci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 es importante para determinar personalidad y disturbios en la conduc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onsidera: Conductas respondientes, mediadas por S.N.A.(reflejas) y C. Operan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HUMOR CONDICIONADO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75" name="Picture 4" descr="Explorar2"/>
          <p:cNvPicPr/>
          <p:nvPr/>
        </p:nvPicPr>
        <p:blipFill>
          <a:blip r:embed="rId1"/>
          <a:stretch/>
        </p:blipFill>
        <p:spPr>
          <a:xfrm>
            <a:off x="1116000" y="1557360"/>
            <a:ext cx="7201080" cy="482436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3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TIPOS DE CONDICIONAMIENTO OPERANT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9" name=""/>
          <p:cNvGraphicFramePr/>
          <p:nvPr/>
        </p:nvGraphicFramePr>
        <p:xfrm>
          <a:off x="324000" y="189000"/>
          <a:ext cx="8496000" cy="6591240"/>
        </p:xfrm>
        <a:graphic>
          <a:graphicData uri="http://schemas.openxmlformats.org/drawingml/2006/table">
            <a:tbl>
              <a:tblPr/>
              <a:tblGrid>
                <a:gridCol w="1487160"/>
                <a:gridCol w="2124360"/>
                <a:gridCol w="2512800"/>
                <a:gridCol w="237168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INCI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CED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FEC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JEMPL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FUERZO POSI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produce un acontecimiento agrad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talece o incrementa la conducta que precede a la ocurrencia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. 1°: comida, agua, se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. 2°: dinero, alabanz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FUERZO NEGA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impide la presentación de un estímulo avers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talece la conducta que permite evitar o escapar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dic. Escape: tomar una aspirina para no tener dolor de cabeza (inmediato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dic. Evitación:  usar crema protectora para evitar quemaduras de sol (a futur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STI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produce un estímulo aversivo  (indeseab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minuye o suprime la respuesta. Los organismos dejan de realizar conductas con consecuencias aversiv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ulta, por exceso de velocida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rse suspendido, por faltar a cl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NTRENAMIENTO POR OMI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interrumpe o impide un estímulo agrad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ebilita la conducta que precede a la pérdida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os padres dejan sin auto a su hijo durante el fin de s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XTIN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 una respuesta aprendida no se refuerza, gradualmente deja de realiza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minuye o desaparece la respuesta reforzada previam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 un programa de TV te aburre, con el tiempo dejarás de ver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PLIC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ualquier evento cuya presencia incrementa la probabilidad de que vuelva a ocurrir la conducta en curso se llama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uál de los siguientes no es un ejemplo de conducta operant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a rata que presiona una palanca después de recibir comida por esta conduc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a rata que presiona una palanca para evitar una descarga por esta conduc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 niño que estudia para obtener la aprobación del maestr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 parpadeo después de un destello de luz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DIVERSIDAD-UNIVERSAL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2060280"/>
            <a:ext cx="807552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bate respecto a la similitud o diferenciación entre las person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las personas se parecen entre sí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Qué ocurre entre los diversos grupo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los chilenos somos iguales o hay diferencias entre nosotro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575f6d"/>
                </a:solidFill>
                <a:latin typeface="Century Schoolbook"/>
              </a:rPr>
              <a:t>QUE NOMBRE RECIBE CADA UNA DE LAS SIGUIENTES ACCIONE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cibir un diploma por realizar un curs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omar un paraguas para no mojarse o pagar la hipoteca para evitar un embarg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a persona realiza ventas por comis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soldado es detenido por ausentarse del cuart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padre le dice a su hijo: “si estudias te daré un premio…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caballo galopa para escapar de la fusta de un jine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ACTIVIDAD EN AUL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6840" y="2204640"/>
            <a:ext cx="843588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68180"/>
                </a:solidFill>
                <a:latin typeface="Verdana"/>
              </a:rPr>
              <a:t>Formen tríos entre sus compañer@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68180"/>
                </a:solidFill>
                <a:latin typeface="Verdana"/>
              </a:rPr>
              <a:t>Elaboren un ejemplo aplicado al control conductual en la sala de clases de niños de 2ª Básico de acuerdo a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Entrenamiento de Recompensa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Entrenamiento de Omisión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Castig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Refuerzo Negativ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56818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MENTE-CUERP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6840" y="2060280"/>
            <a:ext cx="814716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ómo están conectados la mente y el cuerpo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 preocupa de estudiar la relación entre lo que sentimos (ej: pensamientos, sentimientos) y los procesos biológicos a la 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2133720"/>
            <a:ext cx="82915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edro siempre ha sido una persona más bien triste, siempre ha tenido amigos parecidos a él, ahora desde que dejó de pololear con Paola su ánimo ha decaído y le ha dicho a sus amigos que se va a suicidar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Dónde radicará la causa de su conduct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844280"/>
            <a:ext cx="829152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uan es un niño de diez años,  hijo de padres divorciados, viene de un hogar con mucha violencia intrafamiliar. Cuando se enfada insulta y pega a sus compañer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uál será la posible causa de su conduct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02:59:52Z</dcterms:created>
  <dc:creator>Edita Núñez Sotelo</dc:creator>
  <dc:description/>
  <dc:language>en-US</dc:language>
  <cp:lastModifiedBy>AOgaldeS</cp:lastModifiedBy>
  <dcterms:modified xsi:type="dcterms:W3CDTF">2012-04-09T15:52:02Z</dcterms:modified>
  <cp:revision>13</cp:revision>
  <dc:subject/>
  <dc:title>Psicología</dc:title>
</cp:coreProperties>
</file>