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D24-1583-41F2-8FD7-5816B065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35B-AF87-4FC9-AD9F-EF4BB0C8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2AEA-4A82-4378-81ED-70F798D1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20C-A001-405F-B390-B9B25E23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AF38-D1DE-421B-8C48-0C2C0F9A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2431-6AF6-473D-9F80-96020C44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9354-4AAA-412F-90CC-2A243832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210B-9C77-4694-8138-AADDB0EC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5E0C-2195-4399-945F-CFF780A8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21E0-99D6-4992-976E-86C4B403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55FA-57B7-4042-B684-30D5FF11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FCF5-BB96-4D35-ADC2-2E7101D8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2762-C62F-4D14-81BE-95F0CC7B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2464-9FCF-4CBD-B919-399B1062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3F87-78C9-48E0-B1BA-D944F9E9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1A8A-BB6E-4A70-A120-6878C002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28B3-3E1B-4013-87B0-954DDCF5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0142C-5DA7-447F-8764-9174304C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06D61-124A-457A-9628-BCE52BF2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50AC9-917A-4D99-80D4-B2AF8B43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644E5-6AE1-487F-9F08-DCBA9B1C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601BC-0134-491A-A3E6-07C276CE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AF96-7680-4D1B-AA07-E84DECFC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EF80F-ECAF-40B1-85B1-F51C8D6F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198B0-EB5D-4AA4-B340-FA7AE115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68692-2B58-490B-8F92-64EEC149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489F2-7E6F-4144-A6CF-9A76541A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80F47-FE2A-4CB2-82AE-E6EB92E9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2886A-E322-462D-82A5-95C0E3E4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B72B3-7581-4E1A-8629-B02471E2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4D126-3841-4481-BE5A-3CFB55B0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3F04E-CCB2-4159-AB89-052CAE73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BD1B9-4DEE-4544-8466-53FD4994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909-94E2-416D-9B51-9753D730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AD9DC-5575-4BEC-9415-60F0620E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A7687-E6BF-4777-A80A-BB323F0D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35BAE-5A0D-43A9-8D3A-2427E1B6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6F61B-2E83-4187-90EC-7DF6E4AA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4AB2C-D38A-41C6-B1FB-D4A6F8E4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0F60B-96D4-4F34-B9D9-33A9ADB6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A9280-3B4D-4A54-A598-22C509E1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F614B-B5F8-4AC8-91F9-CBEBE688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12D68-18AF-4DBE-8FC7-39BCA652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392C3-954B-4DA6-9B80-0DCF4E03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05D-E8A3-402B-88EB-2D66B932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FC817-998A-4D97-9295-93851195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E2252-9321-4CD3-926B-B95B8EE4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0D646-1781-43B8-8C64-16BA09F8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F95B5-60FB-4277-BFC0-6D2450CC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23A68-9A60-4B8D-AE38-368B9CD4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CFA0E-8CBC-4828-8F26-ED9D0A9A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D881A-4B16-4A20-8F2D-434DD08C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C75B9-21C5-48BB-A92F-E3066F20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D3CA3-CA21-478A-BA0A-F5EB2D5B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AFBC0-6B1F-4BE9-B99C-2309A7A3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D53-5B3E-4638-8061-B0D33FCE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B1F18-8BED-404A-B054-E5DD23DC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17E39-DB16-4898-B80F-41B96637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C218B-AC21-40AC-94D1-51425169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2952C-5044-4D76-83B3-8CF1B1BB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866E1-7674-4419-9DA7-7D471DFE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15201-F5B8-4B33-B1E9-91F47E98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3076B-55B6-4FF2-A04F-789E0165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AF7FC-6905-4250-8BF6-AD35F321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151AC-512A-4FF4-8BEF-212F93B7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82EEE-B6AF-4589-8DCB-00EBDC38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DA16-BAB2-48E9-A916-414F7EBF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310AE-34E1-4025-94CC-938D1A1D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02893-FD04-44C2-AB0A-3CF3CE2A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75227-7FB1-4457-82FF-5C7AFE99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BE5B6-BFF5-49C3-9814-E765AAF2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ED22B-D9F2-44EF-8873-08CC7B52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EB49C-541A-4DA3-BD85-20C6EE24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C6E4C-EF2B-489C-B676-19820C5C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5C69D-1490-486D-8D40-DF4C21FD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6B524-4B85-40C7-BF1A-2465345B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45490-C5CC-4B45-94DE-CB1940B9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4FD8-B7CE-42CA-B49D-7CCB6F1B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66297-488D-4543-AB83-24DD31A5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3CAF0-4446-4019-B4C3-FA8290A9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9670B-317A-4B89-B74A-0D7273F6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713B3-12A0-41D9-AE50-1958AE4D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5D642-0908-48D1-891E-3623D448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3A327-CA52-44FE-9084-BB2BF5D7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A65EF-6227-4499-9D99-77390EC2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83E16-1A8B-49D2-9D98-C889BB4D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DE60F-5C59-41A7-BAD5-2C61FDF6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1DD0B-5FD2-4C59-A7FA-31447FA2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815C-9095-437D-B44B-80164181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C192A-A32A-4F63-A701-6738E094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B67F3-6398-4BB8-AA41-2136DED6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B9887-936D-41B4-A8DA-B9F0187B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B4B53-16B5-427D-B2DB-2E9E0814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A2981-7AF3-4BFC-8C23-9C19D749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148EC-D8BA-4902-A6CF-CA04DC85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660A8-B58F-44C1-8A90-ECB7EF08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B5DB-F1BC-43B2-B2C7-E0EBFEC26DFE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14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15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8E52-6374-4D94-9892-6986ACCD96C8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4481-86D4-4A7A-92D2-0F4CF251B49D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2BEE-D99D-4FC4-9088-B6F1B07C9646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CB34-3009-4EFC-A5E4-DFFB3C4F949D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14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EBBF-7998-42D5-923D-0544A00D420B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14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2E21-9C4F-420C-A737-FA03C207FBDE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14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E9F6-1F08-4133-8166-827EE18EC218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15920"/>
            <a:ext cx="6858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Terapia Humanista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la tercera fuerza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La mente condicionada. Obstáculo que debe ser sorteado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El continuum del darse cuen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municación personal YO-TU en las que se expresan y reconocen las perspectivas subjetivas en su calidad de t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Inici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Sabiduría organísmi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 organismo, en su interacción con el medio, posee la capacidad de discriminar aquellas experiencias que le son o no enriquecedoras para si mismo en un momento d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2. Consciencia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Mor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Fisiológica. Desde una menor a una mayor cons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Darse cuenta 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univers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iveles de con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3. responsabilidad.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o somos prisioneros del condicionamien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1° término: Esta responsabilidad a la vez nos hace lib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2° término: Autorrealización del hombre en la salud y no centrado en la enfermeda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3° término: Confrontación en el aquí y en el aho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l cuerpo y el uso de técnicas no verb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4° término: Se amplia el espectro del terapeuta: psicologos, profesores, et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5° término: Exploración con drogas para investigar la existencia de realidades diferent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464653"/>
                </a:solidFill>
                <a:latin typeface="Bookman Old Style"/>
              </a:rPr>
              <a:t>Fundamentos de la psicología humanis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nfianza en la naturaleza y búsqueda de lo natural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ón incondicional de lo que somos y no pretender ser lo que no som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Énfasis en la expresión de lo personal y único en el desarrollo de la creatividad y en la capacidad de juego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entredicho los conceptos de normal y a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conocimiento de las limitaciones de la conciencia 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Trascendencia de la identidad personal egoica y reconocimiento y aceptacion de la totalidad que somos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reprimida o bloqueada que empobrece el verdadero potencial del ser human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Superación de la escisión mente-cuerpo. 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conocimiento de la comunicación con y desde el cuerp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equilibrio entre polaridades y revalorización de lo emocional, lo intuitivo, lo interno y el lenguaje del hemisferio derech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olaridades que finalmente armoniz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on y comprension 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Todas nuestras facet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0" name="Picture 2" descr="C:\Users\Edita Núñez Sotelo\Pictures\yinyan5.jpg"/>
          <p:cNvPicPr/>
          <p:nvPr/>
        </p:nvPicPr>
        <p:blipFill>
          <a:blip r:embed="rId1"/>
          <a:stretch/>
        </p:blipFill>
        <p:spPr>
          <a:xfrm>
            <a:off x="6012000" y="3584520"/>
            <a:ext cx="29145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1:55:27Z</dcterms:created>
  <dc:creator>Edita Núñez Sotelo</dc:creator>
  <dc:description/>
  <dc:language>en-US</dc:language>
  <cp:lastModifiedBy>Edita Núñez Sotelo</cp:lastModifiedBy>
  <dcterms:modified xsi:type="dcterms:W3CDTF">2012-04-23T03:02:00Z</dcterms:modified>
  <cp:revision>7</cp:revision>
  <dc:subject/>
  <dc:title>Diapositiva 1</dc:title>
</cp:coreProperties>
</file>