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CB5-FFD2-418A-ABC3-5298D1A9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54E-4AAD-4A64-B376-76FCEB14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DD08-7B11-4C9B-BB76-B25E9E0F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57E6-ECF4-4D87-A5D6-D272F4E1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C5FD-2716-4E88-AB61-7D29EAD9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1D48-52E8-4F82-9614-95A52823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290F-A5DB-4B09-AECB-00E922AC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0005-EAFA-4562-BB7C-94F89603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530E-A012-4A67-AAFF-D979E215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FCC8-CE71-4665-B7C3-057B11DE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BB00-ECCA-4B73-8A4F-EECEF365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AB26-6878-49F4-93C8-E7F5B1AC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EAE2-151F-4009-9DF3-407A5C1A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FEE1-6B84-4459-A113-72E47548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5599-DC40-4BB1-BBFD-659E7847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D0D3-ABA3-462F-ADB2-C4FD8594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8B76-21F7-493E-B661-EBF3A28C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683F1-AB58-49C5-8E08-DCBD4563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9D55B-D1B1-430D-8405-64EB2D3B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0B72A-4C8C-4A69-8546-1D6B6434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DF64E-A5ED-482D-90C0-239947B3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E7514-D712-47F1-8A3A-32377F02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76F-83E7-4D47-9E4E-17109505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BEDC6-E802-4F6B-AA41-115D9ED4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E317C-2739-4C65-86F1-D2386E3C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FF803-FE83-436D-BAD2-E43B8B22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BEE94-F3DD-4624-856C-60BBD1E1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39C5E-B718-4DA9-9DC3-4FD96EFB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7BF36-AD43-485D-8313-55635763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CE7D6-839E-43F0-B06A-84F17B66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C5FEA-85E7-4274-8F55-B633B7A9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08D81-E773-4E3B-9279-CD92577E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CE51E-78EC-4E3F-950A-4A07DB7A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C88-2929-488B-B9BA-1C5A8607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DA7CC-B4A6-45A5-A74B-350968B1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42C57-615C-4E02-A02D-57ACCCC8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A51A9-0E55-46F2-A33F-B6035904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4581D-AE47-4864-ABFE-3D172BDE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D4C71-CB08-487A-9528-31AB2B40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4311C-91FD-497C-BDD2-856B7FCA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4B0D1-D732-4F7C-8136-7418918A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A263F-E8F9-4091-AA4F-F00DBF77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5D26A-D38E-4643-87B0-66AA1D86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17FE4-9162-4EF4-8A14-2C0C2C72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B2BB-3870-4312-8737-C6747DC7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21E91-E2A5-4E6C-BBFB-BB6D1053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C568F-EFF1-46CD-AEF5-47555744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3F065-81E2-4171-A280-20EAAAAE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5CCA2-6706-423B-AE2A-AE796925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83EA1-3E78-4D6A-861C-D80BA0F4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AA6F6-D443-49A1-B11F-EB4A5124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700E5-2566-440F-A3D0-C1F85C81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04FD9-C649-484A-AE79-6C2A3789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01314-384C-49AB-8AAB-618D728A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D233F-FCFE-4A1E-8746-D22CA3ED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A1E1-0B19-43E0-A491-DC66012A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EADB9-F14D-4219-8C18-CBC8A782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84392-966F-485D-A5D3-08E90E00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49EAA-83A6-4540-96E0-327AE76D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7F20E-A506-49D9-BD90-F3EE1A4C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7AB22-CCF3-48F3-B845-B1048484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CC014-3C1D-47FB-95CC-4FA174F9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04698-B70B-4438-8181-504599EC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15FFB-2D9A-4771-A710-78F1645E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D60A0-DB4A-4A7C-8DF7-0A8B3008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5ABEA-FC04-4980-B295-138DBD65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68F-271E-48A0-8F24-51AC5FA6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775B4-AC6D-4962-AC88-202B07D3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9F190-55FD-4DCF-BC7C-EF2C8F10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3FD14-7305-4834-A11E-7D83A947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B0B0E-D263-485E-8526-55892FD7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69E7C-FA49-486F-85E4-096B3368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A7ECE-F499-4900-9924-1BC4D8E6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99DD4-0EBF-4529-A0AE-38B4F26A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1BCEB-A39A-4678-9D3B-23C5F42D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FF750-307C-4916-8A4A-A192C983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338B2-4A5B-4F5C-A53C-F33846D0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592-C8DA-4355-94E4-81A34C04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5338D-4D04-4352-81A4-496762EF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1386F-8E9E-4D5C-B227-771F1E48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31C06-9715-416A-A4C7-28554854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23FB6-FB74-48E0-A447-42AB809C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1B7BE-62EF-41F3-93EC-DB75A11B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FE698-F44F-4F66-9FB8-E7D588FB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7EA35-42CC-4829-B6DD-0DD6AFA7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4E2D0-A4A2-4656-B8AF-13B54A36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1A5DC-05CA-47CC-837A-6F67CBF0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9F43B-FDC3-4E32-8BDE-DA13A0F4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E9A-1F8F-4A62-A874-F77BE46C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884BC-4D7A-48D3-8933-507E319D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F3CE2-2110-43FD-AC82-2B597F86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66797-8832-4C9E-B8A2-306CD6B8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0AD07-F7A3-4289-B5F9-6E30E900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5A975-74C9-47B3-B31E-2B1EC775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8551A-5A33-444C-99B3-3612F37F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D9769-FB3E-4C8E-B0F1-9D617778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2CD5-F286-41F9-A337-57DAD8FA5BB8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491B-0075-4A09-AD4B-1C4C95927F58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BE14-0530-40AF-A6E2-6061B629061A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7290-E263-4A89-AC3D-3DB4C00D5A3B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D4BE-A33F-48FE-AD57-2F2F39BDD182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6279-E1C9-4B4C-85BF-54E512314501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35F2-27F8-4975-A3CD-EE24EB5C6B63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D148-1837-4A24-85E4-7C9DE7985204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15920"/>
            <a:ext cx="6858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Terapia Humanista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la tercera fuerza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La mente condicionada. Obstáculo que debe ser sorteado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El continuum del darse cuen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municación personal YO-TU en las que se expresan y reconocen las perspectivas subjetivas en su calidad de t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Inici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Sabiduría organísm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organismo, en su interacción con el medio, posee la capacidad de discriminar aquellas experiencias que le son o no enriquecedoras para si mismo en un momento d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2. Consciencia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o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Fisiológica. Desde una menor a una mayor cons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Darse cuenta 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univer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iveles de con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3. responsabilidad.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o somos prisioneros del condicionamien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1° término: Esta responsabilidad a la vez nos hace lib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2° término: Autorrealización del hombre en la salud y no centrado en la enfermeda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3° término: Confrontación en el aquí y en el aho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 cuerpo y el uso de técnicas no verb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4° término: Se amplia el espectro del terapeuta: psicologos, profesores, et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5° término: Exploración con drogas para investigar la existencia de realidades diferent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464653"/>
                </a:solidFill>
                <a:latin typeface="Bookman Old Style"/>
              </a:rPr>
              <a:t>Fundamentos de la psicología humanis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nfianza en la naturaleza y búsqueda de lo natural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ón incondicional de lo que somos y no pretender ser lo que no som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Énfasis en la expresión de lo personal y único en el desarrollo de la creatividad y en la capacidad de juego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entredicho los conceptos de normal y a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conocimiento de las limitaciones de la conciencia 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Trascendencia de la identidad personal egoica y reconocimiento y aceptacion de la totalidad que somos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reprimida o bloqueada que empobrece el verdadero potencial del ser human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Superación de la escisión mente-cuerpo. 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conocimiento de la comunicación con y desde el cuerp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equilibrio entre polaridades y revalorización de lo emocional, lo intuitivo, lo interno y el lenguaje del hemisferio derech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laridades que finalmente armon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on y comprensio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Todas nuestras facet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Picture 2" descr="C:\Users\Edita Núñez Sotelo\Pictures\yinyan5.jpg"/>
          <p:cNvPicPr/>
          <p:nvPr/>
        </p:nvPicPr>
        <p:blipFill>
          <a:blip r:embed="rId1"/>
          <a:stretch/>
        </p:blipFill>
        <p:spPr>
          <a:xfrm>
            <a:off x="6012000" y="3584520"/>
            <a:ext cx="29145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1:55:27Z</dcterms:created>
  <dc:creator>Edita Núñez Sotelo</dc:creator>
  <dc:description/>
  <dc:language>en-US</dc:language>
  <cp:lastModifiedBy>Edita Núñez Sotelo</cp:lastModifiedBy>
  <dcterms:modified xsi:type="dcterms:W3CDTF">2012-04-23T03:02:00Z</dcterms:modified>
  <cp:revision>7</cp:revision>
  <dc:subject/>
  <dc:title>Diapositiva 1</dc:title>
</cp:coreProperties>
</file>