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464-5B78-478E-A2F6-1F8C88BC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AD3-CC9A-4E23-B701-A23574AA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B5C-FC3E-4DE5-858B-3F9057D4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C18-8978-4ACB-9704-236D03A0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64BD-18D7-4E51-9B80-EFCE12BA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EA24-A4CB-471D-B0BB-D60BFA10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6282-8250-4F1B-AEDF-D48042C4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14C2-A9C3-42EC-B484-8E39C1D2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7137-82FD-410C-AE83-BE684056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2997-DEC3-4490-8240-49DC75A3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7C4D-BE21-4E96-B15D-9A2B54C8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A3D-56CD-4106-9A3A-D731AA6E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A9BB-3178-41DF-B733-A9C77A8C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37C6-4349-40E3-B9EA-2C6AF731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B7D3-F30E-4662-81A4-A3B52F1E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CB68-7430-4411-8587-30F365AE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2211-FF47-4198-893A-1B44A53C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20C70-1446-41D3-90F7-190EAD48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44D96-586B-4DE8-BC28-E4E1E861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5747A-26F6-46C4-A24A-0E27FEAD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5EBAA-C4C4-4C69-8CAC-8489ADB2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37596-99E8-45A4-8C88-0DA0E454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2282-D359-4B1F-80AD-6934318E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51543-66D5-4E3F-9534-A365882E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108EB-63E3-4329-99D8-05D4824A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54E42-7C93-482C-B258-268BD9D9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75E91-5504-4FB8-A1A7-A37715ED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63A70-DCDA-4981-A71E-BCAAF55D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1BD96-8A8E-4C47-BEC5-717B629D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58E90-6219-4677-BEF9-3D3A228F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D6FD1-112B-41C8-8593-CCFCCAAC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FF97C-9AAA-4A21-BE1C-884CAF11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74062-6CCF-4042-8748-A4D212DF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8AF-A044-48AC-9774-048D0F1A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AD9B3-EF64-4F72-85EB-299903F3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651EA-CAAC-4EB0-BCFF-0C474815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8D57E-DEDC-4C76-9E6C-D30F1DF0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E0B3B-3B10-4420-A81B-5853DC22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C7DB0-3D8C-4857-826A-39DE057C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9C8E7-41AC-4F78-AB73-EBE07235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4CD7F-EF4D-41FA-8F77-FF0CB954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76D44-17BE-44F1-ABBB-511C5F12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AE202-2F3B-4BE2-81CA-D72BB87B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34D61-16F1-44DF-9736-0BB906EE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28AE-7766-48EF-90B9-F3E4EC74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535DF-7619-4A0B-9A0D-6A667F9B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88776-25D5-49E1-8AAF-CB7E4A51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607DE-8C5E-455F-858A-85579EDB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2A299-D1CD-4EEA-8D2C-E587A1D0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E5C68-6192-4064-8528-FC0274E6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6FF95-896A-4B41-8F31-D78A7C60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4DE5D-C191-43EF-B5B6-99CE8A2C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0CB5C-1E94-464C-ADBC-90FA26FC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0A77B-024B-440E-A63C-7CA9F52C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56684-5391-46E7-B43E-AB51F5ED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A006-D30A-4EAA-9871-0E224CD2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AFD33-141C-48E1-B03B-836585DA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3AA61-042F-4951-AC02-1AE07881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53E8E-D5B9-44BA-AAD5-0EADC965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08A6B-5A72-4D8F-A785-220AE26E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4DDEE-E4D7-47EF-9436-B225224F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3F61B-AE13-4519-B64F-3741FF6A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7A376-B1C5-4C09-A798-13D8C5D6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DA2B4-DF12-4EAD-B81F-82C10FD5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9049C-241A-4E31-B76D-A845840C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96AF1-953F-4EEA-B1D9-F733F7C2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108-FC9A-4421-B0B8-41BB3BC8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D7526-E44A-403F-BBF0-A926E877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C5F96-CAA5-4FF2-848D-B302373D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76523-66A7-4F8C-8767-AB7A747F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097A3-8EB7-40A3-9528-22E08F7E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50B1E-7E39-43CE-B3AE-91102215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A7488-5099-4395-8283-4E8CE8C2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24EF0-3EE0-477B-84B8-0C879F41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7B2E6-20DC-4197-931E-1D2DFA88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E6725-A076-493E-8019-741F6B92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B5620-A6BB-4EE4-8FCC-804A03E9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3333-44E5-4CB2-8A55-45E6C51D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E3F11-67CA-4BA0-963D-476FA08B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87EF7-5766-47AF-AFA0-60BD3F50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0E8EC-4655-4195-B20E-3A2F96B1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04B4D-64E2-4DB1-BF4A-2A2BD6BE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9B548-C817-44B6-B47F-F2B675FB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CD8FB-02B2-4001-BA4B-B8439CAB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66711-3FA2-4726-A14A-94CFE333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70A20-F193-4EE4-B6D9-82B8C33D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FE182-632E-4BD7-958F-62425A32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B8CD6-1DF3-40E1-B1EE-636AB409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4812-EB17-446D-A6FE-708F9637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907FC-4F87-4A6A-9150-8EEFCF19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0F4BB-C5D0-412B-8F5B-F931430D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C94EB-2036-4B78-A166-B2F6C23F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8E448-B946-4481-BE51-DFEDC5FC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CE61C-BDB5-43E0-BA96-E7D00E0D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48304-79E1-419E-BF44-E8B86CCE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DF35E-46B9-4009-BC88-213DFCB6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99E8-3D55-4EAF-84B6-8E1989F48D3F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14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15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C0D9-D5F7-4DD9-87CC-48798B68E7DD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5DBB-FE44-40D5-B39E-D131E92D495D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0ABB-557C-4D1E-875E-FEA9CD5743C3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8C80-B58D-48C3-BDC3-1B860D057270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14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C387-3534-4E38-9C65-C3EEF3F9AAC8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14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24D9-8C1E-4F24-B548-29A5E3843770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14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0941-D404-48B7-A5D6-9CA6E482E42F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15920"/>
            <a:ext cx="6858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Terapia Humanista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la tercera fuerza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La mente condicionada. Obstáculo que debe ser sorteado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El continuum del darse cuen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municación personal YO-TU en las que se expresan y reconocen las perspectivas subjetivas en su calidad de t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Inici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Sabiduría organísmi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 organismo, en su interacción con el medio, posee la capacidad de discriminar aquellas experiencias que le son o no enriquecedoras para si mismo en un momento d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2. Consciencia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Mor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Fisiológica. Desde una menor a una mayor cons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Darse cuenta 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univers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iveles de con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3. responsabilidad.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o somos prisioneros del condicionamien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1° término: Esta responsabilidad a la vez nos hace lib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2° término: Autorrealización del hombre en la salud y no centrado en la enfermeda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3° término: Confrontación en el aquí y en el aho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l cuerpo y el uso de técnicas no verb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4° término: Se amplia el espectro del terapeuta: psicologos, profesores, et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5° término: Exploración con drogas para investigar la existencia de realidades diferent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464653"/>
                </a:solidFill>
                <a:latin typeface="Bookman Old Style"/>
              </a:rPr>
              <a:t>Fundamentos de la psicología humanis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nfianza en la naturaleza y búsqueda de lo natural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ón incondicional de lo que somos y no pretender ser lo que no som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Énfasis en la expresión de lo personal y único en el desarrollo de la creatividad y en la capacidad de juego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entredicho los conceptos de normal y a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conocimiento de las limitaciones de la conciencia 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Trascendencia de la identidad personal egoica y reconocimiento y aceptacion de la totalidad que somos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reprimida o bloqueada que empobrece el verdadero potencial del ser human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Superación de la escisión mente-cuerpo. 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conocimiento de la comunicación con y desde el cuerp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equilibrio entre polaridades y revalorización de lo emocional, lo intuitivo, lo interno y el lenguaje del hemisferio derech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olaridades que finalmente armoniz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on y comprension 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Todas nuestras facet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0" name="Picture 2" descr="C:\Users\Edita Núñez Sotelo\Pictures\yinyan5.jpg"/>
          <p:cNvPicPr/>
          <p:nvPr/>
        </p:nvPicPr>
        <p:blipFill>
          <a:blip r:embed="rId1"/>
          <a:stretch/>
        </p:blipFill>
        <p:spPr>
          <a:xfrm>
            <a:off x="6012000" y="3584520"/>
            <a:ext cx="29145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1:55:27Z</dcterms:created>
  <dc:creator>Edita Núñez Sotelo</dc:creator>
  <dc:description/>
  <dc:language>en-US</dc:language>
  <cp:lastModifiedBy>Edita Núñez Sotelo</cp:lastModifiedBy>
  <dcterms:modified xsi:type="dcterms:W3CDTF">2012-04-23T03:02:00Z</dcterms:modified>
  <cp:revision>7</cp:revision>
  <dc:subject/>
  <dc:title>Diapositiva 1</dc:title>
</cp:coreProperties>
</file>