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C678-4A6C-4D2C-8074-0734D42AA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85C6-0669-4E7D-A1BF-AC5F0EAA8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B8BB-9BCB-43A5-8AF1-779E8BB6F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E9E9-FAC0-47D2-A517-2B6EF4251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A4352-AAA3-46CB-B164-9C25AD043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D0544-3CF0-40FE-97F8-EC0A6BC45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ADE70-89A8-4BEF-9D61-F934C2513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98ED7-CF52-443A-A0A8-3BB0A4043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99E05-8959-4184-A523-2F70B7C1D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7FF99-8F0A-497F-9837-2B9FD6110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64774-00E6-408C-8635-8EC07BDE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36D4-B410-44B8-BAEE-5061F9D68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20403-572D-471C-9F3F-09D0CDD9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AC44D-2DD0-491C-900C-F33D77C7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6C2CB-5670-4C15-9A59-3FEC096AD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4C43A-CF0A-4079-B26E-A818D6DA7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A2310-CB4E-475B-874E-BD4906C2A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E1BD5-BEB1-4A3D-99A4-792679FEE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DF4B1-AFC7-469B-944B-24A43C576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E5F67-CF7F-4B27-B81C-BDFF3D274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59EE5-2B7B-4A91-8EF3-B1A16D80D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62896-A31A-41AB-B8A6-1CB4E6F01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1E9D-C7B8-40EA-8AA0-A9E7BFDF7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AFF33-1CCC-4052-8A62-A7EFB3B0A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3B592-95D0-4E78-969E-94304661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3778E-B6AD-4E51-ADCB-75D6B694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77C98-7884-4175-B999-A902F1F5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20BDC-089F-4DD3-838B-2DC01264B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3CFC9-C760-45A4-ADB8-0029B7399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B1FAA-C181-48F9-983C-9C538CAA6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94B39-923F-4EA2-BBFD-9DA6992EC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D55B4-F955-464E-B3A6-555A2E009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BCEB0-CACC-4138-B210-49A9A2F62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E391-F4A8-4C0E-9C86-1F7D760EF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1D862-5758-4D71-8CB6-99E600F3B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E4962-B886-4AC4-AE32-585A7CA4A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37EA2-2756-46E7-9619-42E0AAEF7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FCCF2-7806-4437-A31F-F77ED8FE9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BAF3E-90A9-4F62-94E6-00B2B784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1D476-5FA7-4DB7-BE24-480CE384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063BB-E678-4269-B511-3EEFE5E3B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FEAF7-4046-4EBE-A3A5-8BE65D496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41BF7-5C3A-43A0-9BC0-7B938F4C7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2512-39B6-4EDD-AC75-895DEE5F6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C090-B231-4D61-BFA2-ED0453EE0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F3FE-E4D4-4BC7-84EA-799C7076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C640-6C4A-400C-B8AE-6D742703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F853-A9F8-49C1-9C75-21176A0F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B9872-EA41-4C7D-AEAB-9D5314251A59}" type="slidenum">
              <a:rPr b="0" lang="es-C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6E8BB-B574-4BF9-9EF2-2980993E8015}" type="slidenum">
              <a:rPr b="0" lang="es-C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8F835-1517-4FA0-9D01-7B33114AADAE}" type="slidenum">
              <a:rPr b="0" lang="es-C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D6F60-BCA1-4A40-A446-C87884D0D8C3}" type="slidenum">
              <a:rPr b="0" lang="es-C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1 Título" descr=""/>
          <p:cNvPicPr/>
          <p:nvPr/>
        </p:nvPicPr>
        <p:blipFill>
          <a:blip r:embed="rId1"/>
          <a:stretch/>
        </p:blipFill>
        <p:spPr>
          <a:xfrm>
            <a:off x="1994040" y="1206360"/>
            <a:ext cx="6186240" cy="19702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071720" y="35719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Constantia"/>
              </a:rPr>
              <a:t>Edita Núñez Sotelo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Constantia"/>
              </a:rPr>
              <a:t>Ps. U. de Chile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Constantia"/>
              </a:rPr>
              <a:t>Mg. Desarrollo Cognitivo UDP 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Dualismo mente-cuerp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a teoría de Descartes dividió el campo de estudio de la conducta humana y surgieron dos tradiciones distint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estudio de la mente humana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y su funcionamiento. La introspección fue su método de anális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investigación sobre los reflejos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. Cómo estos son provocados por estímulos externos que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activan los órganos sensoriales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. Su estudio fue realizado por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fisiólogos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, mediante la observación y la experimentació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Ideas previas…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entido Común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jercicio práctico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n su compañero/a, reflexione acerca de las ideas de sentido común relacionadas con el saber y la práctica de la psicologí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Psicología del sentido comú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Existencia previa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, en todos nosotros, de ideas, creencias y teorías acerca de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por qué las personas hacen lo que hace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Es un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característica universal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los seres humano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Es l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herramienta fundamental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para el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entendimiento, predicción y control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l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conducta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los demá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Se basa en el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supuesto de igualdad…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lo que es válido para mí debe serlo para todo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No obstante esto, se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debe huir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l sentido comú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intuición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no es un criterio válido para construir ciencia psicológ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00040" y="1484280"/>
            <a:ext cx="8454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Sentido común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: válido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sólo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para el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establecimiento de hipótesi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, no para su comprobac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conducta human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, como objeto de estudio, debe ser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independiente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 nosotros mism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500" spc="-1" strike="noStrike">
                <a:solidFill>
                  <a:srgbClr val="04617b"/>
                </a:solidFill>
                <a:latin typeface="Calibri"/>
              </a:rPr>
              <a:t>Finalmente…</a:t>
            </a:r>
            <a:br>
              <a:rPr sz="4500"/>
            </a:br>
            <a:r>
              <a:rPr b="0" lang="es-CL" sz="4500" spc="-1" strike="noStrike">
                <a:solidFill>
                  <a:srgbClr val="04617b"/>
                </a:solidFill>
                <a:latin typeface="Calibri"/>
              </a:rPr>
              <a:t>¿Qué estudia la Psicología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psicología es una ciencia que estudia el comportamiento de los seres vivos y los procesos mentales por los que los sujetos conocen y se orientan en su entorno y aprenden de la experi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aracteríst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 una cienci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experiment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Utilización método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hipotético-deductiv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Observación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rigurosa y sistemática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de los fenómenos psicológic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arte de los hechos y busca sus regularidades mediante la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verificación empír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aracteríst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s una ciencia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ecléct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Recoge datos aportados por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otras disciplinas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(biología, sociología, antropología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osee un carácter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multidisciplinar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, ya qu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está interesada en el comportamiento (psicología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De un organismo (biología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Que aprende a adaptarse al medio ambiente (ecología) cambiant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Mediante la relación con otros seres (sociología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Sin olvidar la cultura en la cual se desarroll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aracteríst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psicología opera con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stintos niveles de análi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Todas las disciplinas pertenecientes a esta ciencia trabajan en alguno de dichos nive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Un psicólogo social se ocupa mas del estudio de  los grup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Un psicólogo clínico se centrará en el diagnóstico y tratamiento de individuos con problemas emocionales o de conduct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aracteríst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versas concepciones acerca de la psicología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penden de las distintas ideas sobre la naturaleza del ser humano (filosofía) y de las formas del conocimiento (epistemología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presentació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onverse con su compañero/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porqué eligió estudiar bachillerato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Qué experiencia cercana ha tenido con la labor de los psicólogos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Reflexione brevemente respecto de cómo se vivió el último terremoto que afectó a nuestro paí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Cómo ha sido la conducta de las personas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Que emociones nos han invadido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cree usted que en estas circunstancias son necesario los psicólogos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1935000"/>
          <a:ext cx="8229600" cy="4043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Niveles de análi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alternativ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pec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umana, otras espec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lt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atina, gitana, anglosajona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ru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amilia, pandilla, grupo, equi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í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reja, díada madre-hijo, profesor-alumno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dividu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dultos, niños, discapacitados, estudiantes universitarios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oceso psicológ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ersonalidad, atención memoria, motivación, inteligencia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mponente psicológ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nducta manifiesta, bases fisiológicas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9292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182600" y="1773000"/>
            <a:ext cx="777240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mo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disciplina académic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, bus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Describir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: la tarea básica de la psicología es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recoger datos y recabar información detallad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sobre los procesos cognitivos y los comportamient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j: si un sujeto padece insomnio hay que investigar que estímulos influyen, en que situaciones se produce, o que problema le impide conciliar el sueñ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Explicar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la psicología no se conforma con describir los hechos,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trata de averiguar las causas de determinada conduct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ara ello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formula hipótesis o explicaciones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basadas en una teorí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iempre son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rovisionales y sujetas a revisión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a medida que se tiene mayor conocimiento de la conducta que se investig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redecir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es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apacidad para pronosticar un comportamient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Una relación causa-efecto dentro del ambiente nos asegura con bastante fiabilidad que unos hechos preceden a otro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Podemos saber si alguien mantendrá una conversación con nosotros por su forma de mirarno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prender  a predecir acontecimientos es necesario para adaptarnos a nuestro entorn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42960" y="157140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ntrolar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signific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lterar las condiciones que influyen en el comportamiento de manera predecib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j: si una profesora sugiere cambios en clase para ayudar a adolescentes en su aprendizaje, ha ejercido un contro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No obstante esto, algunas actividades humanas no son normales porque ocurren en situaciones inapropiad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Gritar se aprueba socialmente si uno se encuentra viendo un partido de fútbol, pero se prohíbe en una catedral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Tipos de preguntas que se hacen en psicologí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Nivel fisiológico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: por ejemplo a nivel de anatomía, fisiología, etc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Nivel fenomenológico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: relacionadas con la experiencia subjetiva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Nivel conductual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: hace referencia 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características del comportamiento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que pueden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ser observadas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modo objetivo. Aplicación del método científico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En este último nivel trabaja la psicología científ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Tipos de respuestas en psicologí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nálisis de la conducta con el objetivo de entender la organización interna del siste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Tipos de respuestas en psicologí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Establecimiento de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relaciones funcionales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entre situaciones (estímulos) y conducta: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una relación funcional es un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descripción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la conducta o los cambios conductuales que suceden en una determinada situación ambienta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La relación funcional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describe pero no explic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Tipos de respuestas en psicologí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Descubrimiento de l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estructura y procesos internos del sistem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Se busca un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explicación de las razones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por las cuales el sistema se comporta como lo hace en una situación dad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Aproximación  a l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“caja negra”…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visualización del cerebro en acció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7793280" cy="1343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La caja negra en el estudio de los procesos psicológicos superiores…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4360" y="1557360"/>
            <a:ext cx="82706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Cuerpo de conocimiento de cómo está estructurado nuestro sistema cognitivo y como realizan sus funcion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Por ejemplo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Sensación y Percepció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Atención y concienc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Emoción, sentimientos y estados de ánim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Memor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Inteligenc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Aprendizaj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sde siempre ha existido interés por comprender nuestra conducta y la de nuestros semejan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épocas pasadas la vida humana era más simpl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la actualidad, nuestra sociedad es má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mplej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y mas postmoderna, requerimos más información para poder funcion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93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El método científi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84360" y="1268280"/>
            <a:ext cx="827064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 aplicación del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método científico valid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al objeto de estud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Controversia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respecto a lo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fenomenológic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n investigac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Lo cuantitativ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Lo cualitativ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9328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El método científi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971640" y="1341000"/>
            <a:ext cx="777240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Método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hipotético-deductivo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mienza con un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ide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, presentimiento, intuición o suposición acerca de algo, lo que se constituye como 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hipóte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e realizan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prediccione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(preguntas) sobre las conductas observab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El método científi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187280" y="112536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Generalización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 resultad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Mayoritariamente, el objetivo de los estudios psicológicos es la comprobación de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hipótesis generale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que son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aplicable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a 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población en general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y no solo a los sujetos participantes en el estud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El método científico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182600" y="1052280"/>
            <a:ext cx="7772400" cy="50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Factore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a considerar para poder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generalizar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los resultad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Tamaño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 la muestra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Muestra amplia y datos promediad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elección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aleatori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 los sujetos de la muestr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replicabilidad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l estudio por otros investigadores en otras ciudades o país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distingue entre ciencia básica y ciencia aplicad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básica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dedica a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vestigación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de los procesos psicológicos mediante 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método científic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aplicada utiliz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nocimiento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n los diferentes ambientes donde los individuos actúa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general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ocupa d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vestigar la naturaleza y funcionamiento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 los “procesos psicológicos básicos” como la percepción, la memoria o el pensamien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experimental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udia los procesos psicológicos mediant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seños experimentales de laboratori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 Es el área de la psicología más rigurosa y científica y utiliza tanto animales como seres humanos en sus investigaci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biologí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obiólogos estudian 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bases biológicas del comportamient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no sólo el sistema nervioso y endocrino, sino también las influencias de la genética o la farmacología en la conduct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porqué unas lesiones del cerebro producen pérdida de memoria y otras causan trastornos del lenguaje?...¿qué áreas cerebrales son importantes en las emociones humana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evolutiv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Ésta se preocupa de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ambio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de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nduct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que se producen durante 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esarrollo del ciclo vit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Cuáles son las etapas del desarrollo de la inteligencia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¿hay una decadencia de la memoria en la vejez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social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u campo de estudio es muy amplio y abarca problemas diversos, como el análisis de la publicidad o las influencias de un grupo sobre el individu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Cómo influye la sociedad en el comportamiento de los individuo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de la personalid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de la personalidad investigan qu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aracterísticas definen a una person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como interactúan las fuerzas genéticas y ambientales en la personalidad del individuo y porqué este se comporta de una forma y no de otr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se nace con determinada personalidad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tim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palabra Psicología proviene de dos términos grieg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600" spc="-1" strike="noStrike">
                <a:solidFill>
                  <a:srgbClr val="000000"/>
                </a:solidFill>
                <a:latin typeface="Constantia"/>
              </a:rPr>
              <a:t>Psyché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y </a:t>
            </a:r>
            <a:r>
              <a:rPr b="1" i="1" lang="es-CL" sz="2600" spc="-1" strike="noStrike">
                <a:solidFill>
                  <a:srgbClr val="000000"/>
                </a:solidFill>
                <a:latin typeface="Constantia"/>
              </a:rPr>
              <a:t>logos</a:t>
            </a:r>
            <a:r>
              <a:rPr b="0" i="1" lang="es-CL" sz="26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que significan alma (entendida como lo que “anima” o “da vida” al cuerpo),  y conocimiento o ciencia de la mis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us raíces se encuentran el la filosofía, la fisiología y la metodología científ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del aprendizaje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del aprendizaje, mediante la investigación animal y humana, han demostrado algun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rocesos que influyen en el aprendizaje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y las diferencias entre las diversas especies respecto a su capacidad para aprender conductas concreta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diferenci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a disciplina investiga 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ferencias individuales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que presentan los individuos, por ejemplo niños retrasados o superdotad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mparándolo con la media de su grupo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 refer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u principal herramienta es la utilización d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test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psicológicos par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estudiar distintas capacidades human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cultur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culturales investigan 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forma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n que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ultura afecta al pensamiento y al comportamiento human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lenguaje que hablamos, la educación que recibimos, las leyes que obedecemos y otros muchos comportamientos dependen de la cultura en la que hemos creíd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del géner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udia 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ferencias entre hombres y mujere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y la forma en que se desarrolla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factores biológicos, la crianza, la educación, los estereotipos influyen en la diferencia de géner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iberpsicologí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ternet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s un marco de referencia para diseñar estudios experimentales, crear aulas virtuales en las que desarrollar nuevos enfoques docentes o crear nuevos procedimientos de investigació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aplica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ocupa de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funcionalidad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de los procesos psicológicos en los contextos donde los individuos actúa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tiende a la dimensión normal, individual o colectiva y también a la conducta patológ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aplica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educativ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educativos analizan la realidad educativa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realizan e interpretan pruebas psicológicas para ayudar a los estudiantes en sus decisi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Orientan a padres y profesores para lograr mejor rendimiento de los años escolar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Cómo pueden los niños mejorar su aprendizaje y su creatividad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aplica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clínic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clínicos diagnostican y tratan problemas emocionales y de conducta, desde los más débiles, como falta de autoestima o timidez, hasta los más problemáticos como la separación de parejas, el estrés o la depres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yudan al ser humano a enfrentarse a su propio sufrimien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aplica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industrial y de las organizaci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ocupa de la selección y entrenamiento de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trabajadore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y d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mejorar las relaciones humana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n el ámbito labor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onstantia"/>
              </a:rPr>
              <a:t>Taller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su devenir histórico la psicología ha tenido varios objetos de estud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El alm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La men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La conduct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limitar su campo de investigación y crear métodos y técnicas propias permitieron su independ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la Grecia antigua,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latón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defendía un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ncepción dualista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 la naturaleza human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hombre estaba compuesto de alma y cuerp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lm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ra d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origen divin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una realidad distinta el cuerpo material, y a consecuencia de una culpa cometida llegó desde el otro mundo a encarnarse en un cuerpo mort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Más tarde,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ristótele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concibió la </a:t>
            </a:r>
            <a:r>
              <a:rPr b="1" i="1" lang="es-CL" sz="2600" spc="-1" strike="noStrike">
                <a:solidFill>
                  <a:srgbClr val="000000"/>
                </a:solidFill>
                <a:latin typeface="Constantia"/>
              </a:rPr>
              <a:t>psyché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como un elemento o principio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biológic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lm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ra así un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ropiedad esencial del ser viv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y no era independiente del cuerp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Fuera de este el alma carecía de sentido y exist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as dos ideas de “alma” integradas en un horizonte filosófico son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icios de la psicologí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siglo XVII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produce un cambio de perspectiva con el comienzo de la filosofía moderna atribuida al filósofo y matemático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René Descar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ntes de sus ideas, cualquier función vital de los organismos se explicaba por la existencia del al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Nadie pensaba que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ctos humanos pudieran deberse a la influencia de estímulos ambienta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escarte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formuló un visión de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ct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Voluntarios e involuntari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lgunos actos como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reflejo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son reacciones automáticas 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voluntarias a estímulos extern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Otras acciones son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voluntarias, gobernadas por la mente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(entidad no física) y debidas a que la persona elige comportarse así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01:55:38Z</dcterms:created>
  <dc:creator>Edita Núñez Sotelo</dc:creator>
  <dc:description/>
  <dc:language>en-US</dc:language>
  <cp:lastModifiedBy>Edita Núñez Sotelo</cp:lastModifiedBy>
  <dcterms:modified xsi:type="dcterms:W3CDTF">2012-03-12T03:23:43Z</dcterms:modified>
  <cp:revision>13</cp:revision>
  <dc:subject/>
  <dc:title>PSICOLOGÍA</dc:title>
</cp:coreProperties>
</file>