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DEA-6B1F-43A0-96BB-971B4929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B79-0AD8-48FB-9EDD-0A00E5D1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AA38-CEA4-4F55-9777-A90EDF45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80F7-409F-4198-A3F4-A1928E49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4134-2D4A-4AC3-800E-D47A0566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F531-045A-41CE-8A10-FC5E1873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A824-161A-40B3-885D-3E06FB72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A28B-B6E2-4D43-B79D-D8503E74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AE04-7EF3-456D-B90C-E7EDDD71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C9E7-B02A-486B-B334-797C45D4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995E-4432-4FAB-80A1-F70B9B29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8C5-1C0B-4F7E-BA05-0A376F1A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E323-E843-4BC1-84D8-4F1867EF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B99D-628A-4FDB-A734-541902CB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225E-9877-454A-ABD0-4B30F07A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778B-73A0-4044-90C7-D46244FA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6C26-8A04-4F57-89BE-2D08B803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39E3F-8459-4E46-9545-D449241B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A1FA5-8313-4E3D-8402-9108E09D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9A83D-80B9-4F61-80F7-094DEBA1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D2827-20DB-460A-9690-188BF63E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F9C7B-C56D-46EA-AFEA-67D2D553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CF1E-C0FB-4904-9A56-11AEB9B5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5AE2A-E2C1-46EA-A74C-97322533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80512-3EC3-4438-AC3A-D620C0F3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A4B3D-F5AD-413D-B7E9-3D144F04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5F946-4233-4C99-B6EF-10751CFE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F6350-D7FB-4DE0-8A15-44DCD3A9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7C7AB-D439-40F2-B611-EF74E1A4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3AF58-1358-4540-8590-1D3393F1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868CD-B7DC-4C08-890C-6DFB1820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9A450-893B-4B3E-B908-F40D1B51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8A91F-730F-469F-9396-5011E3AF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EF0-0EC9-4471-A2FD-2ADDA1F6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88C24-091B-4251-806D-6E47BB3E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46AF7-B836-4FF3-872F-F0B9BA8B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F360A-0F54-4A60-904A-0BB91ACD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F93A1-E651-4664-95AD-C89D6A73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50131-6FB5-4255-93FB-957DAEC5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4AE43-8C33-4546-9A4D-A31DBD18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9D31A-DEF9-417E-9979-A80F2BAA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C9B6F-2CC9-4386-915D-0B378A5B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45331-8C71-459A-B1DB-FEBB43F1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C2D9-ED4A-46E8-BC2A-BFF802EA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9842-0A48-4937-ABCA-B3B7929E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E076-4BB0-4A56-B318-C5CEA68C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0390-101A-4758-A442-4EDAA007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BBA-27D8-42A7-B630-DE787B7B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0330-1192-46D3-8B46-13BC7DD22A82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84C7-A570-4318-A693-487EBB0A7945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2D8B-A7E1-4A67-961C-8C1F917AC885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EADF-90E0-48DA-B5DA-017DDB7A65C4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1994040" y="1206360"/>
            <a:ext cx="6186240" cy="197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71720" y="35719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Edita Núñez Sotelo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Ps. U. de Chile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Mg. Desarrollo Cognitivo UDP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ualismo mente-cuerp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de Descartes dividió el campo de estudio de la conducta humana y surgieron dos tradiciones distin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studio de la mente human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su funcionamiento. La introspección fue su método de análi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stigación sobre los reflej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Cómo estos son provocados por estímulos externos que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activan los órganos sensorial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Su estudio fue realizado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fisiólog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mediante la observación y la exper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deas previa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ido Comú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cio práctic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 su compañero/a, reflexione acerca de las ideas de sentido común relacionadas con el saber y la práctica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sicología del sentido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istencia previ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, en todos nosotros, de ideas, creencias y teorías acerca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or qué las personas hacen lo que hac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 univers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seres human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herramienta fundament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ntendimiento, predicción y contro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demá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asa en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upuesto de igualdad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que es válido para mí debe serlo para tod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obstante esto, s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be hu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sentido comú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tui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no es un criterio válido para construir ciencia psic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84280"/>
            <a:ext cx="8454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entido comú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váli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ól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stablecimiento de hipótesi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no para su comprob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ducta human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como objeto de estudio, debe s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dependiente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nosotros mis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Finalmente…</a:t>
            </a:r>
            <a:br>
              <a:rPr sz="4500"/>
            </a:b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¿Qué estudia la Psicología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es una ciencia que estudia el comportamiento de los seres vivos y los procesos mentales por los que los sujetos conocen y se orientan en su entorno y aprenden de la exper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eri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tilización método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servación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rigurosa y sistemátic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los fenómenos psic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te de los hechos y busca sus regularidades mediante 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verificación empí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cléc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ge datos aportados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otras disciplin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(biología, sociología, antrop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ee un carácte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multidisciplinar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ya 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tá interesada en el comportamiento (psic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De un organismo (b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Que aprende a adaptarse al medio ambiente (ecología) cambia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Mediante la relación con otros seres (soc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n olvidar la cultura en la cual se desarrol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opera c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tintos niveles de análi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as las disciplinas pertenecientes a esta ciencia trabajan en alguno de dichos niv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social se ocupa mas del estudio de  los gru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clínico se centrará en el diagnóstico y tratamiento de individuos con problemas emocionales o de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versas concepciones acerca de la psicolog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s distintas ideas sobre la naturaleza del ser humano (filosofía) y de las formas del conocimiento (epistemologí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esen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verse con su compañer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qué eligió estudiar bachillera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é experiencia cercana ha tenido con la labor de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flexione brevemente respecto de cómo se vivió el último terremoto que afectó a nuestro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ómo ha sido la conducta de las persona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e emociones nos han invadi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ree usted que en estas circunstancias son necesario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935000"/>
          <a:ext cx="8229600" cy="40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iveles de anál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lter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umana, otras e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ina, gitana, anglosajon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u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milia, pandilla, grupo,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í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eja, díada madre-hijo, profesor-alumno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os, niños, discapacitados, estudiantes universitario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ceso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lidad, atención memoria, motivación, inteligenci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onente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ducta manifiesta, bases fisiológic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isciplina académic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bus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scrib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la tarea básica de la psicología e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coger datos y recabar información detall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sobre los procesos cognitivos y los comportami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: si un sujeto padece insomnio hay que investigar que estímulos influyen, en que situaciones se produce, o que problema le impide conciliar el sue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ic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la psicología no se conforma con describir los hechos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ta de averiguar las causas de determinad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ell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ula hipótesis o explicacion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asadas en una teor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empre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visionales y sujetas a revis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a medida que se tiene mayor conocimiento de la conducta que se investi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deci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es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pacidad para pronosticar un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lación causa-efecto dentro del ambiente nos asegura con bastante fiabilidad que unos hechos preceden a otr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Podemos saber si alguien mantendrá una conversación con nosotros por su forma de mirarn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 a predecir acontecimientos es necesario para adaptarnos a nuestro ento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960" y="15714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trol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signific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terar las condiciones que influyen en el comportamiento de manera predec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si una profesora sugiere cambios en clase para ayudar a adolescentes en su aprendizaje, ha ejercido un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obstante esto, algunas actividades humanas no son normales porque ocurren en situaciones inapropi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ritar se aprueba socialmente si uno se encuentra viendo un partido de fútbol, pero se prohíbe en una catedr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preguntas que se hacen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isi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por ejemplo a nivel de anatomía, fisiología, et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enomen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relacionadas con la experiencia subjeti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conductu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hace referencia 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s del comportamient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que pueden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er observada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modo objetivo. Aplicación del método científ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este último nivel trabaja la psicología científ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álisis de la conducta con el objetivo de entender la organización interna del sist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ablecimiento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relaciones funcional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entre situaciones (estímulos) y conducta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una relación funcional 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pció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conducta o los cambios conductuales que suceden en una determinada situación ambien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lación funciona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be pero no expl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scubrimiento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structura y procesos internos del siste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usca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plicación de las razon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or las cuales el sistema se comporta como lo hace en una situación d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proximación  a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“caja negra”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visualización del cerebro en ac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932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caja negra en el estudio de los procesos psicológicos superiores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557360"/>
            <a:ext cx="8270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uerpo de conocimiento de cómo está estructurado nuestro sistema cognitivo y como realizan sus funcio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sación y Percep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ción y conci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moción, sentimientos y estados de áni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eli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siempre ha existido interés por comprender nuestra conducta y la de nuestros semeja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épocas pasadas la vida humana era más simp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actualidad, nuestra sociedad es má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lej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mas postmoderna, requerimos más información para poder funcion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8270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aplicación d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étodo científico vali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l objeto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vers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respecto a l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enome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investig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nt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l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164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éto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ienza con un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de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presentimiento, intuición o suposición acerca de algo, lo que se constituye como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aliza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rediccion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preguntas) sobre las conductas observ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8728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ayoritariamente, el objetivo de los estudios psicológicos es la comprobación d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 genera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que so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plicab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oblación en general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y no solo a los sujetos participantes en el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actor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considerar para pod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os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Tamañ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a muest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uestra amplia y datos promedi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lecció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leatori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os sujetos de la mues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plicabilidad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estudio por otros investigadores en otras ciudades o paí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istingue entre ciencia básica y ciencia aplic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básic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dica a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c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medi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étodo cientí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aplicada utiliz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ocimient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los diferentes ambiente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gener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r la naturaleza y funcionamien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“procesos psicológicos básicos” como la percepción, la memoria o el pens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xperiment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os procesos psicológicos mediant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eños experimentales de labor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el área de la psicología más rigurosa y científica y utiliza tanto animales como seres humanos en sus investig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biolog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obiólogos estudi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ases biológicas del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no sólo el sistema nervioso y endocrino, sino también las influencias de la genética o la farmacología en l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porqué unas lesiones del cerebro producen pérdida de memoria y otras causan trastornos del lenguaje?...¿qué áreas cerebrales son importantes en las emociones human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volu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Ésta se preocupa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mbi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se producen dur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arrollo del ciclo v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uáles son las etapas del desarrollo de la inteligenci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hay una decadencia de la memoria en la vejez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soci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campo de estudio es muy amplio y abarca problemas diversos, como el análisis de la publicidad o las influencias de un grupo sobre el individu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influye la sociedad en el comportamiento de los individu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 la person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 la personalidad investigan qu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racterísticas definen a una person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como interactúan las fuerzas genéticas y ambientales en la personalidad del individuo y porqué este se comporta de una forma y no de o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se nace con determinada personal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tim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alabra Psicología proviene de dos términos grieg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logos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significan alma (entendida como lo que “anima” o “da vida” al cuerpo),  y conocimiento o ciencia de la mis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s raíces se encuentran el la filosofía, la fisiología y la metodología científ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aprendizaj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l aprendizaje, mediante la investigación animal y humana, han demostrado algun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cesos que influyen en el aprendizaj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las diferencias entre las diversas especies respecto a su capacidad para aprender conductas concret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iferen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 disciplina investig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individual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presentan los individuos, por ejemplo niños retrasados o superdotad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arándolo con la media de su grup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re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principal herramienta es la utilización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es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sicológicos pa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studiar distintas capacidades huma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ul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ulturales investig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qu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ltura afecta al pensamiento y al comportamiento hum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enguaje que hablamos, la educación que recibimos, las leyes que obedecemos y otros muchos comportamientos dependen de la cultura en la que hemos creí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entre hombres y muje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la forma en que se desarroll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factores biológicos, la crianza, la educación, los estereotipos influyen en la diferencia de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iber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terne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un marco de referencia para diseñar estudios experimentales, crear aulas virtuales en las que desarrollar nuevos enfoques docentes o crear nuevos procedimientos de investig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alidad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en los contexto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tiende a la dimensión normal, individual o colectiva y también a la conducta pat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educativos analizan la realidad educativ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alizan e interpretan pruebas psicológicas para ayudar a los estudiantes en sus deci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rientan a padres y profesores para lograr mejor rendimiento de los años escol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pueden los niños mejorar su aprendizaje y su creativ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línic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línicos diagnostican y tratan problemas emocionales y de conducta, desde los más débiles, como falta de autoestima o timidez, hasta los más problemáticos como la separación de parejas, el estrés o la de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yudan al ser humano a enfrentarse a su propio sufr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industrial y de las organiz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selección y entrenamiento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bajado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r las relaciones human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el ámbito labo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Tall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su devenir histórico la psicología ha tenido varios objetos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l al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limitar su campo de investigación y crear métodos y técnicas propias permitieron su indep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Grecia antigua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lat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fendía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cepción dualist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a naturaleza hum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hombre estaba compuesto de alma y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rigen divin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a realidad distinta el cuerpo material, y a consecuencia de una culpa cometida llegó desde el otro mundo a encarnarse en un cuerpo mor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ás tarde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ristótel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ncibió la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mo un elemento o principi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iológic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así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piedad esencial del ser viv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 no era independiente del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ra de este el alma carecía de sentido y exist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s dos ideas de “alma” integradas en un horizonte filosófico son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icios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siglo XVII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produce un cambio de perspectiva con el comienzo de la filosofía moderna atribuida al filósofo y matemátic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né Descar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tes de sus ideas, cualquier función vital de los organismos se explicaba por la existencia del al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adie pensaba qu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 humanos pudieran deberse a la influencia de estímulos ambient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car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formuló un visión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os e involunt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actos como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flej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on reacciones automáticas 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oluntarias a estímulos exter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ras acciones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as, gobernadas por la ment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entidad no física) y debidas a que la persona elige comportarse as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1:55:38Z</dcterms:created>
  <dc:creator>Edita Núñez Sotelo</dc:creator>
  <dc:description/>
  <dc:language>en-US</dc:language>
  <cp:lastModifiedBy>Edita Núñez Sotelo</cp:lastModifiedBy>
  <dcterms:modified xsi:type="dcterms:W3CDTF">2012-03-12T03:23:43Z</dcterms:modified>
  <cp:revision>13</cp:revision>
  <dc:subject/>
  <dc:title>PSICOLOGÍA</dc:title>
</cp:coreProperties>
</file>