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76D-D9CB-430C-9A0D-2B4F1476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7EB-05D1-4CAC-A9BD-13982F87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9A0-6DAD-4F6A-8DC9-34698D7B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9E4-7FCA-4533-85D7-597DF6F3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442-0964-4015-A7DE-E09B519D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6664-C10E-4910-A0DA-37E86152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AA9-E5BE-4042-ABB3-7AA1D4DD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898-718F-4A22-8384-469A3BCA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FC3-900D-47FD-AD1A-C41A9754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B98-7C98-4CFA-8CA4-62E2CB0D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971-1666-488C-91C3-FDB6D1E0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129-C759-4FE0-8CB1-34A52960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B302-2489-40C3-8050-DB075D129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rro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nolftaleína, 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690560"/>
            <a:ext cx="45720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5680" y="1440"/>
            <a:ext cx="842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yes de Far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rimera Ley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La masa de un elemento deposi-tada en un electrodo es proporcional a la can-tidad de electricidad que pasa a través de la so-lución del electrólito o del electrólito fund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Segunda Ley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Las masas de elementos que se depositan en los electrodos son proporcionales a los equivalentes químic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8200" y="1440"/>
            <a:ext cx="805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971640" y="692280"/>
          <a:ext cx="7056360" cy="14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92280"/>
                    <a:ext cx="705636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0" y="2276640"/>
          <a:ext cx="9144000" cy="36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914400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2421000"/>
          <a:ext cx="9001080" cy="177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900108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0" y="460440"/>
            <a:ext cx="913464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0200" y="1440"/>
            <a:ext cx="647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5680" y="1440"/>
            <a:ext cx="842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ectról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utiliza electricidad para producir una reacción no espontá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898640"/>
            <a:ext cx="40384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84360" y="706320"/>
          <a:ext cx="7991280" cy="55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06320"/>
                    <a:ext cx="799128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84480" y="1440"/>
            <a:ext cx="476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1:14:31Z</dcterms:created>
  <dc:creator>Carlos Hernandez</dc:creator>
  <dc:description/>
  <dc:language>en-US</dc:language>
  <cp:lastModifiedBy>Carlos Hernandez</cp:lastModifiedBy>
  <dcterms:modified xsi:type="dcterms:W3CDTF">2007-10-30T21:14:50Z</dcterms:modified>
  <cp:revision>1</cp:revision>
  <dc:subject/>
  <dc:title>Corrosión</dc:title>
</cp:coreProperties>
</file>