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01B-7E5F-460F-8284-2A890407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25E-C9CF-44B4-9E07-ECB76EC0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6BD-FFA5-49CE-9DA8-BFE50DB2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A36-E693-4160-B445-F1F19118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A36-813E-4153-9151-403151DA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3D3-69A4-4BA2-86A9-6E4AEC9D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843-BE09-4187-B793-507A79E6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8CE-0370-48E4-8C9A-760199F4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C0A-9C86-4D5D-BDBA-31344C20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B5B-B622-4B1D-91AE-97104B2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8E6-62BB-429B-B664-15F8246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08E-9158-4196-8495-92A3F102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B029-E5FB-44EE-B006-0895BA422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o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nolftaleína,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0560"/>
            <a:ext cx="4572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5680" y="1440"/>
            <a:ext cx="84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yes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imera Ley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La masa de un elemento deposi-tada en un electrodo es proporcional a la can-tidad de electricidad que pasa a través de la so-lución del electrólito o del electrólito fun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egunda Ley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Las masas de elementos que se depositan en los electrodos son proporcionales a los equivalentes químic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8200" y="1440"/>
            <a:ext cx="80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71640" y="692280"/>
          <a:ext cx="705636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05636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2276640"/>
          <a:ext cx="914400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914400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2421000"/>
          <a:ext cx="9001080" cy="17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00108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0" y="460440"/>
            <a:ext cx="913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0200" y="144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5680" y="1440"/>
            <a:ext cx="84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ectró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tiliza electricidad para producir una reacción no espontá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898640"/>
            <a:ext cx="40384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706320"/>
          <a:ext cx="7991280" cy="55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0632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84480" y="1440"/>
            <a:ext cx="476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1:14:31Z</dcterms:created>
  <dc:creator>Carlos Hernandez</dc:creator>
  <dc:description/>
  <dc:language>en-US</dc:language>
  <cp:lastModifiedBy>Carlos Hernandez</cp:lastModifiedBy>
  <dcterms:modified xsi:type="dcterms:W3CDTF">2007-10-30T21:14:50Z</dcterms:modified>
  <cp:revision>1</cp:revision>
  <dc:subject/>
  <dc:title>Corrosión</dc:title>
</cp:coreProperties>
</file>