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E6A-D702-45E5-A131-A27CA4C3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956-CCB1-4C50-9072-2E1749B2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2A9-6755-4C56-A627-5F57DBCB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021-B7B4-4306-B0E2-B83FA1BA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DE3-85D2-49E3-B494-EFD4A85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B8B-7CC2-4868-9868-0E6E5D2D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F5C-5930-4C89-88EA-C75F814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C73-645E-4CDE-B41D-9461C58D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8B0-EDCE-40E9-9D78-7D7ABEF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A66-CF0D-412F-8656-4EFEDAAA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ABB-9C8D-4149-8CDA-80E186A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AB4-9FF6-41DC-BF3F-DEE02078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2BA9-B274-4688-AD0F-0AF545EF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nolftaleína,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0560"/>
            <a:ext cx="4572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yes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imer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 masa de un elemento deposi-tada en un electrodo es proporcional a la can-tidad de electricidad que pasa a través de la so-lución del electrólito o del electrólito fun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gund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s masas de elementos que se depositan en los electrodos son proporcionales a los equivalentes quím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8200" y="1440"/>
            <a:ext cx="80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71640" y="692280"/>
          <a:ext cx="705636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0563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2276640"/>
          <a:ext cx="914400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91440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2421000"/>
          <a:ext cx="9001080" cy="17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00108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460440"/>
            <a:ext cx="913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0200" y="144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ectró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tiliza electricidad para producir una reacción no espont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898640"/>
            <a:ext cx="4038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706320"/>
          <a:ext cx="799128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0632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84480" y="1440"/>
            <a:ext cx="47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1:14:31Z</dcterms:created>
  <dc:creator>Carlos Hernandez</dc:creator>
  <dc:description/>
  <dc:language>en-US</dc:language>
  <cp:lastModifiedBy>Carlos Hernandez</cp:lastModifiedBy>
  <dcterms:modified xsi:type="dcterms:W3CDTF">2007-10-30T21:14:50Z</dcterms:modified>
  <cp:revision>1</cp:revision>
  <dc:subject/>
  <dc:title>Corrosión</dc:title>
</cp:coreProperties>
</file>