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8E3-F98B-47DA-A74C-94864460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DFB-83DB-4DED-8538-E4206360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8FC-447F-4ADB-98F1-32885028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462-45D9-46C7-B5EC-1993B48F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7B1-403C-4DDF-AEBD-C7F0D7DA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951-C0DC-4CEF-B814-FE1F802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F5D-456E-46EA-AF7F-C6E1E98B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1EE-C578-4678-B6D4-1B43B00E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928-2FA1-4B68-9598-BA4C395A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4EE-5692-46D3-92BC-EA54EF9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FBF-D281-409B-82FC-4B1B2D82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612-2E77-406E-95E0-B7223DC6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ACCF-CDCC-4148-BB09-17D8FD3D7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o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nolftaleína, 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90560"/>
            <a:ext cx="4572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5680" y="1440"/>
            <a:ext cx="84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yes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imera Ley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La masa de un elemento deposi-tada en un electrodo es proporcional a la can-tidad de electricidad que pasa a través de la so-lución del electrólito o del electrólito fund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Segunda Ley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Las masas de elementos que se depositan en los electrodos son proporcionales a los equivalentes químic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8200" y="1440"/>
            <a:ext cx="805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71640" y="692280"/>
          <a:ext cx="705636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05636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2276640"/>
          <a:ext cx="914400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914400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2421000"/>
          <a:ext cx="9001080" cy="17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900108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0" y="460440"/>
            <a:ext cx="91346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0200" y="1440"/>
            <a:ext cx="64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5680" y="1440"/>
            <a:ext cx="84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ectró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tiliza electricidad para producir una reacción no espontá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898640"/>
            <a:ext cx="40384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706320"/>
          <a:ext cx="7991280" cy="55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0632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84480" y="1440"/>
            <a:ext cx="476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1:14:31Z</dcterms:created>
  <dc:creator>Carlos Hernandez</dc:creator>
  <dc:description/>
  <dc:language>en-US</dc:language>
  <cp:lastModifiedBy>Carlos Hernandez</cp:lastModifiedBy>
  <dcterms:modified xsi:type="dcterms:W3CDTF">2007-10-30T21:14:50Z</dcterms:modified>
  <cp:revision>1</cp:revision>
  <dc:subject/>
  <dc:title>Corrosión</dc:title>
</cp:coreProperties>
</file>