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F5A5-C7CF-4E46-AC1E-8F6ED70F7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3610-1C87-4AF3-B387-FA71CE58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05AB-6C5F-4619-ACE3-8A64962CE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CDD4-E9BD-49C8-9A66-D136E6DE8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A887D-04A5-4C61-A337-83E2CB68C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B07D-21F8-441B-BC8B-FB2E42E2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809F-F048-44A2-9FFD-BEDB643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A220-E636-43F1-84D2-AE3788CC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368A-46AC-42BA-81C5-C0358749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78619-6B49-468D-B3FD-3717B6702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1C95-5AA6-44E6-92B6-0672E382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5736-947F-445C-AEE6-459C5B69C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F7841-4071-4454-9EB2-23344B5991D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niniacure515@hotmail.com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837720"/>
            <a:ext cx="464832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Universidad de Chile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Vicerrectoría de Asuntos Académicos</a:t>
            </a:r>
            <a:br>
              <a:rPr sz="2000"/>
            </a:br>
            <a:r>
              <a:rPr b="0" lang="es-ES" sz="2000" spc="-1" strike="noStrike">
                <a:solidFill>
                  <a:srgbClr val="ffffff"/>
                </a:solidFill>
                <a:latin typeface="Book Antiqua"/>
              </a:rPr>
              <a:t>Programa Académico Bachillerato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048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La Historia Cultural</a:t>
            </a:r>
            <a:br>
              <a:rPr sz="4400"/>
            </a:b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Peter Burk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cats"/>
          <p:cNvPicPr/>
          <p:nvPr/>
        </p:nvPicPr>
        <p:blipFill>
          <a:blip r:embed="rId1"/>
          <a:stretch/>
        </p:blipFill>
        <p:spPr>
          <a:xfrm>
            <a:off x="682560" y="609480"/>
            <a:ext cx="765360" cy="1409760"/>
          </a:xfrm>
          <a:prstGeom prst="rect">
            <a:avLst/>
          </a:prstGeom>
          <a:ln w="0">
            <a:noFill/>
          </a:ln>
        </p:spPr>
      </p:pic>
      <p:sp>
        <p:nvSpPr>
          <p:cNvPr id="44" name="Text Box 7"/>
          <p:cNvSpPr/>
          <p:nvPr/>
        </p:nvSpPr>
        <p:spPr>
          <a:xfrm>
            <a:off x="4805280" y="4952880"/>
            <a:ext cx="4338720" cy="23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esenta    : Valeska Orell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E-mail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: </a:t>
            </a:r>
            <a:r>
              <a:rPr b="0" lang="es-ES" sz="1800" spc="-1" strike="noStrike" u="sng">
                <a:solidFill>
                  <a:srgbClr val="009999"/>
                </a:solidFill>
                <a:uFillTx/>
                <a:latin typeface="Book Antiqua"/>
                <a:hlinkClick r:id="rId2"/>
              </a:rPr>
              <a:t>niniacure515@hotmai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Profesores: Ximena Cor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    </a:t>
            </a: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Bernardo Gonzál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Cátedra     : verano,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historia cultura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La tentación a la que NO debe sucumbir el historiador cultural es la de tratar los textos y las imágenes de un período determinado como espejos, como reflejos no problemáticos de su tiempo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Sería imprudente asumir que las novelas o los cuadros so siempre desinteresados, que están libres de pasión o de propaganda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5-36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5520" y="1828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Se evita por medio del acercamiento a la fuent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contenid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Covarianza”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(asociación de unos temas con otro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Enfoque cuantitativ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500" spc="-1" strike="noStrike">
                <a:solidFill>
                  <a:srgbClr val="ffffff"/>
                </a:solidFill>
                <a:latin typeface="Book Antiqua"/>
              </a:rPr>
              <a:t>Análisis de discurso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84600" indent="0" algn="ctr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Debates marxist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Críticas al enfoque clásico de la cultu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Se habla en el aire”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, carente de contacto con cualquier base económico-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obreestimar la homogeneidad cultural y de ignorar los conflictos cultu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400" spc="-1" strike="noStrike">
                <a:solidFill>
                  <a:srgbClr val="ffffff"/>
                </a:solidFill>
                <a:latin typeface="Book Antiqua"/>
              </a:rPr>
              <a:t>Tiende a empujarnos hacia nociones excesivamente consensuales y holísticas” </a:t>
            </a: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(Thomps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39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Paradojas de la tra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IDEA DE CULTURA =&gt; IDEA DE TRADI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Dos problem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Aparente innovación puede enmascarar la persistencia de la tradición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Los signos externos de la tradición pueden enmascarar innovació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41-42.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371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¿Problemas de la cultura popul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2742840"/>
            <a:ext cx="861048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Definición del objeto de estud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u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Cul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Book Antiqua"/>
              </a:rPr>
              <a:t>El momento de la antropología históric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El despertar del interés por la cultura volvió aún más relevante la antropología para los historiadores. Los antropólogos ya habían rechazado la condescendiente asunción de que los pueblos a los que estudiaban no comprendían sus propias culturas, y apreciaban el conocimiento local u oficioso de sus informantes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" indent="0" algn="r">
              <a:lnSpc>
                <a:spcPct val="10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6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Bajo el microscopi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’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70s </a:t>
            </a:r>
            <a:r>
              <a:rPr b="0" lang="es-E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“microhistoria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acción contra la historia social que seguía el patrón de la historia económica (tendencias generales sin transmitir la sociedad o especificidad de las culturas local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encuentro con la antropologí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l “gran relato” del progreso/desarrollo triunfal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¿Un nuevo paradigm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Nueva historia cultural </a:t>
            </a:r>
            <a:r>
              <a:rPr b="0" lang="es-ES" sz="3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ffffff"/>
                </a:solidFill>
                <a:latin typeface="Book Antiqua"/>
              </a:rPr>
              <a:t> 198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intelectual, sugiere el acento en las mentalidades, las presuposiciones o los sentimientos más que las ideas o los sistemas de pensamiento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“ ‘</a:t>
            </a:r>
            <a:r>
              <a:rPr b="0" i="1" lang="es-ES" sz="3000" spc="-1" strike="noStrike">
                <a:solidFill>
                  <a:srgbClr val="ffffff"/>
                </a:solidFill>
                <a:latin typeface="Book Antiqua"/>
              </a:rPr>
              <a:t>cultural’ la distingue de la social, responde a la necesidad de ampliar el sujeto histórico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7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3047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Book Antiqua"/>
              </a:rPr>
              <a:t>Antecedentes biográ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4800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Se inscribe en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Book Antiqua"/>
              </a:rPr>
              <a:t>Formas de hacer Historia  ¿Qué es la historia cultu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5410080" y="1981080"/>
            <a:ext cx="28846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Revisando concep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Cultura?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tradición?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Qué es el pueblo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¿Cuál es la verdad?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Fases de la historia de 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Clásica. (1800-195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La historia social del arte. (19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Descubrimiento de la historia de la cultura popular. (196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Nueva historia cultural. (198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0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Clásica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de los </a:t>
            </a:r>
            <a:r>
              <a:rPr b="0" i="1" lang="es-ES" sz="2800" spc="-1" strike="noStrike">
                <a:solidFill>
                  <a:srgbClr val="ffffff"/>
                </a:solidFill>
                <a:latin typeface="Book Antiqua"/>
              </a:rPr>
              <a:t>clás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oco en el canon de obras de arte, literatura, filosofí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e ‘leían’ obras de arte como evidencia de la cultura del período en que se creab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s considerada ‘periférica’ por la historia pol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Huizinga…</a:t>
            </a:r>
            <a:br>
              <a:rPr sz="4000"/>
            </a:b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El principal objetivo del historiador culturar consiste en retratar patrones de culturas, es decir, describir los pensamientos y sentimientos característicos de una época y sus expresiones o encarnaciones en obras de arte literarias o artísticas”</a:t>
            </a:r>
            <a:br>
              <a:rPr sz="2600"/>
            </a:br>
            <a:br>
              <a:rPr sz="2600"/>
            </a:br>
            <a:r>
              <a:rPr b="0" i="1" lang="es-ES" sz="2600" spc="-1" strike="noStrike">
                <a:solidFill>
                  <a:srgbClr val="ffffff"/>
                </a:solidFill>
                <a:latin typeface="Book Antiqua"/>
              </a:rPr>
              <a:t>“El historiador descubre estos patrones culturales estudiando ‘temas’, ‘símbolos’, ‘sentimientos’ y ‘formas’“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 22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Historia social del a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8954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Book Antiqua"/>
              </a:rPr>
              <a:t>Aby Wangburg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Su aporte está en considerar las transformaciones de las percepciones artísticas a largo plaz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Book Antiqua"/>
              </a:rPr>
              <a:t>Hereda la visión de “lo cultural” como influencia en la historia desde la sociolog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Book Antiqua"/>
              </a:rPr>
              <a:t>El descubrimiento del pueb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“</a:t>
            </a: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Historia cultural” – “Cultura popula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En los ’60 los historiadores se interesan académicamente por el “pueblo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¿Por qué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uesta a enfoqu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sponde a una demanda de la sociedad hacia la academia por estudiar aquello que se tenía descuid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68580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Book Antiqua"/>
              </a:rPr>
              <a:t>Thompson…</a:t>
            </a:r>
            <a:br>
              <a:rPr sz="4000"/>
            </a:br>
            <a:br>
              <a:rPr sz="3500"/>
            </a:br>
            <a:r>
              <a:rPr b="0" i="1" lang="es-ES" sz="3500" spc="-1" strike="noStrike">
                <a:solidFill>
                  <a:srgbClr val="ffffff"/>
                </a:solidFill>
                <a:latin typeface="Book Antiqua"/>
              </a:rPr>
              <a:t>“No se limitaba a analizar el poder desempeñado por los cambios económicos y políticos en la formación, sino que examinaba el lugar de la cultura popular en ese proceso”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br>
              <a:rPr sz="4000"/>
            </a:br>
            <a:br>
              <a:rPr sz="4000"/>
            </a:br>
            <a:r>
              <a:rPr b="0" lang="es-ES" sz="1500" spc="-1" strike="noStrike">
                <a:solidFill>
                  <a:srgbClr val="ffffff"/>
                </a:solidFill>
                <a:latin typeface="Book Antiqua"/>
              </a:rPr>
              <a:t>Burke, Peter. “¿Qué es la historia cultural?. Ed. Paidos, Barcelona. Pág.32. </a:t>
            </a:r>
            <a:r>
              <a:rPr b="0" i="1" lang="es-ES" sz="40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valeska orellana</cp:lastModifiedBy>
  <dcterms:modified xsi:type="dcterms:W3CDTF">2012-01-19T18:20:24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