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745D-2BE4-4E58-84EA-2817FE24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CB49-F4A5-45CB-BD7A-F761ADC0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6C4-F270-4191-9A97-E851F531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E6D-84E4-495E-ABF7-F1D3FB67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35D-79EA-4C95-9A52-DE6692F1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164-8EB7-432C-BB19-9E45812F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83C-19F0-4A21-B7DA-6E72D9DB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3AE-EAA6-44AB-A2E8-0F9310DF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FF7-EDD9-4F39-B371-A458427A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D77-AC74-4E31-BA5F-C2CF831B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475-22ED-4D09-AE9B-EC4F8CFB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8A2-87ED-47ED-85AB-0DD6223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E34B-ED44-49E5-A9CA-EC1F26ABA389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53760"/>
            <a:ext cx="567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UNIVERSIDAD DE CHILE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GRAMA ACADÉMICO DE BACHILLERATO</a:t>
            </a:r>
            <a:br>
              <a:rPr sz="1400"/>
            </a:b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CURSO                           : HISTORIA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 CÁTEDRA : BERNARDO GONZÁLEZ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A TALLER  : XIMENA CORT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071880"/>
            <a:ext cx="69152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Métodos Cualitativ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863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2214360"/>
            <a:ext cx="7201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1.      El procesamiento de los datos se realiza, predominantemente, atendiendo más a las cualidades que a las cantidades, por medio del estudio del lenguaje, de las descripciones detalladas, de los procesos de codificación y categorización; Lógica inclusiva, formal o dialéctica; análisis de lenguaje (discurso, contenid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2643120"/>
            <a:ext cx="7201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2.      Buscan la comprensión totalizante (holística) de un evento dado, intentando una visión global que esté por encima de los detalles y los fragmen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3.      Tendencia a la totalidad (círculo hermenéutico). Relación partes-todo. El proceso sigue principalmente una vía inductiva, de los datos a la teoría (aún cuando pueden aceptar un camino deductivo en algún momento del proces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4.      Es necesario considerar la intersubjetividad, la posibilidad de objetivar el mundo subjetivo de las personas, de interpretar los significados que ellos dan a los acontecimientos, Los significados no son absolutos, sino negociados, puestos en común y discutidos con los actores de los eventos </a:t>
            </a:r>
            <a:r>
              <a:rPr b="0" lang="es-CL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1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Preparación: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 Incluye la reflexión inicial, la definición del área problemática y el diseño inicial del estudio (susceptible de ser modificado posteriormente). Incluye la revisión previa de la literatura, la reflexión inicial (maduración de la idea) y el diseñ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2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Trabajo de campo o ejecución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el proceso complejo de entrar en el campo, siendo transparente en su presentación, y entrando en rapport con el grupo en investigación. Incluye también la recogida de datos, empleando una diversidad de técnicas y criteri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3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Analític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Procesamiento y análisis de datos, mediante una diversidad de técnicas y mediante una discusión permanente entre los científicos y los actores sociales; los eventos y la teoría, la fiabilidad y validació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080" y="2571840"/>
            <a:ext cx="72151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4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informativ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la presentación de resultados, de modo transparente, coherente, y la elaboración del informe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3:49:08Z</dcterms:created>
  <dc:creator>Ximena Cortez</dc:creator>
  <dc:description/>
  <dc:language>en-US</dc:language>
  <cp:lastModifiedBy>Bernardo González</cp:lastModifiedBy>
  <dcterms:modified xsi:type="dcterms:W3CDTF">2012-01-20T00:45:11Z</dcterms:modified>
  <cp:revision>16</cp:revision>
  <dc:subject/>
  <dc:title>UNIVERSIDAD DE CHILE PROGRAMA ACADÉMICO DE BACHILLERATO  CURSO: HISTORIA PROFESOR CÁTEDRA: BERNARDO GONZÁLEZ PROFESORA TALLER. XIMENA CORTEZ</dc:title>
</cp:coreProperties>
</file>