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F7E-1518-46A5-AF52-91F6F78A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46E-9BDF-4559-A38A-09E31910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279-31B7-40D6-9C51-F8ECAB7B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7D7-B537-4898-B523-7D4B33E8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078A-3BEF-47AA-9379-7BC25F0D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752E-5BBE-46FB-AF62-A5F70CD7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868A-F0A0-40F1-BDCD-9911808C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15A-BA2F-4378-ACE2-01C8E575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6F5-74BD-4F8A-836B-312EC028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66CE-0199-4F0A-9E38-93CB178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142D-7583-4519-A974-F348C563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B88-E337-4C42-B271-2ABDE212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334-6D42-4D5E-87D5-07755DC00472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653760"/>
            <a:ext cx="567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UNIVERSIDAD DE CHILE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GRAMA ACADÉMICO DE BACHILLERATO</a:t>
            </a:r>
            <a:br>
              <a:rPr sz="1400"/>
            </a:b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CURSO                           : HISTORIA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 CÁTEDRA : BERNARDO GONZÁLEZ</a:t>
            </a:r>
            <a:br>
              <a:rPr sz="1400"/>
            </a:br>
            <a:r>
              <a:rPr b="1" lang="es-CL" sz="1400" spc="-1" strike="noStrike">
                <a:solidFill>
                  <a:srgbClr val="ffff00"/>
                </a:solidFill>
                <a:latin typeface="Arial"/>
                <a:ea typeface="Arial"/>
              </a:rPr>
              <a:t>PROFESORA TALLER  : XIMENA CORTE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071880"/>
            <a:ext cx="691524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Métodos Cualitativ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99ff33"/>
                </a:solidFill>
                <a:latin typeface="Arial"/>
                <a:ea typeface="Arial"/>
              </a:rPr>
              <a:t>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863640" cy="1747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3920" y="2214360"/>
            <a:ext cx="7201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1.      El procesamiento de los datos se realiza, predominantemente, atendiendo más a las cualidades que a las cantidades, por medio del estudio del lenguaje, de las descripciones detalladas, de los procesos de codificación y categorización; Lógica inclusiva, formal o dialéctica; análisis de lenguaje (discurso, contenid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2643120"/>
            <a:ext cx="720108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2.      Buscan la comprensión totalizante (holística) de un evento dado, intentando una visión global que esté por encima de los detalles y los fragment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3.      Tendencia a la totalidad (círculo hermenéutico). Relación partes-todo. El proceso sigue principalmente una vía inductiva, de los datos a la teoría (aún cuando pueden aceptar un camino deductivo en algún momento del proces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Características de los </a:t>
            </a:r>
            <a:br>
              <a:rPr sz="4000"/>
            </a:br>
            <a:r>
              <a:rPr b="0" lang="es-ES" sz="4000" spc="-1" strike="noStrike">
                <a:solidFill>
                  <a:srgbClr val="fcd5b5"/>
                </a:solidFill>
                <a:latin typeface="Calibri"/>
              </a:rPr>
              <a:t>métodos cualitativo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3920" y="2642760"/>
            <a:ext cx="72010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alibri"/>
              </a:rPr>
              <a:t>4.      Es necesario considerar la intersubjetividad, la posibilidad de objetivar el mundo subjetivo de las personas, de interpretar los significados que ellos dan a los acontecimientos, Los significados no son absolutos, sino negociados, puestos en común y discutidos con los actores de los eventos </a:t>
            </a:r>
            <a:r>
              <a:rPr b="0" lang="es-CL" sz="32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1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Preparación: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 Incluye la reflexión inicial, la definición del área problemática y el diseño inicial del estudio (susceptible de ser modificado posteriormente). Incluye la revisión previa de la literatura, la reflexión inicial (maduración de la idea) y el diseñ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2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Trabajo de campo o ejecución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el proceso complejo de entrar en el campo, siendo transparente en su presentación, y entrando en rapport con el grupo en investigación. Incluye también la recogida de datos, empleando una diversidad de técnicas y criteri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00080" y="2000160"/>
            <a:ext cx="72151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3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Analític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Procesamiento y análisis de datos, mediante una diversidad de técnicas y mediante una discusión permanente entre los científicos y los actores sociales; los eventos y la teoría, la fiabilidad y validació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Fases de </a:t>
            </a:r>
            <a:br>
              <a:rPr sz="3600"/>
            </a:br>
            <a:r>
              <a:rPr b="1" lang="es-CL" sz="3600" spc="-1" strike="noStrike">
                <a:solidFill>
                  <a:srgbClr val="99ff33"/>
                </a:solidFill>
                <a:latin typeface="Arial"/>
                <a:ea typeface="Arial"/>
              </a:rPr>
              <a:t>los métodos cualitativo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00080" y="2571840"/>
            <a:ext cx="721512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4)     </a:t>
            </a:r>
            <a:r>
              <a:rPr b="0" lang="es-ES" sz="3600" spc="-1" strike="noStrike" u="sng">
                <a:solidFill>
                  <a:srgbClr val="ffc000"/>
                </a:solidFill>
                <a:uFillTx/>
                <a:latin typeface="Calibri"/>
              </a:rPr>
              <a:t>Fase informativa: </a:t>
            </a:r>
            <a:r>
              <a:rPr b="0" lang="es-ES" sz="3600" spc="-1" strike="noStrike">
                <a:solidFill>
                  <a:srgbClr val="ffc000"/>
                </a:solidFill>
                <a:latin typeface="Calibri"/>
              </a:rPr>
              <a:t>Es la presentación de resultados, de modo transparente, coherente, y la elaboración del informe fin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3:49:08Z</dcterms:created>
  <dc:creator>Ximena Cortez</dc:creator>
  <dc:description/>
  <dc:language>en-US</dc:language>
  <cp:lastModifiedBy>Bernardo González</cp:lastModifiedBy>
  <dcterms:modified xsi:type="dcterms:W3CDTF">2012-01-20T00:45:11Z</dcterms:modified>
  <cp:revision>16</cp:revision>
  <dc:subject/>
  <dc:title>UNIVERSIDAD DE CHILE PROGRAMA ACADÉMICO DE BACHILLERATO  CURSO: HISTORIA PROFESOR CÁTEDRA: BERNARDO GONZÁLEZ PROFESORA TALLER. XIMENA CORTEZ</dc:title>
</cp:coreProperties>
</file>