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09ED-3FF3-4E7D-ADA8-38DF60B55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E17D-1DD9-41BF-8F45-70E8B1C4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7175-1F86-4B80-B643-E4EA8ECFD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E8C9-2958-4508-90C9-B048F0097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9846-50BB-4E50-A24D-3668E1DD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42D1-B69E-418E-8DFE-9A84C265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C3A5-F40D-4F37-8FBB-FCFFD675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B3A6-C73E-4801-A805-3C0B2D68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2E85-124C-4C60-93E1-21479CFC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5C0B-36F8-45AE-BCA2-BA449452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4554-024D-4612-8F27-1C65AF5C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2412-8633-4C3C-BD47-3FFC897E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122B-1397-45FB-A3F4-71B1911BDFF3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653760"/>
            <a:ext cx="5672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  <a:ea typeface="Arial"/>
              </a:rPr>
              <a:t>UNIVERSIDAD DE CHILE</a:t>
            </a:r>
            <a:br>
              <a:rPr sz="1400"/>
            </a:br>
            <a:r>
              <a:rPr b="1" lang="es-CL" sz="1400" spc="-1" strike="noStrike">
                <a:solidFill>
                  <a:srgbClr val="ffff00"/>
                </a:solidFill>
                <a:latin typeface="Arial"/>
                <a:ea typeface="Arial"/>
              </a:rPr>
              <a:t>PROGRAMA ACADÉMICO DE BACHILLERATO</a:t>
            </a:r>
            <a:br>
              <a:rPr sz="1400"/>
            </a:br>
            <a:br>
              <a:rPr sz="1400"/>
            </a:br>
            <a:r>
              <a:rPr b="1" lang="es-CL" sz="1400" spc="-1" strike="noStrike">
                <a:solidFill>
                  <a:srgbClr val="ffff00"/>
                </a:solidFill>
                <a:latin typeface="Arial"/>
                <a:ea typeface="Arial"/>
              </a:rPr>
              <a:t>CURSO                           : HISTORIA</a:t>
            </a:r>
            <a:br>
              <a:rPr sz="1400"/>
            </a:br>
            <a:r>
              <a:rPr b="1" lang="es-CL" sz="1400" spc="-1" strike="noStrike">
                <a:solidFill>
                  <a:srgbClr val="ffff00"/>
                </a:solidFill>
                <a:latin typeface="Arial"/>
                <a:ea typeface="Arial"/>
              </a:rPr>
              <a:t>PROFESOR CÁTEDRA : BERNARDO GONZÁLEZ</a:t>
            </a:r>
            <a:br>
              <a:rPr sz="1400"/>
            </a:br>
            <a:r>
              <a:rPr b="1" lang="es-CL" sz="1400" spc="-1" strike="noStrike">
                <a:solidFill>
                  <a:srgbClr val="ffff00"/>
                </a:solidFill>
                <a:latin typeface="Arial"/>
                <a:ea typeface="Arial"/>
              </a:rPr>
              <a:t>PROFESORA TALLER  : XIMENA CORTE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071880"/>
            <a:ext cx="6915240" cy="25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99ff33"/>
                </a:solidFill>
                <a:latin typeface="Arial"/>
                <a:ea typeface="Arial"/>
              </a:rPr>
              <a:t>Lo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99ff33"/>
                </a:solidFill>
                <a:latin typeface="Arial"/>
                <a:ea typeface="Arial"/>
              </a:rPr>
              <a:t>Métodos Cualitativo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99ff33"/>
                </a:solidFill>
                <a:latin typeface="Arial"/>
                <a:ea typeface="Arial"/>
              </a:rPr>
              <a:t>de Investig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UChile1"/>
          <p:cNvPicPr/>
          <p:nvPr/>
        </p:nvPicPr>
        <p:blipFill>
          <a:blip r:embed="rId1"/>
          <a:stretch/>
        </p:blipFill>
        <p:spPr>
          <a:xfrm>
            <a:off x="755640" y="620640"/>
            <a:ext cx="863640" cy="1747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Características de los </a:t>
            </a:r>
            <a:br>
              <a:rPr sz="4000"/>
            </a:b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métodos cualitativo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3920" y="2214360"/>
            <a:ext cx="72010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  <a:ea typeface="Arial"/>
              </a:rPr>
              <a:t>1.      El procesamiento de los datos se realiza, predominantemente, atendiendo más a las cualidades que a las cantidades, por medio del estudio del lenguaje, de las descripciones detalladas, de los procesos de codificación y categorización; Lógica inclusiva, formal o dialéctica; análisis de lenguaje (discurso, contenido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Características de los </a:t>
            </a:r>
            <a:br>
              <a:rPr sz="4000"/>
            </a:b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métodos cualitativo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3920" y="2643120"/>
            <a:ext cx="720108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2.      Buscan la comprensión totalizante (holística) de un evento dado, intentando una visión global que esté por encima de los detalles y los fragmento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Características de los </a:t>
            </a:r>
            <a:br>
              <a:rPr sz="4000"/>
            </a:b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métodos cualitativo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3920" y="2642760"/>
            <a:ext cx="72010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3.      Tendencia a la totalidad (círculo hermenéutico). Relación partes-todo. El proceso sigue principalmente una vía inductiva, de los datos a la teoría (aún cuando pueden aceptar un camino deductivo en algún momento del proceso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Características de los </a:t>
            </a:r>
            <a:br>
              <a:rPr sz="4000"/>
            </a:b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métodos cualitativo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3920" y="2642760"/>
            <a:ext cx="72010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Calibri"/>
              </a:rPr>
              <a:t>4.      Es necesario considerar la intersubjetividad, la posibilidad de objetivar el mundo subjetivo de las personas, de interpretar los significados que ellos dan a los acontecimientos, Los significados no son absolutos, sino negociados, puestos en común y discutidos con los actores de los eventos </a:t>
            </a:r>
            <a:r>
              <a:rPr b="0" lang="es-CL" sz="3200" spc="-1" strike="noStrike">
                <a:solidFill>
                  <a:srgbClr val="ffff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Fases de </a:t>
            </a:r>
            <a:br>
              <a:rPr sz="3600"/>
            </a:b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los métodos cualitativo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00080" y="2000160"/>
            <a:ext cx="72151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1)     </a:t>
            </a:r>
            <a:r>
              <a:rPr b="0" lang="es-ES" sz="3600" spc="-1" strike="noStrike" u="sng">
                <a:solidFill>
                  <a:srgbClr val="ffc000"/>
                </a:solidFill>
                <a:uFillTx/>
                <a:latin typeface="Calibri"/>
              </a:rPr>
              <a:t>Preparación:</a:t>
            </a: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 Incluye la reflexión inicial, la definición del área problemática y el diseño inicial del estudio (susceptible de ser modificado posteriormente). Incluye la revisión previa de la literatura, la reflexión inicial (maduración de la idea) y el diseño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Fases de </a:t>
            </a:r>
            <a:br>
              <a:rPr sz="3600"/>
            </a:b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los métodos cualitativo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00080" y="2000160"/>
            <a:ext cx="72151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2)     </a:t>
            </a:r>
            <a:r>
              <a:rPr b="0" lang="es-ES" sz="3600" spc="-1" strike="noStrike" u="sng">
                <a:solidFill>
                  <a:srgbClr val="ffc000"/>
                </a:solidFill>
                <a:uFillTx/>
                <a:latin typeface="Calibri"/>
              </a:rPr>
              <a:t>Trabajo de campo o ejecución: </a:t>
            </a: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es el proceso complejo de entrar en el campo, siendo transparente en su presentación, y entrando en rapport con el grupo en investigación. Incluye también la recogida de datos, empleando una diversidad de técnicas y criterio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Fases de </a:t>
            </a:r>
            <a:br>
              <a:rPr sz="3600"/>
            </a:b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los métodos cualitativo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000080" y="2000160"/>
            <a:ext cx="72151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3)     </a:t>
            </a:r>
            <a:r>
              <a:rPr b="0" lang="es-ES" sz="3600" spc="-1" strike="noStrike" u="sng">
                <a:solidFill>
                  <a:srgbClr val="ffc000"/>
                </a:solidFill>
                <a:uFillTx/>
                <a:latin typeface="Calibri"/>
              </a:rPr>
              <a:t>Fase Analítica: </a:t>
            </a: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Procesamiento y análisis de datos, mediante una diversidad de técnicas y mediante una discusión permanente entre los científicos y los actores sociales; los eventos y la teoría, la fiabilidad y validación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Fases de </a:t>
            </a:r>
            <a:br>
              <a:rPr sz="3600"/>
            </a:b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los métodos cualitativo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00080" y="2571840"/>
            <a:ext cx="721512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4)     </a:t>
            </a:r>
            <a:r>
              <a:rPr b="0" lang="es-ES" sz="3600" spc="-1" strike="noStrike" u="sng">
                <a:solidFill>
                  <a:srgbClr val="ffc000"/>
                </a:solidFill>
                <a:uFillTx/>
                <a:latin typeface="Calibri"/>
              </a:rPr>
              <a:t>Fase informativa: </a:t>
            </a: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Es la presentación de resultados, de modo transparente, coherente, y la elaboración del informe fina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3:49:08Z</dcterms:created>
  <dc:creator>Ximena Cortez</dc:creator>
  <dc:description/>
  <dc:language>en-US</dc:language>
  <cp:lastModifiedBy>Bernardo González</cp:lastModifiedBy>
  <dcterms:modified xsi:type="dcterms:W3CDTF">2012-01-20T00:45:11Z</dcterms:modified>
  <cp:revision>16</cp:revision>
  <dc:subject/>
  <dc:title>UNIVERSIDAD DE CHILE PROGRAMA ACADÉMICO DE BACHILLERATO  CURSO: HISTORIA PROFESOR CÁTEDRA: BERNARDO GONZÁLEZ PROFESORA TALLER. XIMENA CORTEZ</dc:title>
</cp:coreProperties>
</file>