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D81-06C9-4A31-96BB-44BF53BA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DF6-A96D-4FEE-835E-AF7242D3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301-B9E2-4C8C-8BD4-9976657A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60C-F2AB-4421-8DBC-D3A18674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F83-B0FB-4EA3-8DDA-ACB9A23A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C49-350D-4A08-B74A-D6876BCD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F64-7FFE-490D-ADF3-BD7E980B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809-E50C-4CA2-9C2F-C4A99E6A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160-D85D-4545-BD44-48BEA07D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1C4-6A7E-4264-8FF7-341BED88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C5D-C3D4-4C89-B50B-37C01C78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B35-7620-4702-AC0D-E93555EC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884A-7EF3-4931-B26B-05D6B63BF03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653760"/>
            <a:ext cx="567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UNIVERSIDAD DE CHILE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GRAMA ACADÉMICO DE BACHILLERATO</a:t>
            </a:r>
            <a:br>
              <a:rPr sz="1400"/>
            </a:b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CURSO                           : HISTORIA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 CÁTEDRA : BERNARDO GONZÁLEZ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A TALLER  : XIMENA CORTE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071880"/>
            <a:ext cx="691524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Métodos Cualitativ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de Investig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863640" cy="1747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3920" y="2214360"/>
            <a:ext cx="7201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1.      El procesamiento de los datos se realiza, predominantemente, atendiendo más a las cualidades que a las cantidades, por medio del estudio del lenguaje, de las descripciones detalladas, de los procesos de codificación y categorización; Lógica inclusiva, formal o dialéctica; análisis de lenguaje (discurso, contenid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2643120"/>
            <a:ext cx="7201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2.      Buscan la comprensión totalizante (holística) de un evento dado, intentando una visión global que esté por encima de los detalles y los fragment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3.      Tendencia a la totalidad (círculo hermenéutico). Relación partes-todo. El proceso sigue principalmente una vía inductiva, de los datos a la teoría (aún cuando pueden aceptar un camino deductivo en algún momento del proces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4.      Es necesario considerar la intersubjetividad, la posibilidad de objetivar el mundo subjetivo de las personas, de interpretar los significados que ellos dan a los acontecimientos, Los significados no son absolutos, sino negociados, puestos en común y discutidos con los actores de los eventos </a:t>
            </a:r>
            <a:r>
              <a:rPr b="0" lang="es-CL" sz="32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1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Preparación: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 Incluye la reflexión inicial, la definición del área problemática y el diseño inicial del estudio (susceptible de ser modificado posteriormente). Incluye la revisión previa de la literatura, la reflexión inicial (maduración de la idea) y el diseñ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2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Trabajo de campo o ejecución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el proceso complejo de entrar en el campo, siendo transparente en su presentación, y entrando en rapport con el grupo en investigación. Incluye también la recogida de datos, empleando una diversidad de técnicas y criteri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3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Analític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Procesamiento y análisis de datos, mediante una diversidad de técnicas y mediante una discusión permanente entre los científicos y los actores sociales; los eventos y la teoría, la fiabilidad y validació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080" y="2571840"/>
            <a:ext cx="72151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4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informativ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la presentación de resultados, de modo transparente, coherente, y la elaboración del informe fin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3:49:08Z</dcterms:created>
  <dc:creator>Ximena Cortez</dc:creator>
  <dc:description/>
  <dc:language>en-US</dc:language>
  <cp:lastModifiedBy>Bernardo González</cp:lastModifiedBy>
  <dcterms:modified xsi:type="dcterms:W3CDTF">2012-01-20T00:45:11Z</dcterms:modified>
  <cp:revision>16</cp:revision>
  <dc:subject/>
  <dc:title>UNIVERSIDAD DE CHILE PROGRAMA ACADÉMICO DE BACHILLERATO  CURSO: HISTORIA PROFESOR CÁTEDRA: BERNARDO GONZÁLEZ PROFESORA TALLER. XIMENA CORTEZ</dc:title>
</cp:coreProperties>
</file>