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774-2BFF-46A1-95F8-B4A43F47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013-C818-4F77-AF0F-5ACA5AED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2DF-F07F-47A5-BF76-EE055815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BBB-0FB4-4BB8-B071-7BD1EE64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8EA-DD87-4FB4-B80B-2F4EB3EF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DE3-E419-46DD-BAFD-9143FC0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A0F-CACC-42D6-B87B-8BB1CEEA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B1A-52B3-431E-8B00-660F63E9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5C6-B567-4D4A-B3DC-4E7A5D9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B8A-2DF2-4791-BC24-29D434E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8FE-7F16-4070-831E-6A3C75DC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DBD-8D86-41B7-B086-1FB81E3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711-4F81-427B-880F-E7ED5D47D1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a Historia Cultural</a:t>
            </a:r>
            <a:br>
              <a:rPr sz="4400"/>
            </a:b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Peter Bur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s"/>
          <p:cNvPicPr/>
          <p:nvPr/>
        </p:nvPicPr>
        <p:blipFill>
          <a:blip r:embed="rId1"/>
          <a:stretch/>
        </p:blipFill>
        <p:spPr>
          <a:xfrm>
            <a:off x="682560" y="609480"/>
            <a:ext cx="765360" cy="140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805280" y="4952880"/>
            <a:ext cx="433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historia cultu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La tentación a la que NO debe sucumbir el historiador cultural es la de tratar los textos y las imágenes de un período determinado como espejos, como reflejos no problemáticos de su tiemp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ería imprudente asumir que las novelas o los cuadros so siempre desinteresados, que están libres de pasión o de propagand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5-3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Se evita por medio del acercamiento a la fuen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conteni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Covarianza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(asociación de unos temas con ot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Enfoque cuantitativ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discurs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Debates marx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Críticas al enfoque clásico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Se habla en el aire”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, carente de contacto con cualquier base económico-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obreestimar la homogeneidad cultural y de ignorar los conflictos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Tiende a empujarnos hacia nociones excesivamente consensuales y holísticas” 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(Thomp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radojas de la tra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IDEA DE CULTURA =&gt; IDEA DE TRAD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Dos probl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Aparente innovación puede enmascarar la persistencia de la trad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os signos externos de la tradición pueden enmascarar innov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41-42.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cultura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Definición del objeto de estu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Book Antiqua"/>
              </a:rPr>
              <a:t>El momento de la antropología histó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El despertar del interés por la cultura volvió aún más relevante la antropología para los historiadores. Los antropólogos ya habían rechazado la condescendiente asunción de que los pueblos a los que estudiaban no comprendían sus propias culturas, y apreciaban el conocimiento local u oficioso de sus informan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ajo el microscopi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’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70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“microhistor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acción contra la historia social que seguía el patrón de la historia económica (tendencias generales sin transmitir la sociedad o especificidad de las culturas loca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encuentro con la antrop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“gran relato” del progreso/desarrollo triunfa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¿Un nuevo paradi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Nueva historia cultural </a:t>
            </a:r>
            <a:r>
              <a:rPr b="0" lang="es-E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 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intelectual, sugiere el acento en las mentalidades, las presuposiciones o los sentimientos más que las ideas o los sistemas de pensami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social, responde a la necesidad de ampliar el sujeto histórico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800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Formas de hacer Historia  ¿Qué es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84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Revisando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Cultura?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tradición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el pueblo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Cuál es la verdad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ases de la historia de 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lásica. (1800-19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historia social del arte. (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Descubrimiento de la historia de la cultura popular. 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ueva historia cultural.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Clásic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de los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clá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oco en el canon de obras de arte, literatura, filosofí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e ‘leían’ obras de arte como evidencia de la cultura del período en que se crea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s considerada ‘periférica’ por la historia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Huizinga…</a:t>
            </a:r>
            <a:br>
              <a:rPr sz="40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El principal objetivo del historiador culturar consiste en retratar patrones de culturas, es decir, describir los pensamientos y sentimientos característicos de una época y sus expresiones o encarnaciones en obras de arte literarias o artísticas”</a:t>
            </a:r>
            <a:br>
              <a:rPr sz="2600"/>
            </a:br>
            <a:br>
              <a:rPr sz="2600"/>
            </a:b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El historiador descubre estos patrones culturales estudiando ‘temas’, ‘símbolos’, ‘sentimientos’ y ‘formas’“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Historia social del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ook Antiqua"/>
              </a:rPr>
              <a:t>Aby Wang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u aporte está en considerar las transformaciones de las percepciones artísticas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Hereda la visión de “lo cultural” como influencia en la historia desde la soci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El descubrimiento d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cultural” – “Cultura popu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 los ’60 los historiadores se interesan académicamente por el “pueb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 enfoqu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onde a una demanda de la sociedad hacia la academia por estudiar aquello que se tení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Thompson…</a:t>
            </a:r>
            <a:br>
              <a:rPr sz="4000"/>
            </a:br>
            <a:br>
              <a:rPr sz="3500"/>
            </a:br>
            <a:r>
              <a:rPr b="0" i="1" lang="es-ES" sz="3500" spc="-1" strike="noStrike">
                <a:solidFill>
                  <a:srgbClr val="ffffff"/>
                </a:solidFill>
                <a:latin typeface="Book Antiqua"/>
              </a:rPr>
              <a:t>“No se limitaba a analizar el poder desempeñado por los cambios económicos y políticos en la formación, sino que examinaba el lugar de la cultura popular en ese proceso”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32. 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ska orellana</cp:lastModifiedBy>
  <dcterms:modified xsi:type="dcterms:W3CDTF">2012-01-19T18:2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