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BC2-09B9-40D3-A6A1-EAFA4341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215-D934-41C1-B925-A9E58804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599-72F2-4ABE-A469-C6F2A661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8EB-74DE-430F-9B94-F212309F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E9A-4F59-4184-982A-F54EA2BF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892-F485-4103-93FC-E5615262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32A-C1FF-47D1-BAAF-8EB515AA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468-F55D-4950-A6CC-66A8DC87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5C2-F97E-4389-873A-C983FB98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6E8-7B6A-4366-9C50-797996D6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ADF-7A0E-497A-991D-DEEBB010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69A-E0BF-4CF0-A8F6-C2EAEE9C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AD34-A82D-4B06-A755-249D913D85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iniacure515@hotmail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464832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048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La Historia Cultural</a:t>
            </a:r>
            <a:br>
              <a:rPr sz="4400"/>
            </a:b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Peter Bur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ats"/>
          <p:cNvPicPr/>
          <p:nvPr/>
        </p:nvPicPr>
        <p:blipFill>
          <a:blip r:embed="rId1"/>
          <a:stretch/>
        </p:blipFill>
        <p:spPr>
          <a:xfrm>
            <a:off x="682560" y="609480"/>
            <a:ext cx="765360" cy="1409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805280" y="4952880"/>
            <a:ext cx="433872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esenta    : Valeska Orel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: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ofesores: Ximena Cor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Bernardo Gonzá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Cátedra   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¿Problemas de la historia cultu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La tentación a la que NO debe sucumbir el historiador cultural es la de tratar los textos y las imágenes de un período determinado como espejos, como reflejos no problemáticos de su tiemp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Sería imprudente asumir que las novelas o los cuadros so siempre desinteresados, que están libres de pasión o de propagand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35-36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Book Antiqua"/>
              </a:rPr>
              <a:t>Se evita por medio del acercamiento a la fuent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Análisis de contenid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Covarianza”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(asociación de unos temas con otr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Enfoque cuantitativ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Análisis de discurs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Debates marx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Críticas al enfoque clásico de la 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Se habla en el aire”</a:t>
            </a: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, carente de contacto con cualquier base económico-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Sobreestimar la homogeneidad cultural y de ignorar los conflictos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Tiende a empujarnos hacia nociones excesivamente consensuales y holísticas” </a:t>
            </a: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(Thomp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39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Paradojas de la tra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IDEA DE CULTURA =&gt; IDEA DE TRADI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Dos problem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Aparente innovación puede enmascarar la persistencia de la trad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Los signos externos de la tradición pueden enmascarar innov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41-42.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¿Problemas de la cultura popu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Definición del objeto de estud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Book Antiqua"/>
              </a:rPr>
              <a:t>El momento de la antropología histó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El despertar del interés por la cultura volvió aún más relevante la antropología para los historiadores. Los antropólogos ya habían rechazado la condescendiente asunción de que los pueblos a los que estudiaban no comprendían sus propias culturas, y apreciaban el conocimiento local u oficioso de sus informant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6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Bajo el microscopi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’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70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“microhistori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acción contra la historia social que seguía el patrón de la historia económica (tendencias generales sin transmitir la sociedad o especificidad de las culturas loca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l encuentro con la antrop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l “gran relato” del progreso/desarrollo triunfa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¿Un nuevo paradig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Nueva historia cultural </a:t>
            </a:r>
            <a:r>
              <a:rPr b="0" lang="es-E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 19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 ‘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cultural’ la distingue de la intelectual, sugiere el acento en las mentalidades, las presuposiciones o los sentimientos más que las ideas o los sistemas de pensamien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 ‘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cultural’ la distingue de la social, responde a la necesidad de ampliar el sujeto histórico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7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800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e inscribe en la histori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Formas de hacer Historia  ¿Qué es la histori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884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Revisando 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Cultura?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tradición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el pueblo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Cuál es la verdad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Fases de la historia de la 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lásica. (1800-19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historia social del arte. (19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Descubrimiento de la historia de la cultura popular. (19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Nueva historia cultural. (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2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Clásic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istoria de los 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clás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Foco en el canon de obras de arte, literatura, filosofí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Se ‘leían’ obras de arte como evidencia de la cultura del período en que se crea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s considerada ‘periférica’ por la historia pol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Huizinga…</a:t>
            </a:r>
            <a:br>
              <a:rPr sz="4000"/>
            </a:b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El principal objetivo del historiador culturar consiste en retratar patrones de culturas, es decir, describir los pensamientos y sentimientos característicos de una época y sus expresiones o encarnaciones en obras de arte literarias o artísticas”</a:t>
            </a:r>
            <a:br>
              <a:rPr sz="2600"/>
            </a:br>
            <a:br>
              <a:rPr sz="2600"/>
            </a:b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El historiador descubre estos patrones culturales estudiando ‘temas’, ‘símbolos’, ‘sentimientos’ y ‘formas’“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22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Historia social del 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ook Antiqua"/>
              </a:rPr>
              <a:t>Aby Wangbu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Su aporte está en considerar las transformaciones de las percepciones artísticas a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Hereda la visión de “lo cultural” como influencia en la historia desde la soci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El descubrimiento del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istoria cultural” – “Cultura popul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n los ’60 los historiadores se interesan académicamente por el “puebl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¿Por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 enfoques anteri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onde a una demanda de la sociedad hacia la academia por estudiar aquello que se tenía descui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Thompson…</a:t>
            </a:r>
            <a:br>
              <a:rPr sz="4000"/>
            </a:br>
            <a:br>
              <a:rPr sz="3500"/>
            </a:br>
            <a:r>
              <a:rPr b="0" i="1" lang="es-ES" sz="3500" spc="-1" strike="noStrike">
                <a:solidFill>
                  <a:srgbClr val="ffffff"/>
                </a:solidFill>
                <a:latin typeface="Book Antiqua"/>
              </a:rPr>
              <a:t>“No se limitaba a analizar el poder desempeñado por los cambios económicos y políticos en la formación, sino que examinaba el lugar de la cultura popular en ese proceso”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br>
              <a:rPr sz="4000"/>
            </a:b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32. 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ska orellana</cp:lastModifiedBy>
  <dcterms:modified xsi:type="dcterms:W3CDTF">2012-01-19T18:20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