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76D-F730-4546-BCD0-75C1F413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5D7-6DFE-44EE-AA1C-55C66745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282B-6F99-42FA-BC47-CE465132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2EFB-8D97-47B5-B516-56BE20E2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FB5-4E0C-4635-A112-7FD507C7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E1E-7AF6-473B-BEEF-E96EB692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BFD-FA9F-4BA5-9895-B33D3A44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6E48-BF99-4141-939B-58CD7DFC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5947-AD9E-4A36-9043-A2E12C34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60B-9C35-422B-8687-DA45FF90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687-F0D9-4BDA-87D2-8AAA056B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CEB9-FBAB-49B0-976E-874C060D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F369-E4C7-432E-8D1A-CF48F0962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niniacure515@hotmail.com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8720" y="2492280"/>
            <a:ext cx="88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El mundo como represen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og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r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92000" cy="158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9280" y="981000"/>
            <a:ext cx="49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icerrectoría de Asuntos Acadé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rograma Académico Bachille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96000" y="5013360"/>
            <a:ext cx="424800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esenta   : Valeska Orel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-mai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niniacure515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fesores: Ximena Cor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ernardo Gonzál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átedra     : veran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onstrucción de sent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La operación efectuada en la lectura (o la escucha) es un procesos históricamente determinado, cuyos modos y modelos varían según el tiempo, los lugares y las comun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Ej: Biblioteca azul (S.XVI-S.XVII, Fran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 Antiqua"/>
              </a:rPr>
              <a:t>De la historia social de la cultura a una historia cultural de lo social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ivisiones sociales construidas de antemano, caracteriza las configuraciones culturales a partir de materiales que se 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upone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son específicos d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os elementos de la clase “culta y la clase “popular” no son una oposición en tanto que se fusion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Representación del Judío*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268360" y="558936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Las imágenes que serán mostradas son extraídas del material diseñado por la profesora Ana María Tapia-Adler, que los ha confeccionado con fines pedagógicos refiriendo las fuentes de las cuales toma est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176720" cy="5904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00720" y="549360"/>
            <a:ext cx="4392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272360" cy="557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5AFC-5178-4041-A948-E2BCCBA7637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961080" cy="568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4265640" cy="568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349-FAAD-4F46-A514-92A79448BF3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7744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596412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624720" cy="61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FC2-5666-490F-A73B-45B8E78E302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Der Stü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197-4102-41C5-817B-76D7A4F7745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ntecedentes bi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511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Historiador fran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Se inscribe en la 4º generación de la Escuela de los An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Especializado en historia del libro y ediciones liter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[chartier.bmp]"/>
          <p:cNvPicPr/>
          <p:nvPr/>
        </p:nvPicPr>
        <p:blipFill>
          <a:blip r:embed="rId1"/>
          <a:stretch/>
        </p:blipFill>
        <p:spPr>
          <a:xfrm>
            <a:off x="6084720" y="2205000"/>
            <a:ext cx="23972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4105080" cy="561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3887640" cy="561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EF2-FE2E-4933-8639-C72A7DD81F9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4103640" cy="5616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788000" y="692280"/>
            <a:ext cx="3671640" cy="561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1A8-0E9B-4C95-8E5C-7D168C8CB1C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065480" cy="604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4174920" cy="604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47D-5368-4E5A-A9F5-8D1ABB05B3E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u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492000" y="5516280"/>
            <a:ext cx="524844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* Imágenes tomadas del artículo “Los judíos en el humor gráfico”, por Alejandro Baer. Disponible en: </a:t>
            </a:r>
            <a:r>
              <a:rPr b="0" lang="es-ES" sz="1500" spc="-1" strike="noStrike" u="sng">
                <a:solidFill>
                  <a:srgbClr val="ffffff"/>
                </a:solidFill>
                <a:uFillTx/>
                <a:latin typeface="Arial"/>
              </a:rPr>
              <a:t>http://www.movimientocontralaintolerancia.com/download/JudiosHumorGrafico.pdf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1E7-E9B0-4C46-BBDB-6F0FC4381D9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3789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43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356000" y="3573360"/>
            <a:ext cx="4788000" cy="3284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3800520"/>
            <a:ext cx="4356000" cy="307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619-BC60-490F-B448-CDC2E52C960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ríticas a la historia intelec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o existen las teorías creado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rror al aislar ideas o sistemas de pensamiento de las condiciones que han permitido su producción, las deshumaniza que instituye un  “universo de abstraccione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o tienen un límite al no tener dependencia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Reformu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560" y="2637000"/>
            <a:ext cx="78598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éto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orías y fundamen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Propue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nunciar a la descripción de la totalidad social, al proyecto de “historia glob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siderar a la realidad como representaciones construidas de manera contradictoria y en conflicto, por las cuales los individuos le dan sentido al mundo que le es prop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nunciar al desglose so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¿Cómo estudiar el pasad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ncontrar aquellas representaciones del pasado por medio del análisis de las representaciones colectivas y de interacciones entre represent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scubrir relaciones entre sistemas de creencias, de valores y de representaciones por un lado, y de pertenencias sociales, por ot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Objetivos de la investigación historiográf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allar cómo una persona o un grupo social organiza las percepciones y las representaciones de mu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scubrir cómo se definen los límites de lo que es posible pens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er cómo se construyen relaciones propias a una época entre religión, ciencia y mo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onceptos cl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ebvre: “estructuras de pensamient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uerzas formadoras de costu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dea/ide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quinaria 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enta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tillaje 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onstrucción de sent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undo del 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undo del 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03:03:58Z</dcterms:created>
  <dc:creator>valeska orellana</dc:creator>
  <dc:description/>
  <dc:language>en-US</dc:language>
  <cp:lastModifiedBy>valeska orellana</cp:lastModifiedBy>
  <dcterms:modified xsi:type="dcterms:W3CDTF">2012-01-19T07:48:38Z</dcterms:modified>
  <cp:revision>8</cp:revision>
  <dc:subject/>
  <dc:title>El mundo como representaciones</dc:title>
</cp:coreProperties>
</file>