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C220-33E0-4FA2-9D6C-21B8F7C3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D87B-C2C8-47FB-84FE-C963C0D1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F166-7246-477B-AB83-1B4C4416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A65C-01C6-495C-9BB3-196E8761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C51A-E82B-4DF0-8F0C-4F7F3B66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83D3-47D1-4B70-94C4-4F1998D1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8271-849D-4F41-8AF0-3A94A042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5154-6B46-47D6-B515-4B0E4891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3C35-63A9-4B8D-BA47-45341FC2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2966-1848-4D47-8E42-2402A96D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B062-0674-4807-8C71-EBB5B75A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48DB-FAFB-4E64-AB81-F32EC320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80D0-9A02-4671-9DD6-EDDFBEC3F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niniacure515@hotmail.com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8720" y="2492280"/>
            <a:ext cx="88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El mundo como represent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og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ar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92000" cy="158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19280" y="981000"/>
            <a:ext cx="49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icerrectoría de Asuntos Acadé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rograma Académico Bachille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96000" y="5013360"/>
            <a:ext cx="424800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esenta   : Valeska Orel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E-mai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Book Antiqua"/>
                <a:hlinkClick r:id="rId2"/>
              </a:rPr>
              <a:t>niniacure515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ofesores: Ximena Cort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ernardo Gonzál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átedra     : verano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onstrucción de sent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La operación efectuada en la lectura (o la escucha) es un procesos históricamente determinado, cuyos modos y modelos varían según el tiempo, los lugares y las comun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Ej: Biblioteca azul (S.XVI-S.XVII, Franc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Book Antiqua"/>
              </a:rPr>
              <a:t>De la historia social de la cultura a una historia cultural de lo social…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ivisiones sociales construidas de antemano, caracteriza las configuraciones culturales a partir de materiales que se 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supone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son específicos de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os elementos de la clase “culta y la clase “popular” no son una oposición en tanto que se fusion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Representación del Judío*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268360" y="558936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Las imágenes que serán mostradas son extraídas del material diseñado por la profesora Ana María Tapia-Adler, que los ha confeccionado con fines pedagógicos refiriendo las fuentes de las cuales toma est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176720" cy="5904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00720" y="549360"/>
            <a:ext cx="4392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272360" cy="557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7FF1-7ED4-4114-B93F-49E34E28935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3961080" cy="568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0" y="549360"/>
            <a:ext cx="4265640" cy="568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216-09E4-4D3F-8E08-3B65BBBACC4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77744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596412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6624720" cy="61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F5B3-C4FB-46E8-A805-BDDD1141223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Der Stür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023C-89B3-496B-B736-1E341F9A1C0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Antecedentes bi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511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Historiador fran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Se inscribe en la 4º generación de la Escuela de los An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Especializado en historia del libro y ediciones liter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[chartier.bmp]"/>
          <p:cNvPicPr/>
          <p:nvPr/>
        </p:nvPicPr>
        <p:blipFill>
          <a:blip r:embed="rId1"/>
          <a:stretch/>
        </p:blipFill>
        <p:spPr>
          <a:xfrm>
            <a:off x="6084720" y="2205000"/>
            <a:ext cx="23972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4105080" cy="561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788000" y="620640"/>
            <a:ext cx="3887640" cy="561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BDDF-A33F-4E08-A1E1-47A8D3FA7FE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4103640" cy="5616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788000" y="692280"/>
            <a:ext cx="3671640" cy="561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BF52-514B-4FFA-8B90-ED0E9A6ACE8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065480" cy="6048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4174920" cy="604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2185-1DB5-473D-839C-20C5B712F34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u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492000" y="5516280"/>
            <a:ext cx="524844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* Imágenes tomadas del artículo “Los judíos en el humor gráfico”, por Alejandro Baer. Disponible en: </a:t>
            </a:r>
            <a:r>
              <a:rPr b="0" lang="es-ES" sz="1500" spc="-1" strike="noStrike" u="sng">
                <a:solidFill>
                  <a:srgbClr val="ffffff"/>
                </a:solidFill>
                <a:uFillTx/>
                <a:latin typeface="Arial"/>
              </a:rPr>
              <a:t>http://www.movimientocontralaintolerancia.com/download/JudiosHumorGrafico.pdf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620B-94F7-440C-9AE4-FE967B60063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3789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43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356000" y="3573360"/>
            <a:ext cx="4788000" cy="3284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3800520"/>
            <a:ext cx="4356000" cy="307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C808-0412-4D53-9AA2-C029B181B33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ríticas a la historia intelec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o existen las teorías creado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rror al aislar ideas o sistemas de pensamiento de las condiciones que han permitido su producción, las deshumaniza que instituye un  “universo de abstraccione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o tienen un límite al no tener dependencia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Reformu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6560" y="2637000"/>
            <a:ext cx="785988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b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éto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orías y fundamen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Propue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nunciar a la descripción de la totalidad social, al proyecto de “historia glob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nsiderar a la realidad como representaciones construidas de manera contradictoria y en conflicto, por las cuales los individuos le dan sentido al mundo que le es prop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nunciar al desglose so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¿Cómo estudiar el pasado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ncontrar aquellas representaciones del pasado por medio del análisis de las representaciones colectivas y de interacciones entre represent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scubrir relaciones entre sistemas de creencias, de valores y de representaciones por un lado, y de pertenencias sociales, por ot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Objetivos de la investigación historiográf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allar cómo una persona o un grupo social organiza las percepciones y las representaciones de mu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scubrir cómo se definen los límites de lo que es posible pens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Ver cómo se construyen relaciones propias a una época entre religión, ciencia y mo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onceptos cl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ebvre: “estructuras de pensamient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uerzas formadoras de costu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dea/ide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quinaria 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enta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Utillaje 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onstrucción de sent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undo del 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undo del 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03:03:58Z</dcterms:created>
  <dc:creator>valeska orellana</dc:creator>
  <dc:description/>
  <dc:language>en-US</dc:language>
  <cp:lastModifiedBy>valeska orellana</cp:lastModifiedBy>
  <dcterms:modified xsi:type="dcterms:W3CDTF">2012-01-19T07:48:38Z</dcterms:modified>
  <cp:revision>8</cp:revision>
  <dc:subject/>
  <dc:title>El mundo como representaciones</dc:title>
</cp:coreProperties>
</file>