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B21-0B17-4AC3-8DF5-1BCF67B9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396-DB3D-46A3-B606-156D4B4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DD6-9297-417B-9A9F-7F15B345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338-FD0A-4B70-BFA3-00EA1FDC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AA4-AAF7-4682-AABA-859C6A08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5A6-18D0-446B-A47E-314AC3A8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D85-F4E2-48DD-88DD-03F9C67C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378-FD5C-4EAD-856B-0C3380DC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9FF-0F5C-4D4A-AD51-801020B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AE0-E4C9-48BE-B38B-F9EA8EF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BB6-C441-454C-9F07-D4616FD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D6C-88E4-4836-9C64-536FDD5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B838-4624-4411-94CF-D482BCDF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8720" y="2492280"/>
            <a:ext cx="88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l mundo como re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r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200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98100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6000" y="5013360"/>
            <a:ext cx="424800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a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La operación efectuada en la lectura (o la escucha) es un procesos históricamente determinado, cuyos modos y modelos varían según el tiempo, los lugares y las comun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j: Biblioteca azul (S.XVI-S.XVII, Fr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 Antiqua"/>
              </a:rPr>
              <a:t>De la historia social de la cultura a una historia cultural de lo social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visiones sociales construidas de antemano, caracteriza las configuraciones culturales a partir de materiales que se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up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son específicos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s elementos de la clase “culta y la clase “popular” no son una oposición en tanto que se fusio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Representación del Judío*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68360" y="558936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Las imágenes que serán mostradas son extraídas del material diseñado por la profesora Ana María Tapia-Adler, que los ha confeccionado con fines pedagógicos refiriendo las fuentes de las cuales toma est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57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7B3-2726-48F4-9468-27735BFAC3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61080" cy="568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6564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456-F4A2-43B1-9BED-61C6ED2B8A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77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9641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555-81FE-4D96-B831-38B5C37EC6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er Stü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D4D-28E2-4559-9CE9-CD074F5114B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Historiador fr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4º generación de la Escuela de los An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Especializado en historia del libro y ediciones liter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[chartier.bmp]"/>
          <p:cNvPicPr/>
          <p:nvPr/>
        </p:nvPicPr>
        <p:blipFill>
          <a:blip r:embed="rId1"/>
          <a:stretch/>
        </p:blipFill>
        <p:spPr>
          <a:xfrm>
            <a:off x="6084720" y="2205000"/>
            <a:ext cx="2397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8764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449-0BD4-42D0-A938-3EA08DF0A2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03640" cy="56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671640" cy="56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175-ECF7-4881-B814-8F73A7D776B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65480" cy="604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C65-3D8E-416A-B312-5A5DEBD036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92000" y="5516280"/>
            <a:ext cx="524844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* Imágenes tomadas del artículo “Los judíos en el humor gráfico”, por Alejandro Baer. Disponible en: </a:t>
            </a:r>
            <a:r>
              <a:rPr b="0" lang="es-ES" sz="1500" spc="-1" strike="noStrike" u="sng">
                <a:solidFill>
                  <a:srgbClr val="ffffff"/>
                </a:solidFill>
                <a:uFillTx/>
                <a:latin typeface="Arial"/>
              </a:rPr>
              <a:t>http://www.movimientocontralaintolerancia.com/download/JudiosHumorGrafico.pdf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6C3-84E9-45D1-BFE7-33F914DCC2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800520"/>
            <a:ext cx="435600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F9E-DFC6-4C76-87FF-324DA67C638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ríticas a la historia intele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existen las teorías cread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rror al aislar ideas o sistemas de pensamiento de las condiciones que han permitido su producción, las deshumaniza que instituye un  “universo de abstraccion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 tienen un límite al no tener dependenci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e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8598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orías y fundam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 la descripción de la totalidad social, al proyecto de “historia glob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iderar a la realidad como representaciones construidas de manera contradictoria y en conflicto, por las cuales los individuos le dan sentido al mundo que le es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nunciar al desglose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Cómo estudiar el pasa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contrar aquellas representaciones del pasado por medio del análisis de las representaciones colectivas y de interacciones entre represen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relaciones entre sistemas de creencias, de valores y de representaciones por un lado, y de pertenencias sociales, por o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bjetivos de la investigación historio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llar cómo una persona o un grupo social organiza las percepciones y las representaciones de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cubrir cómo se definen los límites de lo que es posibl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r cómo se construyen relaciones propias a una época entre religión, ciencia y m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cepto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bvre: “estructuras de pens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rzas formadoras de cost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dea/ide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quinaria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nt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tillaje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onstrucción de sen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ndo del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3:03:58Z</dcterms:created>
  <dc:creator>valeska orellana</dc:creator>
  <dc:description/>
  <dc:language>en-US</dc:language>
  <cp:lastModifiedBy>valeska orellana</cp:lastModifiedBy>
  <dcterms:modified xsi:type="dcterms:W3CDTF">2012-01-19T07:48:38Z</dcterms:modified>
  <cp:revision>8</cp:revision>
  <dc:subject/>
  <dc:title>El mundo como representaciones</dc:title>
</cp:coreProperties>
</file>