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8526-45F7-4A56-A533-B611BDCFA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7F85-3A5F-4E3A-ABC0-015A1606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1B00-F7BA-427A-88AC-AA40A546E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4C8C-2B34-4F2E-872E-706F5222F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31F6-D80E-4DE8-AB8B-77722FCE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0C01-37E9-4D23-8BFA-DDCE1B45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1173-8BBA-4202-B042-1BE60E7A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772C-7585-4EDC-8431-78E30CEA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E40E-B00A-4A0F-AA6A-145D1462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90F0-0322-475B-BD33-09A85445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E3BE-0412-4574-BF67-68295D81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F027-31A9-40E3-965C-55BD3DDA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3FBC-A515-499B-9A13-3DAAA691E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niniacure515@hotmail.com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8720" y="2492280"/>
            <a:ext cx="88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El mundo como represent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Rog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hart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92000" cy="158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19280" y="981000"/>
            <a:ext cx="496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Vicerrectoría de Asuntos Académ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rograma Académico Bachille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96000" y="5013360"/>
            <a:ext cx="4248000" cy="23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resenta   : Valeska Orell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E-mail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Book Antiqua"/>
                <a:hlinkClick r:id="rId2"/>
              </a:rPr>
              <a:t>niniacure515@hot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rofesores: Ximena Cort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Bernardo Gonzál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átedra     : verano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onstrucción de sent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La operación efectuada en la lectura (o la escucha) es un procesos históricamente determinado, cuyos modos y modelos varían según el tiempo, los lugares y las comunid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Ej: Biblioteca azul (S.XVI-S.XVII, Franc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Book Antiqua"/>
              </a:rPr>
              <a:t>De la historia social de la cultura a una historia cultural de lo social…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ivisiones sociales construidas de antemano, caracteriza las configuraciones culturales a partir de materiales que se 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supone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son específicos de el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os elementos de la clase “culta y la clase “popular” no son una oposición en tanto que se fusion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Representación del Judío*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268360" y="5589360"/>
            <a:ext cx="6400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 Las imágenes que serán mostradas son extraídas del material diseñado por la profesora Ana María Tapia-Adler, que los ha confeccionado con fines pedagógicos refiriendo las fuentes de las cuales toma esta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176720" cy="5904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00720" y="549360"/>
            <a:ext cx="43923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272360" cy="5576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851D-68A7-4C7E-ACC3-2108279896C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3961080" cy="568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0" y="549360"/>
            <a:ext cx="4265640" cy="568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3EC7-34C4-4921-9A9E-59D1CE745F9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77744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5964120" cy="60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332000" y="333360"/>
            <a:ext cx="6624720" cy="61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FFFA-BEC3-4AA8-B24C-4398F0F1D5B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Der Stür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B98E-9793-4C0E-90DC-117C99016F5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Antecedentes bio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511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Historiador franc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Se inscribe en la 4º generación de la Escuela de los An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Especializado en historia del libro y ediciones litera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[chartier.bmp]"/>
          <p:cNvPicPr/>
          <p:nvPr/>
        </p:nvPicPr>
        <p:blipFill>
          <a:blip r:embed="rId1"/>
          <a:stretch/>
        </p:blipFill>
        <p:spPr>
          <a:xfrm>
            <a:off x="6084720" y="2205000"/>
            <a:ext cx="23972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4105080" cy="5616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788000" y="620640"/>
            <a:ext cx="3887640" cy="561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3F6E-75CB-41FA-AB4D-4FC2FD3F7F4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4103640" cy="5616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788000" y="692280"/>
            <a:ext cx="3671640" cy="5616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7B72-3999-4F24-A883-7A42585B119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4065480" cy="6048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500720" y="404640"/>
            <a:ext cx="4174920" cy="604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6A22-6664-48F7-92C2-E93A83BBC5F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ua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492000" y="5516280"/>
            <a:ext cx="524844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* Imágenes tomadas del artículo “Los judíos en el humor gráfico”, por Alejandro Baer. Disponible en: </a:t>
            </a:r>
            <a:r>
              <a:rPr b="0" lang="es-ES" sz="1500" spc="-1" strike="noStrike" u="sng">
                <a:solidFill>
                  <a:srgbClr val="ffffff"/>
                </a:solidFill>
                <a:uFillTx/>
                <a:latin typeface="Arial"/>
              </a:rPr>
              <a:t>http://www.movimientocontralaintolerancia.com/download/JudiosHumorGrafico.pdf</a:t>
            </a: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D451-8A2C-4E71-B80B-6050C4040A0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56000" cy="3789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543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356000" y="3573360"/>
            <a:ext cx="4788000" cy="3284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0" y="3800520"/>
            <a:ext cx="4356000" cy="307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D6B0-A9ED-48FE-9F4C-DD4D4A4E62D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ríticas a la historia intelect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No existen las teorías creado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rror al aislar ideas o sistemas de pensamiento de las condiciones que han permitido su producción, las deshumaniza que instituye un  “universo de abstracciones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No tienen un límite al no tener dependencia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Reformul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6560" y="2637000"/>
            <a:ext cx="785988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b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éto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eorías y fundamen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Propue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Renunciar a la descripción de la totalidad social, al proyecto de “historia global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onsiderar a la realidad como representaciones construidas de manera contradictoria y en conflicto, por las cuales los individuos le dan sentido al mundo que le es prop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Renunciar al desglose so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¿Cómo estudiar el pasado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ncontrar aquellas representaciones del pasado por medio del análisis de las representaciones colectivas y de interacciones entre represent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escubrir relaciones entre sistemas de creencias, de valores y de representaciones por un lado, y de pertenencias sociales, por ot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Objetivos de la investigación historiográf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3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allar cómo una persona o un grupo social organiza las percepciones y las representaciones de mu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escubrir cómo se definen los límites de lo que es posible pens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Ver cómo se construyen relaciones propias a una época entre religión, ciencia y mo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onceptos cl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ebvre: “estructuras de pensamient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uerzas formadoras de costum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dea/ide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aquinaria 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ental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Utillaje 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onstrucción de sent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undo del 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undo del 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03:03:58Z</dcterms:created>
  <dc:creator>valeska orellana</dc:creator>
  <dc:description/>
  <dc:language>en-US</dc:language>
  <cp:lastModifiedBy>valeska orellana</cp:lastModifiedBy>
  <dcterms:modified xsi:type="dcterms:W3CDTF">2012-01-19T07:48:38Z</dcterms:modified>
  <cp:revision>8</cp:revision>
  <dc:subject/>
  <dc:title>El mundo como representaciones</dc:title>
</cp:coreProperties>
</file>