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AACD-5AB2-45DF-9A3D-84CB08A0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DED3-45AA-4DEA-8125-79EB2D5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53F2-EA84-4B3D-BBF2-EC07190D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102D-4940-4D47-A4BD-6AD8DF9D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B06-B11F-41E1-BF2A-DFE43439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922-E102-43B8-9A20-70C4C67A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1BDF-DFD3-47B7-934E-CD85D29A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762-9BBE-4C29-BB6B-E93B47F8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161-5F0A-44E6-A8ED-48371602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48F-9275-4A16-8E77-3A14112C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03C8-5254-49A4-B60F-EDDE4AE3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B6AA-A4C1-403A-84C0-7C63AFAC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6F71-0E31-4605-99B1-3B69B51F6D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853920"/>
            <a:ext cx="63342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ÁTED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BERNARDO GONZÁL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Ejemplo d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Carta Gan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008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44280"/>
          <a:ext cx="9144000" cy="6813720"/>
        </p:xfrm>
        <a:graphic>
          <a:graphicData uri="http://schemas.openxmlformats.org/drawingml/2006/table">
            <a:tbl>
              <a:tblPr/>
              <a:tblGrid>
                <a:gridCol w="1874880"/>
                <a:gridCol w="1278000"/>
                <a:gridCol w="1595160"/>
                <a:gridCol w="1981440"/>
                <a:gridCol w="550800"/>
                <a:gridCol w="426960"/>
                <a:gridCol w="290520"/>
                <a:gridCol w="284400"/>
                <a:gridCol w="285480"/>
                <a:gridCol w="287280"/>
                <a:gridCol w="289080"/>
              </a:tblGrid>
              <a:tr h="265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25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2920"/>
                <a:gridCol w="1206360"/>
                <a:gridCol w="1505880"/>
                <a:gridCol w="1875960"/>
                <a:gridCol w="704880"/>
                <a:gridCol w="218880"/>
                <a:gridCol w="242640"/>
                <a:gridCol w="240840"/>
                <a:gridCol w="218880"/>
                <a:gridCol w="364320"/>
                <a:gridCol w="318240"/>
              </a:tblGrid>
              <a:tr h="41436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20T00:43:47Z</dcterms:modified>
  <cp:revision>13</cp:revision>
  <dc:subject/>
  <dc:title>Diapositiva 1</dc:title>
</cp:coreProperties>
</file>