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E649-17F1-46AD-90AC-E4A8C4EA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B039-8A73-4568-98C9-30F1F790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FD50-9241-484E-AB47-AFF291E6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2678-704C-4818-AC16-B131DE62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04B2-12BB-4ABB-A30B-EB4B755E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59AE-E75A-4570-9904-B4FD7FBF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34B6-0638-4311-AE32-8F00869A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3142-6C77-473D-A6CF-A52AF5A6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9DCF-2C3A-43DE-8B11-3283C6CF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4E1-FFF5-4F80-B2D0-74CAF0EE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2E77-7E2A-457E-8FBC-02CB4CBB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789-E2B7-4F5E-B0BD-F1BF9752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97DE-13EB-4EF8-BD46-16913DF00A7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3640" y="853920"/>
            <a:ext cx="6334200" cy="15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GRAMA ACADÉMICO DE BACHILLERATO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CÁTEDRA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 HISTORIA</a:t>
            </a:r>
            <a:br>
              <a:rPr sz="2000"/>
            </a:b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ROFESOR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 BERNARDO GONZÁL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ff00"/>
                </a:solidFill>
                <a:latin typeface="Arial"/>
              </a:rPr>
              <a:t>Ejemplo d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ffff00"/>
                </a:solidFill>
                <a:latin typeface="Arial"/>
              </a:rPr>
              <a:t>Carta Gant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UChile1"/>
          <p:cNvPicPr/>
          <p:nvPr/>
        </p:nvPicPr>
        <p:blipFill>
          <a:blip r:embed="rId1"/>
          <a:stretch/>
        </p:blipFill>
        <p:spPr>
          <a:xfrm>
            <a:off x="755640" y="620640"/>
            <a:ext cx="100800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44280"/>
          <a:ext cx="9144000" cy="6813720"/>
        </p:xfrm>
        <a:graphic>
          <a:graphicData uri="http://schemas.openxmlformats.org/drawingml/2006/table">
            <a:tbl>
              <a:tblPr/>
              <a:tblGrid>
                <a:gridCol w="1874880"/>
                <a:gridCol w="1278000"/>
                <a:gridCol w="1595160"/>
                <a:gridCol w="1981440"/>
                <a:gridCol w="550800"/>
                <a:gridCol w="426960"/>
                <a:gridCol w="290520"/>
                <a:gridCol w="284400"/>
                <a:gridCol w="285480"/>
                <a:gridCol w="287280"/>
                <a:gridCol w="289080"/>
              </a:tblGrid>
              <a:tr h="265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302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Observación a través de notas de cam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 de 1º 2º y 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(1ºH,2ºC, 2ºD)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(1°K; J; 3°A;H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1°K; J; 3°A;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i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º A, 3º C y 3ª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ªA, 3ºC y 3ºI</a:t>
                      </a: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96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ocume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libro de clase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: anotaciones de los alumn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9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de los alumnos en Lenguaje y 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gistro gráf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g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Jo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co investig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ión de la vida estudiantil desde los alumnos daria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255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: dos alumno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entes: dos profesor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, Disciplina, Motivación, Infraestructura y 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/ 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4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es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atal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24000" y="620640"/>
          <a:ext cx="8389800" cy="5904000"/>
        </p:xfrm>
        <a:graphic>
          <a:graphicData uri="http://schemas.openxmlformats.org/drawingml/2006/table">
            <a:tbl>
              <a:tblPr/>
              <a:tblGrid>
                <a:gridCol w="1492920"/>
                <a:gridCol w="1206360"/>
                <a:gridCol w="1505880"/>
                <a:gridCol w="1875960"/>
                <a:gridCol w="704880"/>
                <a:gridCol w="218880"/>
                <a:gridCol w="242640"/>
                <a:gridCol w="240840"/>
                <a:gridCol w="218880"/>
                <a:gridCol w="364320"/>
                <a:gridCol w="318240"/>
              </a:tblGrid>
              <a:tr h="414360"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2938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 información recogida de las fu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222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ga de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23:48:59Z</dcterms:created>
  <dc:creator>Bustamante</dc:creator>
  <dc:description/>
  <dc:language>en-US</dc:language>
  <cp:lastModifiedBy>Bernardo González</cp:lastModifiedBy>
  <dcterms:modified xsi:type="dcterms:W3CDTF">2012-01-20T00:43:47Z</dcterms:modified>
  <cp:revision>13</cp:revision>
  <dc:subject/>
  <dc:title>Diapositiva 1</dc:title>
</cp:coreProperties>
</file>