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B96-43E6-4CD5-A726-0D20A9AB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858-7842-404C-B360-93B90E9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5F6-EE6E-4F69-9BA9-732994B0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62E-8170-4B97-99D9-8C46E1E8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6A6-AB5D-42A9-B6CC-A349D0C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B93-84F3-4ECD-90D9-CDDD100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775-9FDF-466B-B02A-FB94D3C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44C-ABF8-4A26-8020-A8300B9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E34-2365-4973-99E6-C62596D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BD4-BAF0-48D6-B931-58FA3223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486-0B50-47D8-8625-44501FB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EFF-E78F-4D41-ACF2-7835300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822-6CEE-4E12-9189-AC0B97034C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853920"/>
            <a:ext cx="6334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ÁTED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BERNARDO 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Ejemplo 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Carta Gan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00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drawingml/2006/table">
            <a:tbl>
              <a:tblPr/>
              <a:tblGrid>
                <a:gridCol w="1874880"/>
                <a:gridCol w="1278000"/>
                <a:gridCol w="1595160"/>
                <a:gridCol w="1981440"/>
                <a:gridCol w="550800"/>
                <a:gridCol w="426960"/>
                <a:gridCol w="290520"/>
                <a:gridCol w="284400"/>
                <a:gridCol w="285480"/>
                <a:gridCol w="287280"/>
                <a:gridCol w="289080"/>
              </a:tblGrid>
              <a:tr h="26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25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2920"/>
                <a:gridCol w="1206360"/>
                <a:gridCol w="1505880"/>
                <a:gridCol w="1875960"/>
                <a:gridCol w="704880"/>
                <a:gridCol w="218880"/>
                <a:gridCol w="242640"/>
                <a:gridCol w="240840"/>
                <a:gridCol w="218880"/>
                <a:gridCol w="364320"/>
                <a:gridCol w="318240"/>
              </a:tblGrid>
              <a:tr h="41436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20T00:43:47Z</dcterms:modified>
  <cp:revision>13</cp:revision>
  <dc:subject/>
  <dc:title>Diapositiva 1</dc:title>
</cp:coreProperties>
</file>