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03D-2118-4FE4-A535-73EB2C79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9CE-FEE0-4CCF-B6EB-A3ED84EC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11E-5048-4FB1-9B9D-D4901B14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67B-75B1-4DA8-91A5-FBD45145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6D3-9D5D-4EB6-AB40-6A75BBCF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A4D-D9EC-4906-9086-230AF0F8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D46-3BD2-452F-886B-C606D5C2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240-B9F9-4C53-AF53-B4037CF4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AAC-5A40-4480-BFA2-53CBCFBC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BDE-4CF3-422E-A3AB-254F4C89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713-EF56-4CBA-B184-F1583A42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BBE-430C-4C09-9771-AD1861F7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AAF5-2BE9-49D6-96FD-64BB6A3A6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iniacure515@hotmail.co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997000"/>
            <a:ext cx="84582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De la participación ciudadana: </a:t>
            </a:r>
            <a:br>
              <a:rPr sz="4000"/>
            </a:b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apital social constante y capital social variable</a:t>
            </a:r>
            <a:br>
              <a:rPr sz="4000"/>
            </a:b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Gabriel Salazar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05440" cy="18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esenta   : Valeska Orellan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: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ofesores: Ximena Cortez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Bernardo González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Fecha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011240" cy="172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3640" y="90792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inergia Lo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ergía social colectiva que se despliega y acumula de modo permanente, aprendiendo tanto de sus éxitos como de sus fracasos” (P.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F10-A06E-478F-A57B-2C67D52E04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20464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apital Social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55640" y="3573000"/>
            <a:ext cx="770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Alto sentido de autonom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Alta participación y empoderamient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apital Social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71611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ta si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rmite el uso inmed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 “para sobrevivi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 baja legalidad pero fuerte poder d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n Chil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 CSV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ayuda a explicar por qué plantear políticas normadas de participación  a una población formada por residuos de comunidad, sólo comporta frustración, rebote de proyectos y refracción de las políticas públicas”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84C-F28B-4A01-9974-5327049CA5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275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a participació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26560" y="5876640"/>
            <a:ext cx="79203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rsos contrapuestos sobr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9280" y="2276280"/>
            <a:ext cx="39560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articipación para el BM es una cuestión de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mpresari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81560" y="2276640"/>
            <a:ext cx="4294080" cy="38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rticipación para el PNUD es una cuestión d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De la pobreza y la participació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A87-9439-4687-9E45-7C339B2C2E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El punto Huntingt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j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- Democracia = + Gobernabilidad = + Estabilidad = - Par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+ Democracia = - Gobernabilidad = - Estabilidad = + Par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 ide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democracia óptima establece un subsistema electoral para elegir los representantes y un subsistema de negociación para resolver los conflictos públicos y privados. También permite y regula un subsistema de asociación privada entre ciudadanos”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F93-5C8B-4282-A00B-1F02F31C14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tado chileno neoliberal al filo del punto Hunt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be usar la participación manteniendo niveles de “poca democracia”, sin provocar los riesgos de “mucha democracia”…es dec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currir a la gobernanza pero dentro de la gobernabilid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El punto Huntingt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585-C5C8-4FBD-A1B6-ABC9653C1E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Tendencia que promueve la disciplina ciudadana distinta a la del Estado de derecho: aquella que, basada en la dinámica social, (…) la construcción de poder ciudadano y la reconstrucción del Derecho y del Estado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E8F-17A5-45DA-845B-D0024485D6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Gobernan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bernanz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pera según la lógica de la gobern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sde arrib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yor involucración civil, transparencia en polític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yor eficiencia est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uen gobiern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mueve la modernización del Estado y 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bernanz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 desprende del despliegue histórico del capital social en todas sus 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sde abaj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mueve la socialización del Estado y 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speta a los derechos humanos que demandan construir socialmente la propia  re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887-D263-484A-989E-4038573350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istoriador chil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 inscribe en la historia social como rama historiográ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emio Nacional de Historia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91924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3E4-73D9-4B87-9B03-82D1CF9C21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lación global entre Estado y Sociedad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laciones históricas (abiertas) entre aquellos (Régimen de Gobierno y Estado) y la sociedad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ertura del sistema jurídico del Estado hacia la historicidad más abierta de la sociedad.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*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Lo suficiente al menos para que no colapse por falta de acoplo a la sociedad civil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p.1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176-C813-4F5E-8A77-A42E9F0CE0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Permitir la participación ciudadana nos lleva por dos camino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40384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ciedad &lt;-&gt;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2920" y="2349360"/>
            <a:ext cx="40388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ciedad que se reconcentra en sí misma, buscando desarrollarse y fortalec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EBE-F736-4F07-A523-59C85F83DA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Volviendo a Chi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3357720"/>
            <a:ext cx="843588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¿Pueden las políticas participativas del Estado neoliberal chileno resolver los problemas de pobreza y con otros con “mucha gobernabilidad” y “poca democracia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8FA-41CE-4E99-9077-E41896840E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stado &lt;-&gt;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éficit creciente de histor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rastre de legitim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 estabilidad del Estado deviene de un principio superior a todo plebiscito y a toda mayoría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ipo de argumentación que dejan a la Gobernanza I y II como productos meramente académ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B64-3846-4D86-BB05-7AD5499F1D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 II po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recondiciones históricas y tendencias estruc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Moléculas estruc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roformas de la Gobernanz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No se puede impulsar la democracia participativa si, al mismo tiempo, se impide toda posibilidad de reformar la Constitución y dar libre curso a la legítima transición ciudadana. </a:t>
            </a:r>
            <a:br>
              <a:rPr sz="3500"/>
            </a:br>
            <a:br>
              <a:rPr sz="3500"/>
            </a:b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No se puede hacer política resolviendo problemas de tránsito o delictuales e ignorando las relaciones histórico-estructurales entre el Estado + Mercado y la Sociedad Civil” </a:t>
            </a: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(p.20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1A1-C990-44C6-939E-362181EBE8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4005000"/>
            <a:ext cx="77040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Disponible en:</a:t>
            </a:r>
            <a:br>
              <a:rPr sz="4000"/>
            </a:br>
            <a:r>
              <a:rPr b="0" lang="es-ES" sz="4000" spc="-1" strike="noStrike" u="sng">
                <a:solidFill>
                  <a:srgbClr val="ffffff"/>
                </a:solidFill>
                <a:uFillTx/>
                <a:latin typeface="Book Antiqua"/>
              </a:rPr>
              <a:t>http://youtu.be/HE_p5MUJ6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71640" y="1412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memoria y los movimiento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xposición realizada el 7 de Noviembre de 2011 en el Departamento de Geología, FCFM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Organizada por el equipo docente del curso Crónicas de Beauchef.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306828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D0F-F700-4645-AA69-4C77D5952D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7005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a participación ciudadan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28000" cy="52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0B6-55D3-46FA-AEFD-E36F28E710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Historia y Po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321300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 la concentración y la desconcen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9A2-949A-49B0-8AB8-6E520B5B9E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Los ciclos de Kondrati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524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9DE-447D-4D25-97E9-19F99B5E48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4to ciclo de Kondrati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nsione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blemas im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lu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530-21BD-43E4-8719-5B248CA925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Fantasmas republican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94680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ola devolu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Globalización y retorno al su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mpoderamiento y los nuevos movimientos cív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D26-C919-4BE0-9C73-6F1976DDDB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Fantasmas republican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l caso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El centralismo ha reducido al autonomismo local a una condición inocua y declamativa”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(p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La tendencia del proceso histórico central ha sido debilitar o destruir todos los indicadores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[de contexto] 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en el que puede prosperar el capital social ‘constante’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(p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CDA-ED33-4096-9284-EACEA7C58F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920" y="4508640"/>
            <a:ext cx="7632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apital Social ‘Constante’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apital Social ‘Variable’ 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inergia Lo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A34-588D-4A1F-8889-03C899B461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5:45:38Z</dcterms:created>
  <dc:creator>valeska orellana</dc:creator>
  <dc:description/>
  <dc:language>en-US</dc:language>
  <cp:lastModifiedBy>valeska orellana</cp:lastModifiedBy>
  <dcterms:modified xsi:type="dcterms:W3CDTF">2012-01-19T07:46:30Z</dcterms:modified>
  <cp:revision>26</cp:revision>
  <dc:subject/>
  <dc:title>De la participación ciudadana: capital social constante y capital social variable Gabriel Salazar </dc:title>
</cp:coreProperties>
</file>