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53C-32BB-429F-812B-1114D3C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8B7-0D5B-4C11-94A8-48C945CD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4CD-A206-41D3-9E00-D3D8F5CD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7B6-1108-47C5-8E0C-7C06B41D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886-6E94-415C-893E-F8F23BD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2E5-C9E1-4842-A0D0-A64B8695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147-03C2-4631-8277-81A5C9E4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DE8-2EC4-44F8-B0AE-B18E18E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04B-63AC-416D-9F72-A019F9A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5EC-CEA7-4C50-82DC-332DEB0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FBF-E6E5-4AB5-9A39-AD84EC72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6D1-51AF-4AF8-ACA9-DD87134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580-0A7A-4B62-AD34-0DAE3E9C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iniacure515@hot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84582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articipación ciudadana: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apital social constante y capital social variable</a:t>
            </a:r>
            <a:br>
              <a:rPr sz="4000"/>
            </a:b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abriel Salazar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0544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: Valeska Orellan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Fecha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1124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9079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ergía social colectiva que se despliega y acumula de modo permanente, aprendiendo tanto de sus éxitos como de sus fracasos” (P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427-21B9-4CA7-B9E6-294B77631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640" y="357300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o sentido de aut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a participación y empoderamient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ta si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mite el uso inmed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 “para sobreviv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 baja legalidad pero fuerte poder d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 Chil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 CSV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ayuda a explicar por qué plantear políticas normadas de participación  a una población formada por residuos de comunidad, sólo comporta frustración, rebote de proyectos y refracción de las políticas pública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FFE-7D41-4592-B663-6F9EEEFA9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rsos contrapuestos sobr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395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articipación para el BM es una cuestión de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resar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560" y="2276640"/>
            <a:ext cx="429408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icipación para el PNUD es una cuestión d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obreza y la participació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CC7-684F-48B1-BA1C-D721C2ABD8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- Democracia = + Gobernabilidad = + Estabilidad = -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+ Democracia = - Gobernabilidad = - Estabilidad = +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 id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democracia óptima establece un subsistema electoral para elegir los representantes y un subsistema de negociación para resolver los conflictos públicos y privados. También permite y regula un subsistema de asociación privada entre ciudadano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22F-5DF5-406A-B6E8-5496834201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do chileno neoliberal al filo del punto Hunt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be usar la participación manteniendo niveles de “poca democracia”, sin provocar los riesgos de “mucha democracia”…es dec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currir a la gobernanza pero dentro de la gobernabil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349-D3AB-4B1D-B410-5EAC4E21A3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Tendencia que promueve la disciplina ciudadana distinta a la del Estado de derecho: aquella que, basada en la dinámica social, (…) la construcción de poder ciudadano y la reconstrucción del Derecho y del Estado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19B-32C3-4D81-87D8-2D7266F4DC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Gobern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pera según la lógica de la gobern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involucración civil, transparencia en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eficiencia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en gobier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modern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desprende del despliegue histórico del capital social en todas sus 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social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peta a los derechos humanos que demandan construir socialmente la propia 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01B-FCFD-4678-818C-928980F67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storiador chi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 inscribe en la historia social como rama histori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mio Nacional de Historia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9192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574-06FE-4008-B3E3-B5F17914C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ón global entre Estado y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ones históricas (abiertas) entre aquellos (Régimen de Gobierno y Estado) y la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ertura del sistema jurídico del Estado hacia la historicidad más abierta de la sociedad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*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Lo suficiente al menos para que no colapse por falta de acoplo a la sociedad civil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p.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6CB-AD6B-418F-890E-691CB93592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ermitir la participación ciudadana nos lleva por dos camino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&lt;-&gt;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que se reconcentra en sí misma, buscando desarrollarse y fortalec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D1E-EB7A-4A45-B523-2B320DBF3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Volviendo a Ch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43588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¿Pueden las políticas participativas del Estado neoliberal chileno resolver los problemas de pobreza y con otros con “mucha gobernabilidad” y “poca democraci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A31-308B-4714-BA74-1684CBEA14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stado &lt;-&gt;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éficit creciente de histo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astre de legitim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estabilidad del Estado deviene de un principio superior a todo plebiscito y a toda mayorí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po de argumentación que dejan a la Gobernanza I y II como productos meramente académ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87D-2913-4EB2-9F26-D1DCC19BC1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 po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econdiciones históricas y tendenci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Molécul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oformas de la Gobernanz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impulsar la democracia participativa si, al mismo tiempo, se impide toda posibilidad de reformar la Constitución y dar libre curso a la legítima transición ciudadana. </a:t>
            </a:r>
            <a:br>
              <a:rPr sz="3500"/>
            </a:br>
            <a:br>
              <a:rPr sz="3500"/>
            </a:b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hacer política resolviendo problemas de tránsito o delictuales e ignorando las relaciones histórico-estructurales entre el Estado + Mercado y la Sociedad Civil”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(p.20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79B-6ABA-438C-B98A-D1A05675B9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040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Disponible en:</a:t>
            </a:r>
            <a:br>
              <a:rPr sz="4000"/>
            </a:br>
            <a:r>
              <a:rPr b="0" lang="es-ES" sz="4000" spc="-1" strike="noStrike" u="sng">
                <a:solidFill>
                  <a:srgbClr val="ffffff"/>
                </a:solidFill>
                <a:uFillTx/>
                <a:latin typeface="Book Antiqua"/>
              </a:rPr>
              <a:t>http://youtu.be/HE_p5MUJ6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memoria y los movimiento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xposición realizada el 7 de Noviembre de 2011 en el Departamento de Geología, FCFM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Organizada por el equipo docente del curso Crónicas de Beauchef.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41E-03DF-4B36-8E1F-A6244F796E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7005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 ciudadan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800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2DB-984B-40C7-B4DE-90C79264B5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Historia y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 la concentración y la des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11E-D1BB-4D1F-8266-DD6741B49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os ciclos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8BB-118A-4147-825F-A7E20CDD51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4to ciclo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nsione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as im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u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559-48AA-46B9-93E1-249CED19EB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4680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ola devol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Globalización y retorno al 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oderamiento y los nuevos movimientos cív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3E3-4B45-4F06-9A04-EAAE4606B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caso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l centralismo ha reducido al autonomismo local a una condición inocua y declamativa”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La tendencia del proceso histórico central ha sido debilitar o destruir todos los indicadores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[de contexto]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n el que puede prosperar el capital social ‘constante’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AEA-D4D2-48DF-B148-4900383AE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450864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Constante’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Variable’ 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F23-8BEA-40F6-9290-A1BBC9B340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5:45:38Z</dcterms:created>
  <dc:creator>valeska orellana</dc:creator>
  <dc:description/>
  <dc:language>en-US</dc:language>
  <cp:lastModifiedBy>valeska orellana</cp:lastModifiedBy>
  <dcterms:modified xsi:type="dcterms:W3CDTF">2012-01-19T07:46:30Z</dcterms:modified>
  <cp:revision>26</cp:revision>
  <dc:subject/>
  <dc:title>De la participación ciudadana: capital social constante y capital social variable Gabriel Salazar </dc:title>
</cp:coreProperties>
</file>