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193-42D2-461C-8000-526DBC1C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398-771E-47AB-BC12-BC1F2CDA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C5D-A028-48E2-A740-47B9901A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235-B64E-454F-92FB-590697F3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03C-DE28-4052-9B69-414AEF7C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B99-2F48-4A1B-9109-40641B2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6A2-6482-490C-AF71-06C06BFF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58B-6407-4BF0-86E9-759D7127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FB3-4179-4993-ADA2-FAF38344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780-2A29-46FE-8F39-7C46B05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9B1-0587-4D8F-9972-0EF8429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83A-4E85-4D99-A3D4-663D4B41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EC8C-06F3-4B08-A9DA-920EECB57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iniacure515@hotmail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997000"/>
            <a:ext cx="84582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De la participación ciudadana: </a:t>
            </a:r>
            <a:br>
              <a:rPr sz="4000"/>
            </a:b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apital social constante y capital social variable</a:t>
            </a:r>
            <a:br>
              <a:rPr sz="4000"/>
            </a:b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Gabriel Salazar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0544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esenta   : Valeska Orellan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: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ofesores: Ximena Cortez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Bernardo González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Fecha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011240" cy="172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3640" y="90792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inergia Lo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ergía social colectiva que se despliega y acumula de modo permanente, aprendiendo tanto de sus éxitos como de sus fracasos” (P.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16E-6D7C-494E-9CE0-40BBD32686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20464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apital Social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55640" y="3573000"/>
            <a:ext cx="770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Alto sentido de autonom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Alta participación y empoderamient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apital Social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71611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ta si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rmite el uso inmed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 “para sobrevivi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 baja legalidad pero fuerte poder d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n Chil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 CSV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ayuda a explicar por qué plantear políticas normadas de participación  a una población formada por residuos de comunidad, sólo comporta frustración, rebote de proyectos y refracción de las políticas públicas”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47F-3A98-405F-BCDF-CF8A9303B7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275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participació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03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rsos contrapuestos sobr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280" y="2276280"/>
            <a:ext cx="39560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articipación para el BM es una cuestión de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mpresari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81560" y="2276640"/>
            <a:ext cx="4294080" cy="38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ticipación para el PNUD es una cuestión d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De la pobreza y la participació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3E4-6167-4BBE-A039-69190EF53C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El punto Huntingt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- Democracia = + Gobernabilidad = + Estabilidad = - Par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+ Democracia = - Gobernabilidad = - Estabilidad = + Par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 ide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democracia óptima establece un subsistema electoral para elegir los representantes y un subsistema de negociación para resolver los conflictos públicos y privados. También permite y regula un subsistema de asociación privada entre ciudadanos”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591-3929-4DAD-84BB-F692882EAB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tado chileno neoliberal al filo del punto Hunt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be usar la participación manteniendo niveles de “poca democracia”, sin provocar los riesgos de “mucha democracia”…es dec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currir a la gobernanza pero dentro de la gobernabil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El punto Huntingt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CD4-FC5E-4003-851F-335B46EFA1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Tendencia que promueve la disciplina ciudadana distinta a la del Estado de derecho: aquella que, basada en la dinámica social, (…) la construcción de poder ciudadano y la reconstrucción del Derecho y del Estado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3A1-7C8E-4C54-868D-CA2F2703C8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Gobernan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bernanz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pera según la lógica de la gobern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sde arrib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yor involucración civil, transparencia en polític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yor eficiencia est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uen gobier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mueve la modernización del Estado y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bernanz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 desprende del despliegue histórico del capital social en todas sus 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sde abaj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mueve la socialización del Estado y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peta a los derechos humanos que demandan construir socialmente la propia  re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DE4-9596-42CF-A06E-648AEC584B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istoriador chil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 inscribe en la historia social como rama historiográ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mio Nacional de Historia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91924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7D2-EB32-49C8-AD88-0ED1F724D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ación global entre Estado y Sociedad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aciones históricas (abiertas) entre aquellos (Régimen de Gobierno y Estado) y la sociedad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ertura del sistema jurídico del Estado hacia la historicidad más abierta de la sociedad.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*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Lo suficiente al menos para que no colapse por falta de acoplo a la sociedad civil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p.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FBF-EDCE-4856-A2B2-2ED81727CB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Permitir la participación ciudadana nos lleva por dos camino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edad &lt;-&gt;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2920" y="2349360"/>
            <a:ext cx="40388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edad que se reconcentra en sí misma, buscando desarrollarse y fortalec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CFF-F497-45A9-B24F-EDCBF3F640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Volviendo a Chi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3357720"/>
            <a:ext cx="843588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¿Pueden las políticas participativas del Estado neoliberal chileno resolver los problemas de pobreza y con otros con “mucha gobernabilidad” y “poca democracia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DF3-BAAA-40AD-AB7E-2BB4E1A2BA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stado &lt;-&gt;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éficit creciente de histor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rastre de legitim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 estabilidad del Estado deviene de un principio superior a todo plebiscito y a toda mayoría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ipo de argumentación que dejan a la Gobernanza I y II como productos meramente académ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A5F-A36A-4611-AFA8-432C40D4EF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 II po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recondiciones históricas y tendencia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Molécula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roformas de la Gobernanz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No se puede impulsar la democracia participativa si, al mismo tiempo, se impide toda posibilidad de reformar la Constitución y dar libre curso a la legítima transición ciudadana. </a:t>
            </a:r>
            <a:br>
              <a:rPr sz="3500"/>
            </a:br>
            <a:br>
              <a:rPr sz="3500"/>
            </a:b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No se puede hacer política resolviendo problemas de tránsito o delictuales e ignorando las relaciones histórico-estructurales entre el Estado + Mercado y la Sociedad Civil” </a:t>
            </a: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(p.20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FB3-953F-4E7C-9BD1-79B4544528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005000"/>
            <a:ext cx="77040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Disponible en:</a:t>
            </a:r>
            <a:br>
              <a:rPr sz="4000"/>
            </a:br>
            <a:r>
              <a:rPr b="0" lang="es-ES" sz="4000" spc="-1" strike="noStrike" u="sng">
                <a:solidFill>
                  <a:srgbClr val="ffffff"/>
                </a:solidFill>
                <a:uFillTx/>
                <a:latin typeface="Book Antiqua"/>
              </a:rPr>
              <a:t>http://youtu.be/HE_p5MUJ6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71640" y="1412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memoria y los movimiento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xposición realizada el 7 de Noviembre de 2011 en el Departamento de Geología, FCFM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Organizada por el equipo docente del curso Crónicas de Beauchef.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306828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094-B021-4D13-B6BE-1D5314461B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7005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participación ciudadan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28000" cy="52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91F-C5D4-4E73-8453-B733960A8D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Historia y P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 la concentración y la des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0D2-D072-4B52-B4AD-430E4E0E12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Los ciclos de Kondrati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524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B5C-7DCD-40B9-A999-F85FE4E199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4to ciclo de Kondrati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nsione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lemas im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lu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6D0-9A32-45D5-A050-E0E2A091BC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Fantasmas republican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94680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ola devol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Globalización y retorno al su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mpoderamiento y los nuevos movimientos cív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361-72D8-4BAE-87C5-CBAB068077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Fantasmas republican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l caso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El centralismo ha reducido al autonomismo local a una condición inocua y declamativa”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(p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La tendencia del proceso histórico central ha sido debilitar o destruir todos los indicadores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[de contexto] 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en el que puede prosperar el capital social ‘constante’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(p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849-6889-4491-A8EA-58DA04669A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450864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pital Social ‘Constante’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pital Social ‘Variable’ 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inergia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3EF-55E7-42C6-A25D-E15CC81EE8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5:45:38Z</dcterms:created>
  <dc:creator>valeska orellana</dc:creator>
  <dc:description/>
  <dc:language>en-US</dc:language>
  <cp:lastModifiedBy>valeska orellana</cp:lastModifiedBy>
  <dcterms:modified xsi:type="dcterms:W3CDTF">2012-01-19T07:46:30Z</dcterms:modified>
  <cp:revision>26</cp:revision>
  <dc:subject/>
  <dc:title>De la participación ciudadana: capital social constante y capital social variable Gabriel Salazar </dc:title>
</cp:coreProperties>
</file>