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AF0-5413-4D4F-ADCB-5380B4F3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DCB-5799-4EC2-BBCC-87D2AB1A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44A-CF69-4B1F-9C83-868995CF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DC8-4712-4E0E-A46A-77A56648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35E-1CEE-44E3-A74F-4E1EFAAA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DFF-CE0F-41E1-B76B-8C4F0EF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5AF-D748-4B25-B31A-FCCF98FA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80B-6270-4CB4-83A0-3036DF1F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C7F-EB73-4A43-AA54-19171035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9E1A-16D1-4AED-BAA3-F8923444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E68-604E-402C-8810-CD9204F4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40B-2517-4C46-9907-522971DE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7FA2-0DEF-4163-B293-C43D3ADD9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iniacure515@hotmail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997000"/>
            <a:ext cx="84582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De la participación ciudadana: </a:t>
            </a:r>
            <a:br>
              <a:rPr sz="4000"/>
            </a:b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apital social constante y capital social variable</a:t>
            </a:r>
            <a:br>
              <a:rPr sz="4000"/>
            </a:b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Gabriel Salazar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0544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esenta   : Valeska Orellan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: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ofesores: Ximena Cortez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Bernardo González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Fecha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011240" cy="172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3640" y="90792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inergia Lo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ergía social colectiva que se despliega y acumula de modo permanente, aprendiendo tanto de sus éxitos como de sus fracasos” (P.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DCF-4C0E-4569-BA83-0620A5DB89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20464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apital Social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55640" y="3573000"/>
            <a:ext cx="770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Alto sentido de autonom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Alta participación y empoderamient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apital Social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71611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ta si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rmite el uso inmed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 “para sobrevivi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 baja legalidad pero fuerte poder d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n Chil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 CSV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ayuda a explicar por qué plantear políticas normadas de participación  a una población formada por residuos de comunidad, sólo comporta frustración, rebote de proyectos y refracción de las políticas públicas”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9FA-504A-48A6-9073-CDF943BD79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275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participació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03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ursos contrapuestos sobr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280" y="2276280"/>
            <a:ext cx="39560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articipación para el BM es una cuestión de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mpresari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81560" y="2276640"/>
            <a:ext cx="4294080" cy="38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ticipación para el PNUD es una cuestión d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De la pobreza y la participació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5B1-AC55-40C0-BA3D-5C43EC4FE9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El punto Huntingt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- Democracia = + Gobernabilidad = + Estabilidad = - Par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+ Democracia = - Gobernabilidad = - Estabilidad = + Par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 ide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democracia óptima establece un subsistema electoral para elegir los representantes y un subsistema de negociación para resolver los conflictos públicos y privados. También permite y regula un subsistema de asociación privada entre ciudadanos”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82A-01A8-4E00-9E08-A53E68A338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tado chileno neoliberal al filo del punto Hunt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be usar la participación manteniendo niveles de “poca democracia”, sin provocar los riesgos de “mucha democracia”…es dec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currir a la gobernanza pero dentro de la gobernabil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El punto Huntingt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9D5-192C-4E8B-BE90-440843961B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Tendencia que promueve la disciplina ciudadana distinta a la del Estado de derecho: aquella que, basada en la dinámica social, (…) la construcción de poder ciudadano y la reconstrucción del Derecho y del Estado.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p.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BF6-A74F-4FF9-8D78-B973FD6FC5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Gobernan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bernanz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pera según la lógica de la gobern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sde arrib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yor involucración civil, transparencia en polític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yor eficiencia est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uen gobier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mueve la modernización del Estado y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bernanz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 desprende del despliegue histórico del capital social en todas sus 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sde abaj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omueve la socialización del Estado y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speta a los derechos humanos que demandan construir socialmente la propia  re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A43-44C5-46B6-9C03-73D8B75310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istoriador chil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 inscribe en la historia social como rama historiográ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270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mio Nacional de Historia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91924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0B1-27E1-46D6-A6B2-6DBCA965BD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ación global entre Estado y Sociedad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aciones históricas (abiertas) entre aquellos (Régimen de Gobierno y Estado) y la sociedad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ertura del sistema jurídico del Estado hacia la historicidad más abierta de la sociedad.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*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Lo suficiente al menos para que no colapse por falta de acoplo a la sociedad civil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(p.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EE8-3332-4EFC-BD4A-13DF34ECD3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Permitir la participación ciudadana nos lleva por dos camino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edad &lt;-&gt;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2920" y="2349360"/>
            <a:ext cx="40388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ciedad que se reconcentra en sí misma, buscando desarrollarse y fortalec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400-2297-44A7-B048-14F8433375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Volviendo a Chi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3357720"/>
            <a:ext cx="843588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¿Pueden las políticas participativas del Estado neoliberal chileno resolver los problemas de pobreza y con otros con “mucha gobernabilidad” y “poca democracia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BA3-897A-4CFE-ADCF-D1F739E6BA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stado &lt;-&gt;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éficit creciente de histor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rastre de legitim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 estabilidad del Estado deviene de un principio superior a todo plebiscito y a toda mayoría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ipo de argumentación que dejan a la Gobernanza I y II como productos meramente académ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393-94C4-4EF2-BD34-D894581289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Gobernanza II po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recondiciones históricas y tendencia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Moléculas estruc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Proformas de la Gobernanz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No se puede impulsar la democracia participativa si, al mismo tiempo, se impide toda posibilidad de reformar la Constitución y dar libre curso a la legítima transición ciudadana. </a:t>
            </a:r>
            <a:br>
              <a:rPr sz="3500"/>
            </a:br>
            <a:br>
              <a:rPr sz="3500"/>
            </a:br>
            <a:r>
              <a:rPr b="0" i="1" lang="en-US" sz="3500" spc="-1" strike="noStrike">
                <a:solidFill>
                  <a:srgbClr val="ffffff"/>
                </a:solidFill>
                <a:latin typeface="Book Antiqua"/>
              </a:rPr>
              <a:t>No se puede hacer política resolviendo problemas de tránsito o delictuales e ignorando las relaciones histórico-estructurales entre el Estado + Mercado y la Sociedad Civil” </a:t>
            </a:r>
            <a:r>
              <a:rPr b="0" lang="en-US" sz="3500" spc="-1" strike="noStrike">
                <a:solidFill>
                  <a:srgbClr val="ffffff"/>
                </a:solidFill>
                <a:latin typeface="Book Antiqua"/>
              </a:rPr>
              <a:t>(p.20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1CD-BAE8-4FC2-944D-CDA811EC62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005000"/>
            <a:ext cx="77040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Disponible en:</a:t>
            </a:r>
            <a:br>
              <a:rPr sz="4000"/>
            </a:br>
            <a:r>
              <a:rPr b="0" lang="es-ES" sz="4000" spc="-1" strike="noStrike" u="sng">
                <a:solidFill>
                  <a:srgbClr val="ffffff"/>
                </a:solidFill>
                <a:uFillTx/>
                <a:latin typeface="Book Antiqua"/>
              </a:rPr>
              <a:t>http://youtu.be/HE_p5MUJ6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71640" y="1412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memoria y los movimiento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xposición realizada el 7 de Noviembre de 2011 en el Departamento de Geología, FCFM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Organizada por el equipo docente del curso Crónicas de Beauchef.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306828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CE7-9977-4D7E-8F1B-8A0B2A1BBD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7005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participación ciudadan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28000" cy="52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92A-BD9A-4A77-B043-6385511594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Historia y P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 la concentración y la des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C90-A7EA-41D7-8050-C76DD70F69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Los ciclos de Kondrati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524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E9C-BEE3-4687-A7F7-00F6857ED4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4to ciclo de Kondrati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nsione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lemas im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lu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C44-40CE-4733-8CA4-D478225729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Fantasmas republican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94680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ola devol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Globalización y retorno al su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mpoderamiento y los nuevos movimientos cív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ACE-73E5-40FC-BA86-8A72F98E0A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¿Fantasmas republican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l caso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El centralismo ha reducido al autonomismo local a una condición inocua y declamativa”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(p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La tendencia del proceso histórico central ha sido debilitar o destruir todos los indicadores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[de contexto] 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en el que puede prosperar el capital social ‘constante’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(p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A94-074D-4A51-ACE5-C0206E3CA4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450864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pital Social ‘Constante’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pital Social ‘Variable’ 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inergia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leska Orellana M. - Verano, 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579-0970-437F-A6E0-A562494DBE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5:45:38Z</dcterms:created>
  <dc:creator>valeska orellana</dc:creator>
  <dc:description/>
  <dc:language>en-US</dc:language>
  <cp:lastModifiedBy>valeska orellana</cp:lastModifiedBy>
  <dcterms:modified xsi:type="dcterms:W3CDTF">2012-01-19T07:46:30Z</dcterms:modified>
  <cp:revision>26</cp:revision>
  <dc:subject/>
  <dc:title>De la participación ciudadana: capital social constante y capital social variable Gabriel Salazar </dc:title>
</cp:coreProperties>
</file>