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177-8EDA-4535-BCD8-28F83CC9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CCB-D170-4638-B6BC-CEFB8D70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B53-5FEC-48C0-9E2E-F3AEC9B1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196-4E59-47A1-A8DB-57256D0C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E0D-EB7A-45AF-A414-5E7EE406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4AC-9DA5-4BC1-BDFF-DD7917B8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794-15C1-4D80-AF45-A8321686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C4A-2777-408E-A759-3C27BFE0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4DB-769D-42AD-8445-CC677402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64C-BE8A-48A2-B0DD-B7595D6B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6FA-82ED-47E3-8B57-B7B3A2CB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A4B-E19D-4E91-AF3E-8DAFBC1E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E955-C95C-472A-80C0-98A4AEB3B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iniacure515@hotmail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997000"/>
            <a:ext cx="84582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De la participación ciudadana: 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apital social constante y capital social variable</a:t>
            </a:r>
            <a:br>
              <a:rPr sz="4000"/>
            </a:b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abriel Salazar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0544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: Valeska Orellan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Fecha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011240" cy="172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3640" y="90792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inergia Lo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ergía social colectiva que se despliega y acumula de modo permanente, aprendiendo tanto de sus éxitos como de sus fracasos” (P.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E5B-39E6-4CDF-9A97-EF6B54B8BC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20464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apital Social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55640" y="3573000"/>
            <a:ext cx="770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Alto sentido de autonom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Alta participación y empoderamient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apital Social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71611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ta si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mite el uso inmed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 “para sobrevivi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 baja legalidad pero fuerte poder d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n Chil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 CSV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ayuda a explicar por qué plantear políticas normadas de participación  a una población formada por residuos de comunidad, sólo comporta frustración, rebote de proyectos y refracción de las políticas públicas”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6E3-65A4-4202-A7DF-414B88C28D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275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particip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03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rsos contrapuestos sobr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280" y="2276280"/>
            <a:ext cx="39560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articipación para el BM es una cuestión de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mpresari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81560" y="2276640"/>
            <a:ext cx="4294080" cy="38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ticipación para el PNUD es una cuestión d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De la pobreza y la participació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6A3-D3E1-4E5D-A6C7-5C1EA02E7C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El punto Huntingt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- Democracia = + Gobernabilidad = + Estabilidad = - Par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+ Democracia = - Gobernabilidad = - Estabilidad = + Par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 ide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democracia óptima establece un subsistema electoral para elegir los representantes y un subsistema de negociación para resolver los conflictos públicos y privados. También permite y regula un subsistema de asociación privada entre ciudadanos”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F54-20BB-42A2-BEE4-7606E7D8B8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tado chileno neoliberal al filo del punto Hunt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be usar la participación manteniendo niveles de “poca democracia”, sin provocar los riesgos de “mucha democracia”…es dec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currir a la gobernanza pero dentro de la gobernabil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El punto Huntingt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C10-B6D7-4E32-8CCE-4BEC3D6E87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Tendencia que promueve la disciplina ciudadana distinta a la del Estado de derecho: aquella que, basada en la dinámica social, (…) la construcción de poder ciudadano y la reconstrucción del Derecho y del Estado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336-3F93-46A5-AF4C-CF3CE47533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Gobernan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bernanz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pera según la lógica de la gobern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sde arrib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or involucración civil, transparencia en polít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or eficiencia est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uen gobier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mueve la modernización del Estado y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bernanz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 desprende del despliegue histórico del capital social en todas sus 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sde abaj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mueve la socialización del Estado y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peta a los derechos humanos que demandan construir socialmente la propia  re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5CE-49BE-411E-AD92-CFFEB0AAF9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istoriador chil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 inscribe en la historia social como rama historiográ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mio Nacional de Historia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91924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E05-E170-4360-A429-C8EDA31ECF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ación global entre Estado y Sociedad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aciones históricas (abiertas) entre aquellos (Régimen de Gobierno y Estado) y la sociedad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ertura del sistema jurídico del Estado hacia la historicidad más abierta de la sociedad.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*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Lo suficiente al menos para que no colapse por falta de acoplo a la sociedad civil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p.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1A7-E2D7-405F-A74A-7444A6472D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Permitir la participación ciudadana nos lleva por dos camino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edad &lt;-&gt;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edad que se reconcentra en sí misma, buscando desarrollarse y fortalec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3B8-BF27-4C5A-9F42-6420CE5FCB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Volviendo a Chi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3357720"/>
            <a:ext cx="843588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¿Pueden las políticas participativas del Estado neoliberal chileno resolver los problemas de pobreza y con otros con “mucha gobernabilidad” y “poca democracia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1A1-7BE4-4821-AA52-B3DC78A24A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stado &lt;-&gt;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éficit creciente de histor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rastre de legitim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 estabilidad del Estado deviene de un principio superior a todo plebiscito y a toda mayorí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ipo de argumentación que dejan a la Gobernanza I y II como productos meramente académ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13D-D775-4573-B151-8B7E062BF4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 II po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recondiciones históricas y tendencia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Molécula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roformas de la Gobernanz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No se puede impulsar la democracia participativa si, al mismo tiempo, se impide toda posibilidad de reformar la Constitución y dar libre curso a la legítima transición ciudadana. </a:t>
            </a:r>
            <a:br>
              <a:rPr sz="3500"/>
            </a:br>
            <a:br>
              <a:rPr sz="3500"/>
            </a:b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No se puede hacer política resolviendo problemas de tránsito o delictuales e ignorando las relaciones histórico-estructurales entre el Estado + Mercado y la Sociedad Civil”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(p.20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706-073B-45E5-AAAF-0B096D9A77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040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Disponible en:</a:t>
            </a:r>
            <a:br>
              <a:rPr sz="4000"/>
            </a:br>
            <a:r>
              <a:rPr b="0" lang="es-ES" sz="4000" spc="-1" strike="noStrike" u="sng">
                <a:solidFill>
                  <a:srgbClr val="ffffff"/>
                </a:solidFill>
                <a:uFillTx/>
                <a:latin typeface="Book Antiqua"/>
              </a:rPr>
              <a:t>http://youtu.be/HE_p5MUJ6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memoria y los movimiento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xposición realizada el 7 de Noviembre de 2011 en el Departamento de Geología, FCFM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Organizada por el equipo docente del curso Crónicas de Beauchef.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306828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502-12B4-4290-B314-942CE8D5F8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7005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participación ciudadan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28000" cy="52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942-3589-408D-BEE7-49ECA011B7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Historia y P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 la concentración y la des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056-E4DF-4E80-800A-96F6AE8014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os ciclos de Kondrati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524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176-F478-456F-B6E5-E2CA764203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4to ciclo de Kondrati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nsione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lemas im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lu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D2C-6B7B-4001-BB0F-0F46260933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Fantasmas republican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94680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ola devol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Globalización y retorno al su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mpoderamiento y los nuevos movimientos cív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058-E6C8-4F19-94F9-D2EFD1BBF6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Fantasmas republican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l caso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El centralismo ha reducido al autonomismo local a una condición inocua y declamativa”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(p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La tendencia del proceso histórico central ha sido debilitar o destruir todos los indicadores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[de contexto]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en el que puede prosperar el capital social ‘constante’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(p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5D7-319F-4953-B451-C8E2CA7CB8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450864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pital Social ‘Constante’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pital Social ‘Variable’ 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inergia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D15-61CF-40C6-8BE9-252CA26E4F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5:45:38Z</dcterms:created>
  <dc:creator>valeska orellana</dc:creator>
  <dc:description/>
  <dc:language>en-US</dc:language>
  <cp:lastModifiedBy>valeska orellana</cp:lastModifiedBy>
  <dcterms:modified xsi:type="dcterms:W3CDTF">2012-01-19T07:46:30Z</dcterms:modified>
  <cp:revision>26</cp:revision>
  <dc:subject/>
  <dc:title>De la participación ciudadana: capital social constante y capital social variable Gabriel Salazar </dc:title>
</cp:coreProperties>
</file>