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AF0-527F-48AE-825D-94EE1E13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3CF-1168-4FC8-A647-096E09A0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1EF-9326-4299-B02E-370ED464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66C-2933-44E2-B5F4-AE3FBB14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3F3-9404-40ED-8C70-2319C451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AFA-EA31-4B2A-AA36-60D0EA51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CC6-EAF3-4323-A773-BC6792ED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849-48DD-452D-80FF-C4F2B19F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50E-4392-4733-94A5-C7692676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E61-2E71-4333-8D46-14DC5E7D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506-2FA3-45D0-AEC0-E99B2E19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46D-6049-4A42-9AD7-58E884B8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1C63-78FA-436B-8494-2130A54B94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89000"/>
          <a:ext cx="8964720" cy="6669000"/>
        </p:xfrm>
        <a:graphic>
          <a:graphicData uri="http://schemas.openxmlformats.org/drawingml/2006/table">
            <a:tbl>
              <a:tblPr/>
              <a:tblGrid>
                <a:gridCol w="1838160"/>
                <a:gridCol w="1252800"/>
                <a:gridCol w="1563480"/>
                <a:gridCol w="1943280"/>
                <a:gridCol w="539640"/>
                <a:gridCol w="419040"/>
                <a:gridCol w="284400"/>
                <a:gridCol w="279360"/>
                <a:gridCol w="279360"/>
                <a:gridCol w="282600"/>
                <a:gridCol w="282600"/>
              </a:tblGrid>
              <a:tr h="25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20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Observación a través de notas de 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 de 1º 2º y 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(1ºH,2ºC, 2ºD)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(1°K; J; 3°A;H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1°K; J; 3°A;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º A, 3º C y 3ª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ªA, 3ºC y 3ºI</a:t>
                      </a: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ocu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libro de clase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: anotaciones de los alumn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de los alumnos en Lenguaje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gistro gráf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g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o investig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ón de la vida estudiantil desde los alumnos daria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064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: dos alumno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ntes: dos profes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, Disciplina, Motivación, Infraestructura y 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/ 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es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ata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620640"/>
          <a:ext cx="8389800" cy="5904000"/>
        </p:xfrm>
        <a:graphic>
          <a:graphicData uri="http://schemas.openxmlformats.org/drawingml/2006/table">
            <a:tbl>
              <a:tblPr/>
              <a:tblGrid>
                <a:gridCol w="1494000"/>
                <a:gridCol w="1207440"/>
                <a:gridCol w="1506960"/>
                <a:gridCol w="1877400"/>
                <a:gridCol w="705600"/>
                <a:gridCol w="216000"/>
                <a:gridCol w="242640"/>
                <a:gridCol w="240840"/>
                <a:gridCol w="216000"/>
                <a:gridCol w="364320"/>
                <a:gridCol w="318600"/>
              </a:tblGrid>
              <a:tr h="414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 información recogida de las fu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ga de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3:48:59Z</dcterms:created>
  <dc:creator>Bustamante</dc:creator>
  <dc:description/>
  <dc:language>en-US</dc:language>
  <cp:lastModifiedBy>Bernardo González</cp:lastModifiedBy>
  <dcterms:modified xsi:type="dcterms:W3CDTF">2012-01-18T00:57:54Z</dcterms:modified>
  <cp:revision>12</cp:revision>
  <dc:subject/>
  <dc:title>Diapositiva 1</dc:title>
</cp:coreProperties>
</file>