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18E5-7AD9-41B6-8CE0-F6B13AF69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9E12-FD5A-4A99-89CA-A354E25C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F1CC-5B18-4C10-9263-945192C5D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D304-E4FB-413B-806B-150BCDB71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2F01-4C17-4B7F-8EBD-BDCCF6A3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0ECE-23D7-4AF6-BA69-B8CD183B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8409-DEA4-401B-A24B-C9F804D5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B799-63E0-45E2-A6D1-492E4A5B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BCE3-66EF-49AE-B7ED-54AA62DE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EA46-7644-4D9A-8865-9469F112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547D-AE4E-4B64-BF52-8324BA45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1B92-E468-4AD1-9755-D6B0C160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5D45-1258-4B03-9813-E14F40F3A9E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3109_74418814525_660349525_1554752_8221266_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6360" y="4428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6659640" y="2274840"/>
            <a:ext cx="576360" cy="4334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189000"/>
          <a:ext cx="8964720" cy="6669000"/>
        </p:xfrm>
        <a:graphic>
          <a:graphicData uri="http://schemas.openxmlformats.org/drawingml/2006/table">
            <a:tbl>
              <a:tblPr/>
              <a:tblGrid>
                <a:gridCol w="1838160"/>
                <a:gridCol w="1252800"/>
                <a:gridCol w="1563480"/>
                <a:gridCol w="1943280"/>
                <a:gridCol w="539640"/>
                <a:gridCol w="419040"/>
                <a:gridCol w="284400"/>
                <a:gridCol w="279360"/>
                <a:gridCol w="279360"/>
                <a:gridCol w="282600"/>
                <a:gridCol w="282600"/>
              </a:tblGrid>
              <a:tr h="25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Activ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Fuen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Tem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Responsab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May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Jun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Jul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42084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Observación a través de notas de camp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udiantes de 1º 2º y 3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c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 (1ºH,2ºC, 2ºD)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rge (1ºC, 1ºF y1º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cipl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colás (1°K; J; 3°A;H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alia (1°A; G; 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raestructu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colás 1°K; J; 3°A;H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rge (1ºC, 1ºF y1º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tiv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ulina 3º A, 3º C y 3ª 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ciones interperson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ulina 3ªA, 3ºC y 3ºI</a:t>
                      </a:r>
                      <a:r>
                        <a:rPr b="0" lang="pt-B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alia (1°A; G; 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84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Análisis de documen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 libro de clases por ni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ciplina: anotaciones de los alumno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8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ción de los alumnos en Lenguaje y 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Registro gráf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egi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raestructu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 /Jor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Elaboración de entrevis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co investigativ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sión de la vida estudiantil desde los alumnos darian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90648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Entrevis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udiantes: dos alumnos por ni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centes: dos profesor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ción, Disciplina, Motivación, Infraestructura y Relaciones interperson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rge/ Nat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 / Nicolá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ul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rge / Nicolá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feso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 / Natal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3109_74418814525_660349525_1554752_8221266_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6360" y="4428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6659640" y="2274840"/>
            <a:ext cx="576360" cy="4334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24000" y="620640"/>
          <a:ext cx="8389800" cy="5904000"/>
        </p:xfrm>
        <a:graphic>
          <a:graphicData uri="http://schemas.openxmlformats.org/drawingml/2006/table">
            <a:tbl>
              <a:tblPr/>
              <a:tblGrid>
                <a:gridCol w="1494000"/>
                <a:gridCol w="1207440"/>
                <a:gridCol w="1506960"/>
                <a:gridCol w="1877400"/>
                <a:gridCol w="705600"/>
                <a:gridCol w="216000"/>
                <a:gridCol w="242640"/>
                <a:gridCol w="240840"/>
                <a:gridCol w="216000"/>
                <a:gridCol w="364320"/>
                <a:gridCol w="318600"/>
              </a:tblGrid>
              <a:tr h="414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Activ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Fu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Responsab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May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Ju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Jul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12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Análisis de da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 información recogida de las fu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3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Elaboración de presen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is de la radiografía de la esc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2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Entrega de infor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is de la radiografía de la esc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3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Presen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ografía de la esc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23:48:59Z</dcterms:created>
  <dc:creator>Bustamante</dc:creator>
  <dc:description/>
  <dc:language>en-US</dc:language>
  <cp:lastModifiedBy>Bernardo González</cp:lastModifiedBy>
  <dcterms:modified xsi:type="dcterms:W3CDTF">2012-01-18T00:57:54Z</dcterms:modified>
  <cp:revision>12</cp:revision>
  <dc:subject/>
  <dc:title>Diapositiva 1</dc:title>
</cp:coreProperties>
</file>