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E05-E046-408E-B777-DF2371D3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E37-9266-4E0D-B190-E222BC82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02E-2C67-438F-A8BF-EAA150B7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770-09F6-4A92-B40A-2082BBDA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F6C-B6DA-46BE-9A2C-3AF81A99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964-A97F-4360-A68F-E3837160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72C-C221-435A-849E-902F8C3E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9D3-C412-4CD6-BC75-89428CDE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683-1572-4980-AA22-0448F2E6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D8A-95DF-4261-8947-6A7493F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452-DF98-4446-A9AF-99778C0C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9F2-2A9D-49CF-A5C0-40409523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5F0A-A942-4862-A220-7F0D88E05F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89000"/>
          <a:ext cx="8964720" cy="6669000"/>
        </p:xfrm>
        <a:graphic>
          <a:graphicData uri="http://schemas.openxmlformats.org/drawingml/2006/table">
            <a:tbl>
              <a:tblPr/>
              <a:tblGrid>
                <a:gridCol w="1838160"/>
                <a:gridCol w="1252800"/>
                <a:gridCol w="1563480"/>
                <a:gridCol w="1943280"/>
                <a:gridCol w="539640"/>
                <a:gridCol w="419040"/>
                <a:gridCol w="284400"/>
                <a:gridCol w="279360"/>
                <a:gridCol w="279360"/>
                <a:gridCol w="282600"/>
                <a:gridCol w="282600"/>
              </a:tblGrid>
              <a:tr h="25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2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06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4000"/>
                <a:gridCol w="1207440"/>
                <a:gridCol w="1506960"/>
                <a:gridCol w="1877400"/>
                <a:gridCol w="705600"/>
                <a:gridCol w="216000"/>
                <a:gridCol w="242640"/>
                <a:gridCol w="240840"/>
                <a:gridCol w="216000"/>
                <a:gridCol w="364320"/>
                <a:gridCol w="318600"/>
              </a:tblGrid>
              <a:tr h="41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18T00:57:54Z</dcterms:modified>
  <cp:revision>12</cp:revision>
  <dc:subject/>
  <dc:title>Diapositiva 1</dc:title>
</cp:coreProperties>
</file>