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9FA5-E9B3-4712-936B-F5A217CF4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27A8-372F-48AA-B09A-CE2CF5E1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231D-CBF4-40FD-AB2A-1DF5A1097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414D-F4F4-4138-B28C-420DEAF99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F3D4-981E-45C7-9255-CB89C82B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8973-C9DC-4CE8-9F9C-82D92251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54EB-94AC-4ECD-9FAF-BD0B5CA4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F09D-1E69-4A12-A76F-FBAA0B48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DCC2-37ED-45DF-A8E4-E973160A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8F16-4E9D-4418-94FA-8E973FED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3827-9C74-4C6E-B634-25191807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7E7D-5D32-417D-84D8-67D37B82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C316-6D27-43F6-8873-D1EE2B68119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3109_74418814525_660349525_1554752_8221266_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6360" y="4428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6659640" y="2274840"/>
            <a:ext cx="576360" cy="4334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189000"/>
          <a:ext cx="8964720" cy="6669000"/>
        </p:xfrm>
        <a:graphic>
          <a:graphicData uri="http://schemas.openxmlformats.org/drawingml/2006/table">
            <a:tbl>
              <a:tblPr/>
              <a:tblGrid>
                <a:gridCol w="1838160"/>
                <a:gridCol w="1252800"/>
                <a:gridCol w="1563480"/>
                <a:gridCol w="1943280"/>
                <a:gridCol w="539640"/>
                <a:gridCol w="419040"/>
                <a:gridCol w="284400"/>
                <a:gridCol w="279360"/>
                <a:gridCol w="279360"/>
                <a:gridCol w="282600"/>
                <a:gridCol w="282600"/>
              </a:tblGrid>
              <a:tr h="25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ctiv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Fuen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Tem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Responsab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May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n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l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42084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Observación a través de notas de camp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udiantes de 1º 2º y 3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(1ºH,2ºC, 2ºD)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 (1ºC, 1ºF y1º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cipl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colás (1°K; J; 3°A;H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alia (1°A; G; 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estructu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colás 1°K; J; 3°A;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 (1ºC, 1ºF y1º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tiv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ulina 3º A, 3º C y 3ª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ciones interperson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ulina 3ªA, 3ºC y 3ºI</a:t>
                      </a:r>
                      <a:r>
                        <a:rPr b="0" lang="pt-B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alia (1°A; G; 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84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nálisis de documen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 libro de clases por ni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ciplina: anotaciones de los alumn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8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 de los alumnos en Lenguaje y 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Registro gráf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egi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estructu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/Jor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laboración de entrevis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co investigativ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sión de la vida estudiantil desde los alumnos darian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90648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ntrevis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udiantes: dos alumnos por ni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centes: dos profesor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, Disciplina, Motivación, Infraestructura y Relaciones interperson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/ Nat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/ Nicolá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ul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 / Nicolá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feso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/ Natal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3109_74418814525_660349525_1554752_8221266_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6360" y="4428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6659640" y="2274840"/>
            <a:ext cx="576360" cy="4334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24000" y="620640"/>
          <a:ext cx="8389800" cy="5904000"/>
        </p:xfrm>
        <a:graphic>
          <a:graphicData uri="http://schemas.openxmlformats.org/drawingml/2006/table">
            <a:tbl>
              <a:tblPr/>
              <a:tblGrid>
                <a:gridCol w="1494000"/>
                <a:gridCol w="1207440"/>
                <a:gridCol w="1506960"/>
                <a:gridCol w="1877400"/>
                <a:gridCol w="705600"/>
                <a:gridCol w="216000"/>
                <a:gridCol w="242640"/>
                <a:gridCol w="240840"/>
                <a:gridCol w="216000"/>
                <a:gridCol w="364320"/>
                <a:gridCol w="318600"/>
              </a:tblGrid>
              <a:tr h="414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ctiv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Fu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Responsab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May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l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12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nálisis de da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 información recogida de las fu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3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laboración de pres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is de la radiografía de la esc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2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ntrega de infor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is de la radiografía de la esc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3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Pres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ografía de la esc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23:48:59Z</dcterms:created>
  <dc:creator>Bustamante</dc:creator>
  <dc:description/>
  <dc:language>en-US</dc:language>
  <cp:lastModifiedBy>Bernardo González</cp:lastModifiedBy>
  <dcterms:modified xsi:type="dcterms:W3CDTF">2012-01-18T00:57:54Z</dcterms:modified>
  <cp:revision>12</cp:revision>
  <dc:subject/>
  <dc:title>Diapositiva 1</dc:title>
</cp:coreProperties>
</file>