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1A7-3BE4-4376-962D-0983B640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573-D270-4A08-A809-977748B1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AF2B-70FB-45FF-8DFA-D0F9A453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730-761E-408A-BF9C-F656C33C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2B75-C4A9-4FED-A29A-1AD4E613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BCC-EC86-402D-89D1-9F918513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8875-EF9E-4332-97B0-59D1AB32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654-3E92-4884-A404-3664D03B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5E3-6ED3-4836-AA8A-A20A151F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897-3B5B-4D72-950E-F4E150FD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1BD2-B65D-4D35-982B-3DF241EF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4EC-AE62-4959-BEDB-8123D50F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32A7-5BA6-4DFD-BE24-3B2639550C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89000"/>
          <a:ext cx="8964720" cy="6669000"/>
        </p:xfrm>
        <a:graphic>
          <a:graphicData uri="http://schemas.openxmlformats.org/drawingml/2006/table">
            <a:tbl>
              <a:tblPr/>
              <a:tblGrid>
                <a:gridCol w="1838160"/>
                <a:gridCol w="1252800"/>
                <a:gridCol w="1563480"/>
                <a:gridCol w="1943280"/>
                <a:gridCol w="539640"/>
                <a:gridCol w="419040"/>
                <a:gridCol w="284400"/>
                <a:gridCol w="279360"/>
                <a:gridCol w="279360"/>
                <a:gridCol w="282600"/>
                <a:gridCol w="282600"/>
              </a:tblGrid>
              <a:tr h="25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2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06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4000"/>
                <a:gridCol w="1207440"/>
                <a:gridCol w="1506960"/>
                <a:gridCol w="1877400"/>
                <a:gridCol w="705600"/>
                <a:gridCol w="216000"/>
                <a:gridCol w="242640"/>
                <a:gridCol w="240840"/>
                <a:gridCol w="216000"/>
                <a:gridCol w="364320"/>
                <a:gridCol w="318600"/>
              </a:tblGrid>
              <a:tr h="414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18T00:57:54Z</dcterms:modified>
  <cp:revision>12</cp:revision>
  <dc:subject/>
  <dc:title>Diapositiva 1</dc:title>
</cp:coreProperties>
</file>