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898-3E53-49AC-B61C-3BCCBC4B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7BB1-30F8-4BB6-B38C-53BCC15F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2A3-4CBC-4D4E-9B61-D8761F05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66E-926A-4A33-9727-2A9E8B1D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1BD-A394-4A44-8C6C-46224BA0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D8B6-8D54-41D0-8296-7C5E3D12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4F6-0AC0-4FD3-8694-8117AA60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B1A-FA0F-4A52-92B1-44C22F9A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885F-77D4-46BA-9928-D7AE5EE8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2A27-9289-4A76-B7F9-539F0471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BF0-3790-49BF-8CD7-53FC7321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4A75-C80B-4038-93C8-79B3D5FD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48D8-6BA2-4057-8C58-1E2D6742CD7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189000"/>
          <a:ext cx="8964720" cy="6669000"/>
        </p:xfrm>
        <a:graphic>
          <a:graphicData uri="http://schemas.openxmlformats.org/drawingml/2006/table">
            <a:tbl>
              <a:tblPr/>
              <a:tblGrid>
                <a:gridCol w="1838160"/>
                <a:gridCol w="1252800"/>
                <a:gridCol w="1563480"/>
                <a:gridCol w="1943280"/>
                <a:gridCol w="539640"/>
                <a:gridCol w="419040"/>
                <a:gridCol w="284400"/>
                <a:gridCol w="279360"/>
                <a:gridCol w="279360"/>
                <a:gridCol w="282600"/>
                <a:gridCol w="282600"/>
              </a:tblGrid>
              <a:tr h="25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20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Observación a través de notas de cam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 de 1º 2º y 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(1ºH,2ºC, 2ºD)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(1°K; J; 3°A;H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1°K; J; 3°A;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i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º A, 3º C y 3ª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ªA, 3ºC y 3ºI</a:t>
                      </a: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ocume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libro de clase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: anotaciones de los alumn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de los alumnos en Lenguaje y 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gistro gráf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g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Jo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co investig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ión de la vida estudiantil desde los alumnos daria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064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: dos alumno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entes: dos profesor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, Disciplina, Motivación, Infraestructura y 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/ 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es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atal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620640"/>
          <a:ext cx="8389800" cy="5904000"/>
        </p:xfrm>
        <a:graphic>
          <a:graphicData uri="http://schemas.openxmlformats.org/drawingml/2006/table">
            <a:tbl>
              <a:tblPr/>
              <a:tblGrid>
                <a:gridCol w="1494000"/>
                <a:gridCol w="1207440"/>
                <a:gridCol w="1506960"/>
                <a:gridCol w="1877400"/>
                <a:gridCol w="705600"/>
                <a:gridCol w="216000"/>
                <a:gridCol w="242640"/>
                <a:gridCol w="240840"/>
                <a:gridCol w="216000"/>
                <a:gridCol w="364320"/>
                <a:gridCol w="318600"/>
              </a:tblGrid>
              <a:tr h="414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 información recogida de las fu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ga de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23:48:59Z</dcterms:created>
  <dc:creator>Bustamante</dc:creator>
  <dc:description/>
  <dc:language>en-US</dc:language>
  <cp:lastModifiedBy>Bernardo González</cp:lastModifiedBy>
  <dcterms:modified xsi:type="dcterms:W3CDTF">2012-01-18T00:57:54Z</dcterms:modified>
  <cp:revision>12</cp:revision>
  <dc:subject/>
  <dc:title>Diapositiva 1</dc:title>
</cp:coreProperties>
</file>