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3E2B-CC27-42A8-9966-AA87733B6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FEF69-0BA2-40E6-AB98-5892DE9D5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736A-9166-41DF-9D33-3D17836C9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F3EEE-A843-46FC-8468-C993BAA63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C056-C092-40A5-9A1E-6E39D32F9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0804-C500-4FD2-AB76-2A8F16DF5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7E34-8E71-4878-94B4-5918258EC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C250-22DB-4F63-85B6-8BCF1F41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A4B6-9EC4-46A7-BD5C-EE34B59D4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8192-42AE-49F6-A1E3-50017C40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BF3A-2BC7-4A28-9627-C0F6EDCC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3693-9557-4DB6-B28F-181C6243B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7F6B8-8762-4582-8DFC-C130A3FBE6C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3109_74418814525_660349525_1554752_8221266_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6360" y="4428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5"/>
          <p:cNvSpPr/>
          <p:nvPr/>
        </p:nvSpPr>
        <p:spPr>
          <a:xfrm>
            <a:off x="6659640" y="2274840"/>
            <a:ext cx="576360" cy="4334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0" y="189000"/>
          <a:ext cx="8964720" cy="6669000"/>
        </p:xfrm>
        <a:graphic>
          <a:graphicData uri="http://schemas.openxmlformats.org/drawingml/2006/table">
            <a:tbl>
              <a:tblPr/>
              <a:tblGrid>
                <a:gridCol w="1838160"/>
                <a:gridCol w="1252800"/>
                <a:gridCol w="1563480"/>
                <a:gridCol w="1943280"/>
                <a:gridCol w="539640"/>
                <a:gridCol w="419040"/>
                <a:gridCol w="284400"/>
                <a:gridCol w="279360"/>
                <a:gridCol w="279360"/>
                <a:gridCol w="282600"/>
                <a:gridCol w="282600"/>
              </a:tblGrid>
              <a:tr h="2588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ctivida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Fuen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Tem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Responsab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May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n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l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42084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Observación a través de notas de camp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udiantes de 1º 2º y 3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(1ºH,2ºC, 2ºD)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 (1ºC, 1ºF y1º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cipl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colás (1°K; J; 3°A;H)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alia (1°A; G; 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0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estructu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icolás 1°K; J; 3°A;H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 (1ºC, 1ºF y1º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tivació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ulina 3º A, 3º C y 3ª 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42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ciones interperson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ulina 3ªA, 3ºC y 3ºI</a:t>
                      </a:r>
                      <a:r>
                        <a:rPr b="0" lang="pt-B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000" spc="-1" strike="noStrike">
                          <a:solidFill>
                            <a:srgbClr val="ff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pt-BR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alia (1°A; G; J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8428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nálisis de document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n libro de clases por ni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sciplina: anotaciones de los alumno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at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8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 de los alumnos en Lenguaje y Matemátic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Registro gráfic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egi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raestructu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/Jor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laboración de entrevis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oco investigativ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sión de la vida estudiantil desde los alumnos darian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90648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ntrevista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udiantes: dos alumnos por niv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centes: dos profesore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valuación, Disciplina, Motivación, Infraestructura y Relaciones interpersona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/ Natal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/ Nicolá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auli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º medi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rge / Nicolá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25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fesor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lza / Natalia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3109_74418814525_660349525_1554752_8221266_n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-36360" y="4428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5"/>
          <p:cNvSpPr/>
          <p:nvPr/>
        </p:nvSpPr>
        <p:spPr>
          <a:xfrm>
            <a:off x="6659640" y="2274840"/>
            <a:ext cx="576360" cy="433440"/>
          </a:xfrm>
          <a:prstGeom prst="rect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24000" y="620640"/>
          <a:ext cx="8389800" cy="5904000"/>
        </p:xfrm>
        <a:graphic>
          <a:graphicData uri="http://schemas.openxmlformats.org/drawingml/2006/table">
            <a:tbl>
              <a:tblPr/>
              <a:tblGrid>
                <a:gridCol w="1494000"/>
                <a:gridCol w="1207440"/>
                <a:gridCol w="1506960"/>
                <a:gridCol w="1877400"/>
                <a:gridCol w="705600"/>
                <a:gridCol w="216000"/>
                <a:gridCol w="242640"/>
                <a:gridCol w="240840"/>
                <a:gridCol w="216000"/>
                <a:gridCol w="364320"/>
                <a:gridCol w="318600"/>
              </a:tblGrid>
              <a:tr h="4143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ctivida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Fu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Te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Responsab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May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n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Jul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  <a:tr h="129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Análisis de da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 información recogida de las fu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3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laboración de pres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is de la radiografía de la esc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22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Entrega de inform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is de la radiografía de la esc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</a:tr>
              <a:tr h="130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75f59"/>
                          </a:solidFill>
                          <a:latin typeface="Arial"/>
                          <a:ea typeface="Times New Roman"/>
                        </a:rPr>
                        <a:t>Present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d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diografía de la escue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quipo de práct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09440"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5T23:48:59Z</dcterms:created>
  <dc:creator>Bustamante</dc:creator>
  <dc:description/>
  <dc:language>en-US</dc:language>
  <cp:lastModifiedBy>Bernardo González</cp:lastModifiedBy>
  <dcterms:modified xsi:type="dcterms:W3CDTF">2012-01-18T00:57:54Z</dcterms:modified>
  <cp:revision>12</cp:revision>
  <dc:subject/>
  <dc:title>Diapositiva 1</dc:title>
</cp:coreProperties>
</file>