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8D47-47BE-4536-A37E-3090BAAA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205-0E48-49D3-848B-C7B401E2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C348-8A61-4F9F-B58E-43621315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EA7-75E6-4707-A82B-74B85966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74BA9-E28E-4DC6-8911-C5C0E09B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2E6B0-86C1-43EE-90CD-4B0332EC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7549D-3F3B-4A4E-AE7B-EC506DC9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15F8C-19DD-4ED5-BD6F-AC5B4A62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7548E-9C79-4462-9720-BA2A6705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FF1A7-D81B-4D73-A92C-5673AF41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A8623-12A1-4038-9B7A-3D9A5F8A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34C-3997-4D70-9C1B-B191078C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539E8-632C-4362-A0FE-69B41B73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E2407-9994-4127-95A9-8094A80C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8471B-8F43-4BF7-B428-F9A293D0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58C81-487F-4DAF-926A-114A8509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7B851-0B64-4A58-9E16-CDE2824B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17A-7CA4-4230-8DE1-A1252224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5293-90F9-4C25-A5A2-96E26EE5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D96-FB2F-4C72-9496-C03B28A2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B96-0F31-4068-960C-7BD2F1FC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2DB-FC0E-4E57-A603-672B820F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3D26-F49D-473E-8CF5-CC3BE389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AFE6-F007-4082-8D2E-ABC8CA21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B958-B5C6-4FC0-B22F-A174C342A3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D735-8794-4379-A861-D5ED54F4C5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3e3ff"/>
                </a:solidFill>
                <a:latin typeface="Verdana"/>
              </a:rPr>
              <a:t>Elaboración </a:t>
            </a:r>
            <a:br>
              <a:rPr sz="4000"/>
            </a:br>
            <a:r>
              <a:rPr b="1" i="1" lang="en-US" sz="4000" spc="-1" strike="noStrike">
                <a:solidFill>
                  <a:srgbClr val="e3e3ff"/>
                </a:solidFill>
                <a:latin typeface="Verdana"/>
              </a:rPr>
              <a:t>de un</a:t>
            </a:r>
            <a:br>
              <a:rPr sz="4000"/>
            </a:br>
            <a:r>
              <a:rPr b="1" i="1" lang="en-US" sz="4000" spc="-1" strike="noStrike">
                <a:solidFill>
                  <a:srgbClr val="e3e3ff"/>
                </a:solidFill>
                <a:latin typeface="Verdana"/>
              </a:rPr>
              <a:t>Proyecto de Investigació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TEMA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Se trata del tema, en general, que nos interesa investigar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Problema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Es la razón de ser del proyecto, lo que se desea resolver, donde es posible aproximar una posible respuesta. Se plantea en términos de pregunta o como una descripción muy clara de la situación. Tiene que ser claro, preciso y delimitado.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Título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Describe de qué se trata el proyecto. Debe ser conciso, atractivo y representativo de lo que se pretende realizar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Justificación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Define el porqué se realizará el proyecto, qué razones justifican su realización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Marco Teórico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Perspectiva de análisis desde la cual me aproximo a la problemática investigada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Metodología 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Consiste en una descripción de los métodos y herramientas que se utilizarán y considera, además, la descripción de las etapas del proyecto, los procedimientos e instrumentos a emplear.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Objetivos Generales y Específicos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Tienen que ser explícitos, claros, realistas y centrados en el proyecto.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Hipótesis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Proposición que tiene como finalidad llegar a la comprensión del problema abordado.</a:t>
            </a: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Plan de Trabajo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Explicita la relación entre los objetivos y las actividades de acuerdo con el tiempo estipulado. Incluye aspectos tales como objetivos específicos, metas, etapas y actividades; la idea es que exista una relación armónica entre estos componentes. Es importante que el plan de trabajo quede reflejado en un cronograma o calendarización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3e3ff"/>
                </a:solidFill>
                <a:uFillTx/>
                <a:latin typeface="Verdana"/>
              </a:rPr>
              <a:t>FUENT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Primaria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Aquello que nos entregue información “no interpretada”, sobre lo que vamos a investigar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Secundaria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todo lo que ya se haya escrito acerca del tema de investigación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Discusión bibliográfica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Mostrar, lo más ampliamente posible, qué se ha escrito respecto de nuestro problema de investigación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Recursos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En esta etapa de Diseño deben quedar claramente identificados tanto los recursos humanos como materiales -disponibles y/o requeridos- para la ejecución del proyecto. 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Responsabilidades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Se enuncian las responsabilidades de cada uno de los integrantes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Resultados Esperados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Todo proyecto debe precisar claramente cuáles serán los logros concretos que se pretende alcanzar: ¿qué se espera lograr? ¿productos? ¿documentos?, etc.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0:52:34Z</dcterms:created>
  <dc:creator>Ximena Cortez</dc:creator>
  <dc:description/>
  <dc:language>en-US</dc:language>
  <cp:lastModifiedBy>Xiber</cp:lastModifiedBy>
  <dcterms:modified xsi:type="dcterms:W3CDTF">2007-10-04T11:48:50Z</dcterms:modified>
  <cp:revision>8</cp:revision>
  <dc:subject/>
  <dc:title>Elaboración  de un Proyecto de Investigación</dc:title>
</cp:coreProperties>
</file>