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BFB-AC31-4908-A52B-29E13831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071-612E-489F-B57A-C2CD6735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703-1F92-46E7-9865-ED750DFF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0DD-8485-4B05-8386-3FDFC673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2211A-89F4-46B2-882A-FC7E3FB0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02A89-52F3-4C3D-BD4A-1FA97522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F5F45-95D2-4639-BE5C-B01C1FA7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CBEF7-ED1D-432C-8D65-F9D467B2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55889-B5E4-46ED-8AB9-A3B9C18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814A7-12B0-425E-8740-2B171CD6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F6EA7-0FB9-45C0-A1A0-1C52C267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A56-621C-44ED-A695-843B96B7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84842-0370-4223-A6A4-A9643E7C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A612E-BE9E-448B-924D-E4577A33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8918B-F908-4638-9589-8B3701F8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79D25-1589-4B48-BD22-28F4CC97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BE178-E093-43E3-B81D-04E5CF53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247-7358-459C-90E8-B8BFC3C7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B5B-D360-4829-8185-BF8C8122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5CE-7505-4607-B99C-09B394E8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F75-9542-4D6C-8158-7AC6C1C9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156-B749-4CFA-A582-9D8DCC93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B9F-DEE6-4EE7-9858-86003D3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30A-1206-402A-A126-9CBA336E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BB61-FE63-470A-9205-8606453835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4D92-3D9F-402D-96A2-8A9A4C6D7C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Elaboración </a:t>
            </a:r>
            <a:br>
              <a:rPr sz="4000"/>
            </a:b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de un</a:t>
            </a:r>
            <a:br>
              <a:rPr sz="4000"/>
            </a:b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Proyecto de Investigació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TEM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Se trata del tema, en general, que nos interesa investig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roblem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s la razón de ser del proyecto, lo que se desea resolver, donde es posible aproximar una posible respuesta. Se plantea en términos de pregunta o como una descripción muy clara de la situación. Tiene que ser claro, preciso y delimitado.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Título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Describe de qué se trata el proyecto. Debe ser conciso, atractivo y representativo de lo que se pretende realiz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Justificación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Define el porqué se realizará el proyecto, qué razones justifican su realiz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Marco Teórico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Perspectiva de análisis desde la cual me aproximo a la problemática investigada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Metodología 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Consiste en una descripción de los métodos y herramientas que se utilizarán y considera, además, la descripción de las etapas del proyecto, los procedimientos e instrumentos a emplear.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Objetivos Generales y Específico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ienen que ser explícitos, claros, realistas y centrados en el proyecto.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Hipótesi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Proposición que tiene como finalidad llegar a la comprensión del problema abordado.</a:t>
            </a: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lan de Trabajo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xplicita la relación entre los objetivos y las actividades de acuerdo con el tiempo estipulado. Incluye aspectos tales como objetivos específicos, metas, etapas y actividades; la idea es que exista una relación armónica entre estos componentes. Es importante que el plan de trabajo quede reflejado en un cronograma o calendariz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3e3ff"/>
                </a:solidFill>
                <a:uFillTx/>
                <a:latin typeface="Verdana"/>
              </a:rPr>
              <a:t>FUENT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rimari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Aquello que nos entregue información “no interpretada”, sobre lo que vamos a investig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Secundari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odo lo que ya se haya escrito acerca del tema de investig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Discusión bibliográfic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Mostrar, lo más ampliamente posible, qué se ha escrito respecto de nuestro problema de investigación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curso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n esta etapa de Diseño deben quedar claramente identificados tanto los recursos humanos como materiales -disponibles y/o requeridos- para la ejecución del proyecto. 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sponsabilidade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Se enuncian las responsabilidades de cada uno de los integrantes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sultados Esperado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odo proyecto debe precisar claramente cuáles serán los logros concretos que se pretende alcanzar: ¿qué se espera lograr? ¿productos? ¿documentos?, etc.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0:52:34Z</dcterms:created>
  <dc:creator>Ximena Cortez</dc:creator>
  <dc:description/>
  <dc:language>en-US</dc:language>
  <cp:lastModifiedBy>Xiber</cp:lastModifiedBy>
  <dcterms:modified xsi:type="dcterms:W3CDTF">2007-10-04T11:48:50Z</dcterms:modified>
  <cp:revision>8</cp:revision>
  <dc:subject/>
  <dc:title>Elaboración  de un Proyecto de Investigación</dc:title>
</cp:coreProperties>
</file>