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620-B196-4471-B87D-6619C071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9BD-19EB-4A82-BB2E-FE13A3C7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233-1CAD-4344-918C-B5609559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E40-072F-4E56-841C-D98A0894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26627-6CB8-4F5A-AC01-38B4B117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4CA2F-4A9A-4E6D-9F46-868716F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5377F-1B3A-414C-8816-49652F21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BAE46-E333-4DA0-8D90-C582FF0B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86690-A8D8-4BE3-8B4E-47D72761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8DA13-9DB6-4DD4-BAD4-9ECDD1C6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95C37-E6A0-49D3-A949-88D00DD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38F-37B9-4B0A-AE8A-00CEE1B4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CFCD6-A3BC-4485-86E3-E4CBD583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58CFB-B3F9-4253-A66D-6D9FCB94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7E632-7F16-45F6-BB2F-E424E45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DEBDC-A606-4152-8141-7C3A6D40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61B9A-89F4-4241-AD75-A56C6B6B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22E-CE1A-4FC7-BE56-7D565EF7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C2B-4748-46DC-9E46-60942FC2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04D-3A9D-404C-AAC9-CE13A3D3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2CB-F06A-422C-AC72-46D17671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82E-BC72-4FAA-91B6-14E63BD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187-2014-45BE-8C3F-952C0ED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5E7-D9FA-4C32-9D38-8ED79664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8E0C-3330-4417-9064-3F45011DDA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3BA-868D-4C72-849B-4E4C7DD23E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Elaboración </a:t>
            </a:r>
            <a:br>
              <a:rPr sz="4000"/>
            </a:b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de un</a:t>
            </a:r>
            <a:br>
              <a:rPr sz="4000"/>
            </a:br>
            <a:r>
              <a:rPr b="1" i="1" lang="en-US" sz="4000" spc="-1" strike="noStrike">
                <a:solidFill>
                  <a:srgbClr val="e3e3ff"/>
                </a:solidFill>
                <a:latin typeface="Verdana"/>
              </a:rPr>
              <a:t>Proyecto de Investig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TEM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Se trata del tema, en general, que nos interesa investig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roblem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s la razón de ser del proyecto, lo que se desea resolver, donde es posible aproximar una posible respuesta. Se plantea en términos de pregunta o como una descripción muy clara de la situación. Tiene que ser claro, preciso y delimitado.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Título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Describe de qué se trata el proyecto. Debe ser conciso, atractivo y representativo de lo que se pretende realiz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Justificación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Define el porqué se realizará el proyecto, qué razones justifican su realiz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Marco Teórico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Perspectiva de análisis desde la cual me aproximo a la problemática investigada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Metodología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Consiste en una descripción de los métodos y herramientas que se utilizarán y considera, además, la descripción de las etapas del proyecto, los procedimientos e instrumentos a emplear.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Objetivos Generales y Específico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ienen que ser explícitos, claros, realistas y centrados en el proyecto.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Hipótesi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Proposición que tiene como finalidad llegar a la comprensión del problema abordado.</a:t>
            </a: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lan de Trabajo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xplicita la relación entre los objetivos y las actividades de acuerdo con el tiempo estipulado. Incluye aspectos tales como objetivos específicos, metas, etapas y actividades; la idea es que exista una relación armónica entre estos componentes. Es importante que el plan de trabajo quede reflejado en un cronograma o calendariz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3e3ff"/>
                </a:solidFill>
                <a:uFillTx/>
                <a:latin typeface="Verdana"/>
              </a:rPr>
              <a:t>FUENT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Primari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Aquello que nos entregue información “no interpretada”, sobre lo que vamos a investiga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Secundari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odo lo que ya se haya escrito acerca del tema de investigación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Discusión bibliográfica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Mostrar, lo más ampliamente posible, qué se ha escrito respecto de nuestro problema de investigación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curso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En esta etapa de Diseño deben quedar claramente identificados tanto los recursos humanos como materiales -disponibles y/o requeridos- para la ejecución del proyecto. 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sponsabilidade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Se enuncian las responsabilidades de cada uno de los integrantes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Verdana"/>
              </a:rPr>
              <a:t>Resultados Esperado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Verdana"/>
              </a:rPr>
              <a:t>Todo proyecto debe precisar claramente cuáles serán los logros concretos que se pretende alcanzar: ¿qué se espera lograr? ¿productos? ¿documentos?, etc.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0:52:34Z</dcterms:created>
  <dc:creator>Ximena Cortez</dc:creator>
  <dc:description/>
  <dc:language>en-US</dc:language>
  <cp:lastModifiedBy>Xiber</cp:lastModifiedBy>
  <dcterms:modified xsi:type="dcterms:W3CDTF">2007-10-04T11:48:50Z</dcterms:modified>
  <cp:revision>8</cp:revision>
  <dc:subject/>
  <dc:title>Elaboración  de un Proyecto de Investigación</dc:title>
</cp:coreProperties>
</file>