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699-95E4-4B0C-8DCF-A536285D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10E-287B-41A8-99AA-27D6278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0EB-3B28-4BE1-AE69-80BA4F56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820-7DF9-4EA4-996D-A9A4AEEB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4D95C-E5FB-44E0-9DE8-6C149C76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A783-C0B0-41F4-A6CE-813125B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989E-4CD6-4E67-B63E-2BED90D0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9405B-328F-43B0-A7F9-E5430E1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E3858-9423-4B26-82D6-7D303A3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6775-E25B-4083-BED4-5A43CFEC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B814A-E545-4B7C-A920-9BF0BCF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635-4D68-4579-B9E2-6D284F1D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783F4-9C21-43B3-BD2A-1469CCB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BD2B4-84EB-41C4-83C5-9D0E09C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E3B9F-3959-479C-A02E-09E7B444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4F434-6F27-4332-97C8-C0C2314B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A8D0-701B-4297-934B-E8DDF04A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386-87BB-4F90-84A3-8FE8420D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F0D-20AF-4E2F-B956-2B65AC1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4E4-0733-4D40-8985-B8D8D364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80C-00BF-4CA1-9217-DCA11243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ADE-3A0E-41AD-A844-F2CF5B67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C0A-8153-4A5C-8384-33EC8432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F94-D85E-43B4-9846-1CA8104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BC5-E09A-4F52-B600-022B7F49B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313-F107-4F1D-BFB9-519FFC9CA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Elaboración 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de un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Proyecto de Investig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trata del tema, en general, que nos interes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obl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s la razón de ser del proyecto, lo que se desea resolver, donde es posible aproximar una posible respuesta. Se plantea en términos de pregunta o como una descripción muy clara de la situación. Tiene que ser claro, preciso y delimitado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ítul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scribe de qué se trata el proyecto. Debe ser conciso, atractivo y representativo de lo que se pretende realiz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Justificación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fine el porqué se realizará el proyecto, qué razones justifican su real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arco Teórico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erspectiva de análisis desde la cual me aproximo a la problemática investigada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etodología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Consiste en una descripción de los métodos y herramientas que se utilizarán y considera, además, la descripción de las etapas del proyecto, los procedimientos e instrumentos a emplear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Objetivos Generales y Específico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ienen que ser explícitos, claros, realistas y centrados en el proyecto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Hipótesi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roposición que tiene como finalidad llegar a la comprensión del problema abordado.</a:t>
            </a: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lan de Trabaj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xplicita la relación entre los objetivos y las actividades de acuerdo con el tiempo estipulado. Incluye aspectos tales como objetivos específicos, metas, etapas y actividades; la idea es que exista una relación armónica entre estos componentes. Es importante que el plan de trabajo quede reflejado en un cronograma o calendar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3e3ff"/>
                </a:solidFill>
                <a:uFillTx/>
                <a:latin typeface="Verdana"/>
              </a:rPr>
              <a:t>FUEN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im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Aquello que nos entregue información “no interpretada”, sobre lo que vamos 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Secund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lo que ya se haya escrito acerca del tema de investig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Discusión bibliográfic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Mostrar, lo más ampliamente posible, qué se ha escrito respecto de nuestro problema de investigació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curs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n esta etapa de Diseño deben quedar claramente identificados tanto los recursos humanos como materiales -disponibles y/o requeridos- para la ejecución del proyecto. 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ponsabilidad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enuncian las responsabilidades de cada uno de los integrantes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ultados Esperad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proyecto debe precisar claramente cuáles serán los logros concretos que se pretende alcanzar: ¿qué se espera lograr? ¿productos? ¿documentos?, etc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2:34Z</dcterms:created>
  <dc:creator>Ximena Cortez</dc:creator>
  <dc:description/>
  <dc:language>en-US</dc:language>
  <cp:lastModifiedBy>Xiber</cp:lastModifiedBy>
  <dcterms:modified xsi:type="dcterms:W3CDTF">2007-10-04T11:48:50Z</dcterms:modified>
  <cp:revision>8</cp:revision>
  <dc:subject/>
  <dc:title>Elaboración  de un Proyecto de Investigación</dc:title>
</cp:coreProperties>
</file>