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48371-10FB-465F-A5C6-06C12CC78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165F-6506-4A27-85A9-70A0598E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989D9-0486-403B-936F-56D4BECDC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74FFF-73D8-4EF9-8839-8B567523F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5FE11-F5DC-4AFD-AD65-438CB97D3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2E56C-5769-4820-87EB-6A0EC317E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BB40E-27B1-48A5-A3B3-79A8D7ADD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0C636-8EFD-4FD7-9B9D-1630FA57F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2EC08-4AA3-4721-ABDF-F4380EBD2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D4E3E-EBF3-4D9B-B632-140838802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2DCFA-92E2-4716-A2DA-419F8418E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2670-C52A-47F6-AE0D-C7C976AA2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DE212-F238-45A7-A113-4CF0CA3FA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3758B-DA05-46AF-A40D-ED992D507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5B8F6-C426-4EA9-82DB-4F9DB78DE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25BCE-3258-40DE-8ED3-633E9177B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46965-F4A0-461C-9837-B6DE97ECC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72AA3-7F82-43A8-926A-03469002E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010BA-6BF5-499A-BB09-8C101EE70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B3497-E35C-48CA-84F9-39DC1C793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E168A-D0F5-4042-A146-CAD293CA4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8BBE-FF6E-40FE-8CAA-A04726B0B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0547-336D-457E-A551-B43FF82B4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3AE2-EE74-430D-9E9E-858E6FF1A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CBB5-7F52-4B21-90A5-674EBE9A3D5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888E-3720-4A91-A6E2-38D7AB6F4AF9}"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928960" y="228240"/>
            <a:ext cx="5883120" cy="277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UNIVERSIDAD DE CHILE</a:t>
            </a:r>
            <a:br>
              <a:rPr sz="2000"/>
            </a:br>
            <a:r>
              <a:rPr b="1" lang="es-ES" sz="2000" spc="-1" strike="noStrike">
                <a:solidFill>
                  <a:srgbClr val="ffff00"/>
                </a:solidFill>
                <a:latin typeface="Arial"/>
              </a:rPr>
              <a:t>PROGRAMA ACADÉMICO DE BACHILLERATO</a:t>
            </a:r>
            <a:br>
              <a:rPr sz="2000"/>
            </a:br>
            <a:r>
              <a:rPr b="1" lang="es-ES" sz="2000" spc="-1" strike="noStrike">
                <a:solidFill>
                  <a:srgbClr val="ffff00"/>
                </a:solidFill>
                <a:latin typeface="Arial"/>
              </a:rPr>
              <a:t>CÁTEDRA</a:t>
            </a:r>
            <a:r>
              <a:rPr b="1" lang="es-ES" sz="2000" spc="-1" strike="noStrike">
                <a:solidFill>
                  <a:srgbClr val="ffff00"/>
                </a:solidFill>
                <a:latin typeface="Arial"/>
              </a:rPr>
              <a:t>	</a:t>
            </a:r>
            <a:r>
              <a:rPr b="1" lang="es-ES" sz="2000" spc="-1" strike="noStrike">
                <a:solidFill>
                  <a:srgbClr val="ffff00"/>
                </a:solidFill>
                <a:latin typeface="Arial"/>
              </a:rPr>
              <a:t>: HISTORIA</a:t>
            </a:r>
            <a:br>
              <a:rPr sz="2000"/>
            </a:br>
            <a:r>
              <a:rPr b="1" lang="es-ES" sz="2000" spc="-1" strike="noStrike">
                <a:solidFill>
                  <a:srgbClr val="ffff00"/>
                </a:solidFill>
                <a:latin typeface="Arial"/>
              </a:rPr>
              <a:t>PROFESOR</a:t>
            </a:r>
            <a:r>
              <a:rPr b="1" lang="es-ES" sz="2000" spc="-1" strike="noStrike">
                <a:solidFill>
                  <a:srgbClr val="ffff00"/>
                </a:solidFill>
                <a:latin typeface="Arial"/>
              </a:rPr>
              <a:t>	</a:t>
            </a:r>
            <a:r>
              <a:rPr b="1" lang="es-ES" sz="2000" spc="-1" strike="noStrike">
                <a:solidFill>
                  <a:srgbClr val="ffff00"/>
                </a:solidFill>
                <a:latin typeface="Arial"/>
              </a:rPr>
              <a:t>: BERNARDO GONZÁLEZ</a:t>
            </a:r>
            <a:endParaRPr b="0" lang="en-US" sz="2000" spc="-1" strike="noStrike">
              <a:solidFill>
                <a:srgbClr val="b7e7ff"/>
              </a:solidFill>
              <a:latin typeface="Arial"/>
            </a:endParaRPr>
          </a:p>
        </p:txBody>
      </p:sp>
      <p:sp>
        <p:nvSpPr>
          <p:cNvPr id="83" name=""/>
          <p:cNvSpPr txBox="1"/>
          <p:nvPr/>
        </p:nvSpPr>
        <p:spPr>
          <a:xfrm>
            <a:off x="1357200" y="4285800"/>
            <a:ext cx="7199280" cy="17859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000"/>
                </a:solidFill>
                <a:latin typeface="Arial"/>
              </a:rPr>
              <a:t>HISTORIA E HISTORIOGRAFÍA</a:t>
            </a:r>
            <a:endParaRPr b="0" lang="en-US" sz="4000" spc="-1" strike="noStrike">
              <a:solidFill>
                <a:srgbClr val="ffffff"/>
              </a:solidFill>
              <a:latin typeface="Arial"/>
            </a:endParaRPr>
          </a:p>
        </p:txBody>
      </p:sp>
      <p:pic>
        <p:nvPicPr>
          <p:cNvPr id="84" name="Picture 4" descr="UChile1"/>
          <p:cNvPicPr/>
          <p:nvPr/>
        </p:nvPicPr>
        <p:blipFill>
          <a:blip r:embed="rId1"/>
          <a:stretch/>
        </p:blipFill>
        <p:spPr>
          <a:xfrm>
            <a:off x="1147680" y="620640"/>
            <a:ext cx="995400" cy="2016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2"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hora si quieres te contaré brevemente otro relato, aunque sabiendo bien —y tú grábatelo en el corazón— cómo los dioses y los hombres mortales tuvieron un mismo orige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l principio los Inmortales que habitan mansiones olímpicas crearon una dorada estirpe de hombres mortales. Existieron aquéllos en tiempos de Cronos, cuando reinaba en el cielo; vivían como dioses, con el corazón libre de preocupaciones, sin fatiga ni miseria; y no se cernía sobre ellos la vejez despreciable, sino que, siempre con igual vitalidad en piernas y brazos, se recreaban con fiestas ajenos a todo tipo de males. </a:t>
            </a:r>
            <a:endParaRPr b="0" lang="en-US" sz="24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14240" y="285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4" name="PlaceHolder 2"/>
          <p:cNvSpPr>
            <a:spLocks noGrp="1"/>
          </p:cNvSpPr>
          <p:nvPr>
            <p:ph type="subTitle"/>
          </p:nvPr>
        </p:nvSpPr>
        <p:spPr>
          <a:xfrm>
            <a:off x="285840" y="1285920"/>
            <a:ext cx="8501040" cy="5214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Morían como sumidos en un sueño; poseían toda clase de alegrías, y el campo fértil producía espontáneamente abundantes y excelentes frutos. Ellos contentos y tranquilos alternaban sus faenas con numerosos deleites. Eran ricos en rebaños y entrañables a los dioses bienaventurad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esta raza, aquéllos son por voluntad de Zeus </a:t>
            </a:r>
            <a:r>
              <a:rPr b="1" i="1" lang="es-ES" sz="2400" spc="-1" strike="noStrike">
                <a:solidFill>
                  <a:srgbClr val="7030a0"/>
                </a:solidFill>
                <a:latin typeface="Arial"/>
              </a:rPr>
              <a:t>démones</a:t>
            </a:r>
            <a:r>
              <a:rPr b="1" lang="es-ES" sz="2400" spc="-1" strike="noStrike">
                <a:solidFill>
                  <a:srgbClr val="7030a0"/>
                </a:solidFill>
                <a:latin typeface="Arial"/>
              </a:rPr>
              <a:t> benignos, terrenales, protectores de los mortales [que vigilan las sentencias y malas acciones yendo y viniendo envueltos en niebla, por todos los rincones de la tierra] y dispensadores de riqueza; pues también obtuvieron esta prerrogativa re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6" name="PlaceHolder 2"/>
          <p:cNvSpPr>
            <a:spLocks noGrp="1"/>
          </p:cNvSpPr>
          <p:nvPr>
            <p:ph type="subTitle"/>
          </p:nvPr>
        </p:nvSpPr>
        <p:spPr>
          <a:xfrm>
            <a:off x="285840" y="856800"/>
            <a:ext cx="8501040" cy="5643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n su lugar una segunda estirpe mucho peor, de plata, crearon después los que habitan las mansiones olímpicas, no comparable a la de oro ni en aspecto ni en inteligencia. Durante cien años el niño se criaba junto a su solícita madre pasando la flor de la vida, muy infantil, en su casa; y cuando ya se hacía hombre y alcanzaba la edad de la juventud, vivían poco tiempo llenos de sufrimientos a causa de su ignorancia; pues no podían apartar de entre ellos una violencia desorbitada ni querían dar culto a los Inmortales ni hacer sacrificios en los sagrados altares de los Bienaventurados, como es norma para los hombres por tradición. A éstos más tarde los hundió Zeus Crónida irritado porque no daban las honras debidas a los dioses bienaventurados que habitan el Olimpo.</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1424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08" name="PlaceHolder 2"/>
          <p:cNvSpPr>
            <a:spLocks noGrp="1"/>
          </p:cNvSpPr>
          <p:nvPr>
            <p:ph type="subTitle"/>
          </p:nvPr>
        </p:nvSpPr>
        <p:spPr>
          <a:xfrm>
            <a:off x="285840" y="1357200"/>
            <a:ext cx="8501040" cy="4786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a esta estirpe, estos genios subterráneos se llaman mortales bienaventurados, de rango inferior, pero que no obstante también gozan de cierta consideración.</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Otra tercera estirpe de hombres de voz articulada creó Zeus padre, de bronce, en nada semejante a la de plata, nacida de los fresnos, terrible y vigorosa. Sólo les interesaban las luctuosas obras de Ares y los actos de soberbia; no comían pan y en cambio tenían un aguerrido corazón de metal. [Eran terribles: una gran fuerza y unas manos invencibles nacían de sus hombros sobre robustos miembros.] </a:t>
            </a:r>
            <a:endParaRPr b="0" lang="en-US" sz="2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214200"/>
            <a:ext cx="77724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0" name="PlaceHolder 2"/>
          <p:cNvSpPr>
            <a:spLocks noGrp="1"/>
          </p:cNvSpPr>
          <p:nvPr>
            <p:ph type="subTitle"/>
          </p:nvPr>
        </p:nvSpPr>
        <p:spPr>
          <a:xfrm>
            <a:off x="214200" y="1428480"/>
            <a:ext cx="8501040" cy="4429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De bronce eran sus armas, de bronce sus casas y con bronce trabajaban; no existía el negro hierro. También éstos, víctimas de sus propias manos, marcharon a la vasta mansión del cruento Hades, en el anonimato. Se apoderó de ellos la negra muerte aunque eran tremendos, y dejaron la brillante luz del so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ya luego, desde que la tierra sepultó también esta estirpe, en su lugar todavía creó Zeus Crónida sobre el suelo fecundo otra cuarta más justa y virtuosa, la estirpe divina de los héroes que se llaman semidioses, raza que nos precedió sobre la tierra sin limit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2"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unos la guerra funesta y el temible combate los aniquiló bien al pie de Tebas la de siete puertas, en el país cadmeo, peleando por los rebaños de Edipo, o bien después de conducirles a Troya en sus naves, sobre el inmenso abismo del mar, a causa de Helena de hermosos cabellos. [Allí, por tanto, la muerte se apoderó de uno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A los otros el padre Zeus Crónida determinó concederles vida y residencia lejos de los hombres, hacia los confines de la tierra. Éstos viven con un corazón exento de dolores en las Islas de los Afortunados, junto al Océano de profundas corrientes, héroes felices a los que el campo fértil les produce frutos que germinan tres veces al año, dulces como la miel, [lejos de los Inmortales; entre ellos reina Cronos. </a:t>
            </a:r>
            <a:endParaRPr b="0" lang="en-US" sz="2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4" name="PlaceHolder 2"/>
          <p:cNvSpPr>
            <a:spLocks noGrp="1"/>
          </p:cNvSpPr>
          <p:nvPr>
            <p:ph type="subTitle"/>
          </p:nvPr>
        </p:nvSpPr>
        <p:spPr>
          <a:xfrm>
            <a:off x="214200" y="1000080"/>
            <a:ext cx="8501040" cy="5572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Pues el propio padre de hombres y dioses le libró, y ahora siempre entre ellos goza de respeto como benigno. Zeus a su vez otra estirpe creó de hombres de voz articulada, los que ahora existen sobre la tierra fecunda.]</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Y luego, ya no hubiera querido estar yo entre los hombres de la quinta generación sino haber muerto antes o haber nacido después; pues ahora existe una estirpe de hierro. Nunca durante el día se verán libres de fatigas y miserias ni dejarán de consumirse durante la noche, y los dioses les procurarán ásperas inquietudes; pero no obstante, también se mezclarán alegrías con sus ma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6" name="PlaceHolder 2"/>
          <p:cNvSpPr>
            <a:spLocks noGrp="1"/>
          </p:cNvSpPr>
          <p:nvPr>
            <p:ph type="subTitle"/>
          </p:nvPr>
        </p:nvSpPr>
        <p:spPr>
          <a:xfrm>
            <a:off x="214200" y="1213920"/>
            <a:ext cx="8501040" cy="5357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Zeus destruirá igualmente esta estirpe de hombres de voz articulada, cuando al nacer sean de blancas sienes. El padre no se parecerá a los hijos ni los hijos al padre; el anfitrión no apreciará a su huésped ni el amigo a su amigo y no se querrá al hermano como antes. Despreciarán a sus padres apenas se hagan viejos y les insultarán con duras palabras, cruelmente, sin advertir la vigilancia de los dioses —no podrían dar el sustento debido a sus padres ancianos aquellos [cuya justicia es la violencia—, y unos saquearán las ciudades de los otros]. Ningún reconocimiento habrá para el que cumpla su palabra ni para el justo ni el honrado, sino que tendrán en más consideración al malhechor y al hombre violento.</a:t>
            </a:r>
            <a:endParaRPr b="0" lang="en-US" sz="2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14240" y="21420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Los Trabajos y los Días</a:t>
            </a:r>
            <a:endParaRPr b="0" lang="en-US" sz="3200" spc="-1" strike="noStrike">
              <a:solidFill>
                <a:srgbClr val="b7e7ff"/>
              </a:solidFill>
              <a:latin typeface="Arial"/>
            </a:endParaRPr>
          </a:p>
        </p:txBody>
      </p:sp>
      <p:sp>
        <p:nvSpPr>
          <p:cNvPr id="118" name="PlaceHolder 2"/>
          <p:cNvSpPr>
            <a:spLocks noGrp="1"/>
          </p:cNvSpPr>
          <p:nvPr>
            <p:ph type="subTitle"/>
          </p:nvPr>
        </p:nvSpPr>
        <p:spPr>
          <a:xfrm>
            <a:off x="285840" y="1571400"/>
            <a:ext cx="8501040" cy="4786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La justicia estará en la fuerza de las manos y no existirá pudor; el malvado tratará de perjudicar al varón más virtuoso con retorcidos discursos y además se valdrá del juramento. La envidia murmuradora, gustosa del mal y repugnante, acompañará a todos los hombres miserables.</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Arial"/>
              </a:rPr>
              <a:t>Es entonces cuando Aidos y Némesis, cubierto su bello cuerpo con blancos mantos, irán desde la tierra de anchos caminos hasta el Olimpo para vivir entre la tribu de los Inmortales, abandonando a los hombres; a los hombres mortales sólo les quedarán amargos sufrimientos y ya no existirá remedio para el mal.</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eródoto (s. V a.E.C.)</a:t>
            </a:r>
            <a:endParaRPr b="0" lang="en-US" sz="4400" spc="-1" strike="noStrike">
              <a:solidFill>
                <a:srgbClr val="b7e7ff"/>
              </a:solidFill>
              <a:latin typeface="Arial"/>
            </a:endParaRPr>
          </a:p>
        </p:txBody>
      </p:sp>
      <p:sp>
        <p:nvSpPr>
          <p:cNvPr id="120" name=""/>
          <p:cNvSpPr txBox="1"/>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 deber es informar de todo lo que se dice, pero no estoy obligado a creerlo todo igualmente" (lib. 7, 15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gran narrador (anecdotario) y compilador. Su foco de análisis: Guerras Médicas (bárbaros-griego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vestiga, analiza, inserta la fuente y su carácter “probatorio”.</a:t>
            </a:r>
            <a:endParaRPr b="0" lang="en-US" sz="3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b7e7ff"/>
                </a:solidFill>
                <a:latin typeface="Arial"/>
              </a:rPr>
              <a:t>Historia de la Historiografía</a:t>
            </a:r>
            <a:endParaRPr b="0" lang="en-US" sz="4000" spc="-1" strike="noStrike">
              <a:solidFill>
                <a:srgbClr val="b7e7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Qué ha ocurrido en Occidente?</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2" name="PlaceHolder 2"/>
          <p:cNvSpPr>
            <a:spLocks noGrp="1"/>
          </p:cNvSpPr>
          <p:nvPr>
            <p:ph type="subTitle"/>
          </p:nvPr>
        </p:nvSpPr>
        <p:spPr>
          <a:xfrm>
            <a:off x="428760" y="785880"/>
            <a:ext cx="8286480" cy="58579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IV. Hasta aquí, pues, según dicen los persas, no hubo más hostilidades que las de estos raptos mutuos, siendo los griegos los que tuvieron la culpa de que en lo sucesivo se encendiese la discordia, por haber empezado sus expediciones contra el Asia primero que pensasen los persas en hacerlas contra la Europa. En su opinión, esto de robar las mujeres es a la verdad una cosa que repugna a las reglas de la justicia; pero también es poco conforme a la cultura y civilización el tomar con tanto empeño la venganza por ellas, y por el contrario, el no hacer ningún caso de las arrebatadas, es propio de gente cuerda y política, porque bien claro está que si ellas no lo quisiesen de veras nunca hubieran sido robadas.</a:t>
            </a:r>
            <a:endParaRPr b="0" lang="en-US" sz="26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4" name="PlaceHolder 2"/>
          <p:cNvSpPr>
            <a:spLocks noGrp="1"/>
          </p:cNvSpPr>
          <p:nvPr>
            <p:ph type="subTitle"/>
          </p:nvPr>
        </p:nvSpPr>
        <p:spPr>
          <a:xfrm>
            <a:off x="428760" y="1285560"/>
            <a:ext cx="8286480" cy="514332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or esta razón, añaden los persas, los pueblos del Asia miraron siempre con mucha frialdad estos raptos mujeriles, muy al revés de los griegos, quienes por una hembra lacedemonia juntaron un ejército numerosísimo, y pasando al Asia destruyeron el reino de Príamo. ; época fatal del odio con que miraron ellos después por enemigo perpetuo al nombre griego. Lo que no tiene duda es que al Asia y a las naciones bárbaras que la pueblan, las miran los persas como cosa propia suya, reputando a toda la Europa, y con mucha particularidad a la Grecia, como una región separada de su dominio.</a:t>
            </a:r>
            <a:endParaRPr b="0" lang="en-US" sz="2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6" name="PlaceHolder 2"/>
          <p:cNvSpPr>
            <a:spLocks noGrp="1"/>
          </p:cNvSpPr>
          <p:nvPr>
            <p:ph type="subTitle"/>
          </p:nvPr>
        </p:nvSpPr>
        <p:spPr>
          <a:xfrm>
            <a:off x="428760" y="1428480"/>
            <a:ext cx="8286480" cy="507204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V. Así pasaron las cosas, según refieren los persas, los cuales están persuadidos de que el origen del odio y enemistad para con los griegos les vino de la toma de Troya. Mas, por lo que hace al robo de Io, no van con ellos acordes los fenicios, porque éstos niegan haberla conducido al Egipto por vía de rapto, y antes bien, pretenden que la joven griega, de resultas de un trato nimiamente familiar con el patrón de la nave; como se viese con el tiempo próxima a ser madre, por el rubor que tuvo de revelará sus padres su debilidad, prefirió voluntariamente partirse con los fenicios, a da de evitar de este modo su pública deshonra.</a:t>
            </a:r>
            <a:endParaRPr b="0" lang="en-US" sz="26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36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Libro 1. Clío</a:t>
            </a:r>
            <a:endParaRPr b="0" lang="en-US" sz="3600" spc="-1" strike="noStrike">
              <a:solidFill>
                <a:srgbClr val="b7e7ff"/>
              </a:solidFill>
              <a:latin typeface="Arial"/>
            </a:endParaRPr>
          </a:p>
        </p:txBody>
      </p:sp>
      <p:sp>
        <p:nvSpPr>
          <p:cNvPr id="128" name="PlaceHolder 2"/>
          <p:cNvSpPr>
            <a:spLocks noGrp="1"/>
          </p:cNvSpPr>
          <p:nvPr>
            <p:ph type="subTitle"/>
          </p:nvPr>
        </p:nvSpPr>
        <p:spPr>
          <a:xfrm>
            <a:off x="213840" y="857160"/>
            <a:ext cx="8643960" cy="58579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Sea de esto lo que se quiera, así nos lo cuentan al menos los persas y fenicios, y no me meteré yo a decidir entre ellos, inquiriendo si la cosa pasó de este o del otro modo. Lo que sí haré, puesto que según noticias he indicado ya quién fue el primero que injurió a los griegos, será llevar adelante mi historia, y discurrir del mismo modo por los sucesos de los estados grandes y pequeños, visto que muchos, que antiguamente fueron grandes, han venido después a ser bien pequeños, y que, al contrario, fueron antes pequeños los que se han elevado en nuestros días a la mayor grandeza. Persuadido, pues, de la inestabilidad del poder humano, y de que las cosas de los hombres nunca permanecen constantes en el mismo ser, próspero ni adverso, hará, como digo, mención igualmente de unos estados y de otros, grandes y pequeños.</a:t>
            </a:r>
            <a:endParaRPr b="0" lang="en-US" sz="25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ucídides (s. V a.E.C.)</a:t>
            </a:r>
            <a:endParaRPr b="0" lang="en-US" sz="4400" spc="-1" strike="noStrike">
              <a:solidFill>
                <a:srgbClr val="b7e7ff"/>
              </a:solidFill>
              <a:latin typeface="Arial"/>
            </a:endParaRPr>
          </a:p>
        </p:txBody>
      </p:sp>
      <p:sp>
        <p:nvSpPr>
          <p:cNvPr id="130" name=""/>
          <p:cNvSpPr txBox="1"/>
          <p:nvPr/>
        </p:nvSpPr>
        <p:spPr>
          <a:xfrm>
            <a:off x="428760" y="171432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Historia de La Guerra del Pelopones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cribe centrado en la Helad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humanas se explican desde lo huma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motivaciones explican el comportamiento de los líderes? ¿Cómo se configura el poder?</a:t>
            </a:r>
            <a:endParaRPr b="0" lang="en-US" sz="32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2" name="PlaceHolder 2"/>
          <p:cNvSpPr>
            <a:spLocks noGrp="1"/>
          </p:cNvSpPr>
          <p:nvPr>
            <p:ph type="subTitle"/>
          </p:nvPr>
        </p:nvSpPr>
        <p:spPr>
          <a:xfrm>
            <a:off x="428400" y="1428840"/>
            <a:ext cx="8358120" cy="5214960"/>
          </a:xfrm>
          <a:prstGeom prst="rect">
            <a:avLst/>
          </a:prstGeom>
          <a:noFill/>
          <a:ln w="0">
            <a:noFill/>
          </a:ln>
        </p:spPr>
        <p:txBody>
          <a:bodyPr anchor="t">
            <a:no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Manifiestase bien la flaqueza y poco poder que entonces tenian los</a:t>
            </a:r>
            <a:endParaRPr b="0" lang="en-US" sz="1900" spc="-1" strike="noStrike">
              <a:solidFill>
                <a:srgbClr val="ffffff"/>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Arial"/>
              </a:rPr>
              <a:t>griegos en que antes de la guerra de Troya no habia hecho Grecia hazana alguna en comun, ni tampoco me parece que toda ella tenia este nombre de Grecia, sino alguna parte, hasta que vino Heleno, hijo de Deucalion; ni aun algun tiempo despues tenian este nombre, sino cada gente el suyo, poniendose el mayor numero el nombre de pelasgos. Mas despues que Heleno y sus hijos se apoderaron de la region de Ftiotide, y por su interes llevaron aquellas gentes a poblar otras ciudades, cada cual de estas parcialidades, por la comunicacion de la lengua, se llamaron helenos, que quiere decir griegos, nombre que no pudo durar largo tiempo, segun muestra por conjeturas el poeta Homero, que vivio muchos anos despues de la guerra de Troya, y que no llama a todos en general helenos o griegos, sino a las gentes que vinieron en compania de Aquiles desde aquella provincia de Ftiotide, que fueron los primeros helenos, y en sus versos los nombra danaos, argeos y aqueos.</a:t>
            </a:r>
            <a:endParaRPr b="0" lang="en-US" sz="19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85880" y="214200"/>
            <a:ext cx="777240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Historia de la Guerra del Peloponeso</a:t>
            </a:r>
            <a:endParaRPr b="0" lang="en-US" sz="2800" spc="-1" strike="noStrike">
              <a:solidFill>
                <a:srgbClr val="b7e7ff"/>
              </a:solidFill>
              <a:latin typeface="Arial"/>
            </a:endParaRPr>
          </a:p>
        </p:txBody>
      </p:sp>
      <p:sp>
        <p:nvSpPr>
          <p:cNvPr id="134" name="PlaceHolder 2"/>
          <p:cNvSpPr>
            <a:spLocks noGrp="1"/>
          </p:cNvSpPr>
          <p:nvPr>
            <p:ph type="subTitle"/>
          </p:nvPr>
        </p:nvSpPr>
        <p:spPr>
          <a:xfrm>
            <a:off x="428400" y="1143000"/>
            <a:ext cx="8358120" cy="5500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por eso los llamo barbaros, pues entonces, a mi parecer, no tenian todos nombre de barbaros. En conclusion, todos aquellos que eran como griegos, y se comunicaban entre si, fueron despues llamados con un mismo apellido. Y antes de la guerra de Troya por sus pocas fuerzas, y por no haberse juntado en contratacion ni comunicacion unos con otros no hicieron cosa alguna en comun, salvo unirse para esta guerra, porque ya tenian de largo tiempo 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umbre de naveg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inos, el mas antiguo de todos aquellos que hemos oido, construyo armada con la que se apodero de la mayor parte del mar de Grecia que ahora es, senoreo las islas llamadas Cicladas y fue el que primero las hizo habitar, fundando en ellas muchas poblaciones, expulsando a los carios y nombrando principes y senores de ellas a sus hijos, a quienes las dejo despues de su</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uerte. Ademas limpio la mar de corsarios y ladrones, para adquirir el solo las rentas y provechos del comercio.</a:t>
            </a:r>
            <a:endParaRPr b="0" lang="en-US" sz="20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6" name=""/>
          <p:cNvSpPr txBox="1"/>
          <p:nvPr/>
        </p:nvSpPr>
        <p:spPr>
          <a:xfrm>
            <a:off x="301680" y="1676520"/>
            <a:ext cx="8540640" cy="4752720"/>
          </a:xfrm>
          <a:prstGeom prst="rect">
            <a:avLst/>
          </a:prstGeom>
          <a:noFill/>
          <a:ln w="0">
            <a:noFill/>
          </a:ln>
        </p:spPr>
        <p:txBody>
          <a:bodyPr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Recuperación de la práctica historiográfica, al estilo  grecorromano.</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poder terrenal del Papado se reduce, así como el control eclesiástico sobre la intelectualidad europe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a tutela teológica es desplazada por el antropocentrismo humanista y renacentista.</a:t>
            </a: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Conciencia de anacronismo; sentido de discontinuidad histórica.</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38" name=""/>
          <p:cNvSpPr txBox="1"/>
          <p:nvPr/>
        </p:nvSpPr>
        <p:spPr>
          <a:xfrm>
            <a:off x="301680" y="1356840"/>
            <a:ext cx="8540640" cy="507204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tiempo y el espacio son consideradas magnitudes significativas para el análisis históric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actualiza el modelo clásico de relato racionalista e inmanentista, bajo la nueva conciencia de perspectiva temporal y sentido de anacronismo.</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Historiadores florentinos: Leonardo Bruni, Nicolás Maquiavelo y Francesco Guicciardini. “Legitimación de la República”</a:t>
            </a:r>
            <a:endParaRPr b="0" lang="en-US" sz="32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10400" cy="10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0" name=""/>
          <p:cNvSpPr txBox="1"/>
          <p:nvPr/>
        </p:nvSpPr>
        <p:spPr>
          <a:xfrm>
            <a:off x="301680" y="1356840"/>
            <a:ext cx="8540640" cy="50720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paña: nace la crónica de Indias (Bernal Díaz del Castillo; Pedro Cieza de León; Gonzalo Fernández de Ovied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Se redescubre a los autores clásicos, y se los traduce a lenguas vernácula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sta labor de análisis filológico comparativo permite que se desarrollen las bases de la historiografía científica del siglo XIX: la erudición crítica documental.</a:t>
            </a:r>
            <a:endParaRPr b="0" lang="en-US" sz="32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8540640" cy="477684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ey del doble espejo (cultura sumeria)</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erarquía explicativa: Dios, Rey, alto funcionario, funcionario menor, súbdito.</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vinidades: gobernantes sobrehumanos de las sociedades humana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Humanidad: instrumento de …; paciente de la acción.</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s acciones están situadas en una serie temporal.</a:t>
            </a:r>
            <a:endParaRPr b="0" lang="en-US" sz="32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2" name=""/>
          <p:cNvSpPr txBox="1"/>
          <p:nvPr/>
        </p:nvSpPr>
        <p:spPr>
          <a:xfrm>
            <a:off x="213840" y="1999800"/>
            <a:ext cx="8541000" cy="37861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xiste una roturación racionalista del material histórico: el fraude de la “Donación de Constanti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El emperador habría entregado al Papa Silvestre y a sus sucesores la autoridad sobre Roma y todo el Imperio de Occidente.</a:t>
            </a:r>
            <a:endParaRPr b="0" lang="en-US" sz="3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El Renacimiento</a:t>
            </a:r>
            <a:endParaRPr b="0" lang="en-US" sz="4400" spc="-1" strike="noStrike">
              <a:solidFill>
                <a:srgbClr val="b7e7ff"/>
              </a:solidFill>
              <a:latin typeface="Arial"/>
            </a:endParaRPr>
          </a:p>
        </p:txBody>
      </p:sp>
      <p:sp>
        <p:nvSpPr>
          <p:cNvPr id="144" name=""/>
          <p:cNvSpPr txBox="1"/>
          <p:nvPr/>
        </p:nvSpPr>
        <p:spPr>
          <a:xfrm>
            <a:off x="357120" y="1642680"/>
            <a:ext cx="8540640" cy="442908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Lorenzo Valla (1401-1457): Humanista al servicio del rey de Nápoles (enfrentado a las pretensiones políticas del Papado), hace una demoledora crítica interna al documento (latín anacrónico respecto del siglo IV, errores e inexactitudes gramaticales, jurídicas, geográficas y cronológicas)</a:t>
            </a:r>
            <a:endParaRPr b="0" lang="en-US" sz="32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6" name="PlaceHolder 2"/>
          <p:cNvSpPr>
            <a:spLocks noGrp="1"/>
          </p:cNvSpPr>
          <p:nvPr>
            <p:ph type="subTitle"/>
          </p:nvPr>
        </p:nvSpPr>
        <p:spPr>
          <a:xfrm>
            <a:off x="610920" y="1413000"/>
            <a:ext cx="7993080" cy="4752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Con la expansión de este movimiento intelectual europeo, surge la historiografía científic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idea del Progreso Inmanente desplaza a la idea de la Providencia Divina.</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La Razón Humana: único criterio de conocimiento y autoridad.</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Difusión y validación del método científico experimental de Galileo y Newton.</a:t>
            </a:r>
            <a:endParaRPr b="0" lang="en-US" sz="32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48" name="PlaceHolder 2"/>
          <p:cNvSpPr>
            <a:spLocks noGrp="1"/>
          </p:cNvSpPr>
          <p:nvPr>
            <p:ph type="subTitle"/>
          </p:nvPr>
        </p:nvSpPr>
        <p:spPr>
          <a:xfrm>
            <a:off x="610920" y="1341000"/>
            <a:ext cx="7993080" cy="5256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Impacto de las grandes transformaciones históricas de su tiempo: colonización europea, crecimiento demográfico y urbano continental, expansión del capitalismo, fortalecimiento de la burguesía, ampliación del público lector y de la producción bibliográfica, déspotas ilustrados reformistas, crisis política del Antiguo Régimen, etc.</a:t>
            </a:r>
            <a:endParaRPr b="0" lang="en-US" sz="32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0" name="PlaceHolder 2"/>
          <p:cNvSpPr>
            <a:spLocks noGrp="1"/>
          </p:cNvSpPr>
          <p:nvPr>
            <p:ph type="subTitle"/>
          </p:nvPr>
        </p:nvSpPr>
        <p:spPr>
          <a:xfrm>
            <a:off x="610920" y="1268280"/>
            <a:ext cx="7993080" cy="5329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Nueva concepción de tiempo: la cronología como una cadena causal y evolutiva de cambios significativos e irreversibles.</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Este tiempo cronológico como factor de Evolución y Progreso.</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Producción filosófica que fortalece el Progreso como Idea-Fuerza: alemanes Leibniz y Kant, franceses Turgot, Condorcet y Voltaire.</a:t>
            </a:r>
            <a:endParaRPr b="0" lang="en-US" sz="32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60280"/>
            <a:ext cx="77724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Ilustración</a:t>
            </a:r>
            <a:endParaRPr b="0" lang="en-US" sz="4400" spc="-1" strike="noStrike">
              <a:solidFill>
                <a:srgbClr val="b7e7ff"/>
              </a:solidFill>
              <a:latin typeface="Arial"/>
            </a:endParaRPr>
          </a:p>
        </p:txBody>
      </p:sp>
      <p:sp>
        <p:nvSpPr>
          <p:cNvPr id="152" name="PlaceHolder 2"/>
          <p:cNvSpPr>
            <a:spLocks noGrp="1"/>
          </p:cNvSpPr>
          <p:nvPr>
            <p:ph type="subTitle"/>
          </p:nvPr>
        </p:nvSpPr>
        <p:spPr>
          <a:xfrm>
            <a:off x="610920" y="1700280"/>
            <a:ext cx="7993080" cy="4465440"/>
          </a:xfrm>
          <a:prstGeom prst="rect">
            <a:avLst/>
          </a:prstGeom>
          <a:noFill/>
          <a:ln w="0">
            <a:noFill/>
          </a:ln>
        </p:spPr>
        <p:txBody>
          <a:bodyPr anchor="t">
            <a:noAutofit/>
          </a:bodyPr>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Relato-narración racionalista: se le aplica esta concepción temporal.</a:t>
            </a:r>
            <a:endParaRPr b="0" lang="en-US" sz="3200" spc="-1" strike="noStrike">
              <a:solidFill>
                <a:srgbClr val="ffffff"/>
              </a:solidFill>
              <a:latin typeface="Arial"/>
            </a:endParaRPr>
          </a:p>
          <a:p>
            <a:pPr>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 </a:t>
            </a:r>
            <a:r>
              <a:rPr b="0" lang="es-ES" sz="3200" spc="-1" strike="noStrike">
                <a:solidFill>
                  <a:srgbClr val="ffff00"/>
                </a:solidFill>
                <a:latin typeface="Arial"/>
              </a:rPr>
              <a:t>Voltaire: “Se exige hoy a los historiadores modernos mayores detalles, hechos comprobados, fechas exactas, mayor estudio de los usos, de las costumbres y de las leyes, del comercio, de la hacienda, de la agricultura y de la población.”</a:t>
            </a:r>
            <a:endParaRPr b="0" lang="en-US" sz="32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4" name=""/>
          <p:cNvSpPr txBox="1"/>
          <p:nvPr/>
        </p:nvSpPr>
        <p:spPr>
          <a:xfrm>
            <a:off x="301680" y="1197000"/>
            <a:ext cx="8540640" cy="5184720"/>
          </a:xfrm>
          <a:prstGeom prst="rect">
            <a:avLst/>
          </a:prstGeom>
          <a:noFill/>
          <a:ln w="0">
            <a:noFill/>
          </a:ln>
        </p:spPr>
        <p:txBody>
          <a:bodyPr anchor="t">
            <a:normAutofit fontScale="98000"/>
          </a:bodyPr>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incipio del siglo XIX: surge en los estados alemanes la moderna ciencia histórica.</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fluyen la tradición histórico-literaria y la erudición documental.</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pción del fluir temporal humano:  proceso causal racionalista y no una mera sucesión cronológica de acontecimientos.</a:t>
            </a:r>
            <a:endParaRPr b="0" lang="en-US" sz="3200" spc="-1" strike="noStrike">
              <a:solidFill>
                <a:srgbClr val="ffffff"/>
              </a:solidFill>
              <a:latin typeface="Arial"/>
            </a:endParaRPr>
          </a:p>
          <a:p>
            <a:pPr marL="335880" indent="-3358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Reemplazo y desplazamiento: la historia razonada y documentada antes que la crónica de mayor o menor complejidad.</a:t>
            </a:r>
            <a:endParaRPr b="0" lang="en-US" sz="32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a:t>
            </a:r>
            <a:endParaRPr b="0" lang="en-US" sz="3600" spc="-1" strike="noStrike">
              <a:solidFill>
                <a:srgbClr val="b7e7ff"/>
              </a:solidFill>
              <a:latin typeface="Arial"/>
            </a:endParaRPr>
          </a:p>
        </p:txBody>
      </p:sp>
      <p:sp>
        <p:nvSpPr>
          <p:cNvPr id="156" name=""/>
          <p:cNvSpPr txBox="1"/>
          <p:nvPr/>
        </p:nvSpPr>
        <p:spPr>
          <a:xfrm>
            <a:off x="395280" y="2276640"/>
            <a:ext cx="8540640" cy="37447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L. Schlözer (jurista Universidad de Gotinga. Hannover): “La historia ya no puede ser meramente la biografía de reyes, notas cronológicas exactas sobre las guerras, batallas y cambios de gobierno, ni tampoco informes sobre alianzas y revoluciones.”</a:t>
            </a:r>
            <a:endParaRPr b="0" lang="en-US" sz="3200" spc="-1" strike="noStrike">
              <a:solidFill>
                <a:srgbClr val="ffffff"/>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58"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fesor de la Universidad de Berlín, pionero en el uso del nuevo método histórico crítico, basado en el examen y análisis crítico, filológico y documental de las fuentes históricas materiales y su posterior uso sistémico como base de una narración que </a:t>
            </a:r>
            <a:r>
              <a:rPr b="0" i="1" lang="es-ES" sz="3200" spc="-1" strike="noStrike">
                <a:solidFill>
                  <a:srgbClr val="ffffff"/>
                </a:solidFill>
                <a:latin typeface="Arial"/>
              </a:rPr>
              <a:t>“debe revelar, como mínimo con alguna probabilidad, las conexiones generales entre los acontecimientos.” </a:t>
            </a:r>
            <a:endParaRPr b="0" lang="en-US" sz="32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Barthold Georg Niebuhr (1776-1831)</a:t>
            </a:r>
            <a:endParaRPr b="0" lang="en-US" sz="3600" spc="-1" strike="noStrike">
              <a:solidFill>
                <a:srgbClr val="b7e7ff"/>
              </a:solidFill>
              <a:latin typeface="Arial"/>
            </a:endParaRPr>
          </a:p>
        </p:txBody>
      </p:sp>
      <p:sp>
        <p:nvSpPr>
          <p:cNvPr id="160" name=""/>
          <p:cNvSpPr txBox="1"/>
          <p:nvPr/>
        </p:nvSpPr>
        <p:spPr>
          <a:xfrm>
            <a:off x="395280" y="1773000"/>
            <a:ext cx="8540640" cy="48956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Historia Romana </a:t>
            </a:r>
            <a:r>
              <a:rPr b="0" lang="es-ES" sz="3200" spc="-1" strike="noStrike">
                <a:solidFill>
                  <a:srgbClr val="ffffff"/>
                </a:solidFill>
                <a:latin typeface="Arial"/>
              </a:rPr>
              <a:t>(1811-1812): ya no reproduce el relato de Tito Livio y los clásicos.</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 Ritter (1986): </a:t>
            </a:r>
            <a:r>
              <a:rPr b="0" lang="es-ES" sz="2800" spc="-1" strike="noStrike">
                <a:solidFill>
                  <a:srgbClr val="ffffff"/>
                </a:solidFill>
                <a:latin typeface="Arial"/>
              </a:rPr>
              <a:t>“... va más allá del interés erudito por detalles notables del pasado a favor de una más amplia reconstrucción de aspectos de la realidad pretérita sobre la base de pruebas convincentes ... establecer conexiones significativas entre acontecimientos y estructuras.”</a:t>
            </a:r>
            <a:endParaRPr b="0" lang="en-US" sz="28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10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b7e7ff"/>
                </a:solidFill>
                <a:latin typeface="Arial"/>
              </a:rPr>
              <a:t>Historia Teocrática</a:t>
            </a:r>
            <a:endParaRPr b="0" lang="en-US" sz="4400" spc="-1" strike="noStrike">
              <a:solidFill>
                <a:srgbClr val="b7e7ff"/>
              </a:solidFill>
              <a:latin typeface="Arial"/>
            </a:endParaRPr>
          </a:p>
        </p:txBody>
      </p:sp>
      <p:sp>
        <p:nvSpPr>
          <p:cNvPr id="90" name="PlaceHolder 2"/>
          <p:cNvSpPr>
            <a:spLocks noGrp="1"/>
          </p:cNvSpPr>
          <p:nvPr>
            <p:ph/>
          </p:nvPr>
        </p:nvSpPr>
        <p:spPr>
          <a:xfrm>
            <a:off x="324000" y="1557000"/>
            <a:ext cx="8540640" cy="4824360"/>
          </a:xfrm>
          <a:prstGeom prst="rect">
            <a:avLst/>
          </a:prstGeom>
          <a:noFill/>
          <a:ln w="0">
            <a:noFill/>
          </a:ln>
        </p:spPr>
        <p:txBody>
          <a:bodyPr anchor="t">
            <a:normAutofit/>
          </a:bodyPr>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Relato mítico: es una teogonía (theos: Dios; gonía: Origen)</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0" lang="es-ES" sz="3000" spc="-1" strike="noStrike">
                <a:solidFill>
                  <a:srgbClr val="ffffff"/>
                </a:solidFill>
                <a:latin typeface="Arial"/>
              </a:rPr>
              <a:t>Clifford Geertz (Antropología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La interpretación de las culturas” (1973)</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Toda sociedad tiene un sistema de significados y el Ser Humano necesita obtener “fuentes de iluminación simbólica”.</a:t>
            </a:r>
            <a:endParaRPr b="0" lang="en-US" sz="3000" spc="-1" strike="noStrike">
              <a:solidFill>
                <a:srgbClr val="ffffff"/>
              </a:solidFill>
              <a:latin typeface="Arial"/>
            </a:endParaRPr>
          </a:p>
          <a:p>
            <a:pPr marL="343080" indent="-34308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Símbolos clave de la cultura: requieren una “descripción densa”. </a:t>
            </a:r>
            <a:endParaRPr b="0" lang="en-US" sz="3000" spc="-1" strike="noStrike">
              <a:solidFill>
                <a:srgbClr val="ffffff"/>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4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Escuela alemana del siglo XIX: </a:t>
            </a:r>
            <a:br>
              <a:rPr sz="3600"/>
            </a:br>
            <a:r>
              <a:rPr b="1" lang="es-ES" sz="3600" spc="-1" strike="noStrike">
                <a:solidFill>
                  <a:srgbClr val="ffff00"/>
                </a:solidFill>
                <a:latin typeface="Arial"/>
              </a:rPr>
              <a:t>Leopold von Ranke (1795-1886)</a:t>
            </a:r>
            <a:endParaRPr b="0" lang="en-US" sz="3600" spc="-1" strike="noStrike">
              <a:solidFill>
                <a:srgbClr val="b7e7ff"/>
              </a:solidFill>
              <a:latin typeface="Arial"/>
            </a:endParaRPr>
          </a:p>
        </p:txBody>
      </p:sp>
      <p:sp>
        <p:nvSpPr>
          <p:cNvPr id="162" name=""/>
          <p:cNvSpPr txBox="1"/>
          <p:nvPr/>
        </p:nvSpPr>
        <p:spPr>
          <a:xfrm>
            <a:off x="395280" y="1773000"/>
            <a:ext cx="8540640" cy="4895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fesor de la Universidad de Berlín desde 1824.</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gunas de sus obras: </a:t>
            </a:r>
            <a:r>
              <a:rPr b="0" i="1" lang="es-ES" sz="2800" spc="-1" strike="noStrike">
                <a:solidFill>
                  <a:srgbClr val="ffffff"/>
                </a:solidFill>
                <a:latin typeface="Arial"/>
              </a:rPr>
              <a:t>Historia de los pueblos latinos y germánicos desde 1494 hasta 1535 </a:t>
            </a:r>
            <a:r>
              <a:rPr b="0" lang="es-ES" sz="2800" spc="-1" strike="noStrike">
                <a:solidFill>
                  <a:srgbClr val="ffffff"/>
                </a:solidFill>
                <a:latin typeface="Arial"/>
              </a:rPr>
              <a:t>(1824), </a:t>
            </a:r>
            <a:r>
              <a:rPr b="0" i="1" lang="es-ES" sz="2800" spc="-1" strike="noStrike">
                <a:solidFill>
                  <a:srgbClr val="ffffff"/>
                </a:solidFill>
                <a:latin typeface="Arial"/>
              </a:rPr>
              <a:t>Historia de los Papas </a:t>
            </a:r>
            <a:r>
              <a:rPr b="0" lang="es-ES" sz="2800" spc="-1" strike="noStrike">
                <a:solidFill>
                  <a:srgbClr val="ffffff"/>
                </a:solidFill>
                <a:latin typeface="Arial"/>
              </a:rPr>
              <a:t>(1834), </a:t>
            </a:r>
            <a:r>
              <a:rPr b="0" i="1" lang="es-ES" sz="2800" spc="-1" strike="noStrike">
                <a:solidFill>
                  <a:srgbClr val="ffffff"/>
                </a:solidFill>
                <a:latin typeface="Arial"/>
              </a:rPr>
              <a:t>Historia de Alemania en la época de la Reforma </a:t>
            </a:r>
            <a:r>
              <a:rPr b="0" lang="es-ES" sz="2800" spc="-1" strike="noStrike">
                <a:solidFill>
                  <a:srgbClr val="ffffff"/>
                </a:solidFill>
                <a:latin typeface="Arial"/>
              </a:rPr>
              <a:t>(1839-1843).</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A la historia se le ha asignado la tarea de juzgar el pasado, de instruir al presente en beneficio del porvenir. Mi trabajo no aspira a cumplir tan altas funciones. Sólo quiere mostrar lo que realmente sucedió.” (1824)</a:t>
            </a:r>
            <a:endParaRPr b="0" lang="en-US" sz="28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4" name=""/>
          <p:cNvSpPr txBox="1"/>
          <p:nvPr/>
        </p:nvSpPr>
        <p:spPr>
          <a:xfrm>
            <a:off x="395280" y="1413000"/>
            <a:ext cx="8540640" cy="5256000"/>
          </a:xfrm>
          <a:prstGeom prst="rect">
            <a:avLst/>
          </a:prstGeom>
          <a:noFill/>
          <a:ln w="0">
            <a:noFill/>
          </a:ln>
        </p:spPr>
        <p:txBody>
          <a:bodyPr anchor="t">
            <a:normAutofit fontScale="98000"/>
          </a:bodyPr>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scriptiva de la ciencia histórica: el trabajo metódico de la investigación archivística permitiría establecer los hechos, y reconstruir una imagen real y verdadera, objetiva, del pasado tal y como “realmente sucedió”.</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etodología empirista, de naturaleza positivista en su </a:t>
            </a:r>
            <a:r>
              <a:rPr b="0" i="1" lang="es-ES" sz="2800" spc="-1" strike="noStrike">
                <a:solidFill>
                  <a:srgbClr val="ffffff"/>
                </a:solidFill>
                <a:latin typeface="Arial"/>
              </a:rPr>
              <a:t>apego fidedigno al documento </a:t>
            </a:r>
            <a:r>
              <a:rPr b="0" lang="es-ES" sz="2800" spc="-1" strike="noStrike">
                <a:solidFill>
                  <a:srgbClr val="ffffff"/>
                </a:solidFill>
                <a:latin typeface="Arial"/>
              </a:rPr>
              <a:t>(lo </a:t>
            </a:r>
            <a:r>
              <a:rPr b="0" i="1" lang="es-ES" sz="2800" spc="-1" strike="noStrike">
                <a:solidFill>
                  <a:srgbClr val="ffffff"/>
                </a:solidFill>
                <a:latin typeface="Arial"/>
              </a:rPr>
              <a:t>positum</a:t>
            </a:r>
            <a:r>
              <a:rPr b="0" lang="es-ES" sz="2800" spc="-1" strike="noStrike">
                <a:solidFill>
                  <a:srgbClr val="ffffff"/>
                </a:solidFill>
                <a:latin typeface="Arial"/>
              </a:rPr>
              <a:t>: lo dado).</a:t>
            </a:r>
            <a:endParaRPr b="0" lang="en-US" sz="2800" spc="-1" strike="noStrike">
              <a:solidFill>
                <a:srgbClr val="ffffff"/>
              </a:solidFill>
              <a:latin typeface="Arial"/>
            </a:endParaRPr>
          </a:p>
          <a:p>
            <a:pPr marL="335880" indent="-3358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cepción del historiador: una especie de notario, que elimina y neutraliza su subjetividad (opiniones y creencias), y no emite juicios valorativos.</a:t>
            </a:r>
            <a:endParaRPr b="0" lang="en-US" sz="28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6" name=""/>
          <p:cNvSpPr txBox="1"/>
          <p:nvPr/>
        </p:nvSpPr>
        <p:spPr>
          <a:xfrm>
            <a:off x="395280" y="1413000"/>
            <a:ext cx="8540640" cy="5256000"/>
          </a:xfrm>
          <a:prstGeom prst="rect">
            <a:avLst/>
          </a:prstGeom>
          <a:noFill/>
          <a:ln w="0">
            <a:noFill/>
          </a:ln>
        </p:spPr>
        <p:txBody>
          <a:bodyPr anchor="t">
            <a:normAutofit fontScale="97000"/>
          </a:bodyPr>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ilosofía de la Historia: Historicismo.</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los hechos y situaciones pasadas son únicos e irrepetibles y no pueden comprenderse en virtud de categorías universales sino en virtud de sus contextos propios y particulares.”</a:t>
            </a:r>
            <a:endParaRPr b="0" lang="en-US" sz="2800" spc="-1" strike="noStrike">
              <a:solidFill>
                <a:srgbClr val="ffffff"/>
              </a:solidFill>
              <a:latin typeface="Arial"/>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hechos son únicos e irrepetibles en el tiempo y en el espacio, evolucionan de acuerdo con sus propios principios, deben ser comprendidos hermenéuticamente en su singularidad y </a:t>
            </a:r>
            <a:r>
              <a:rPr b="0" i="1" lang="es-ES" sz="2800" spc="-1" strike="noStrike">
                <a:solidFill>
                  <a:srgbClr val="ffffff"/>
                </a:solidFill>
                <a:latin typeface="Arial"/>
              </a:rPr>
              <a:t>no explicados mediante leyes universales</a:t>
            </a:r>
            <a:r>
              <a:rPr b="0" lang="es-ES" sz="2800" spc="-1" strike="noStrike">
                <a:solidFill>
                  <a:srgbClr val="ffffff"/>
                </a:solidFill>
                <a:latin typeface="Arial"/>
              </a:rPr>
              <a:t>, son resultado de la razón histórica y no de una razón atemporal.</a:t>
            </a:r>
            <a:endParaRPr b="0" lang="en-US" sz="2800" spc="-1" strike="noStrike">
              <a:solidFill>
                <a:srgbClr val="ffffff"/>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600"/>
            <a:ext cx="85104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Escuela alemana del siglo XIX: </a:t>
            </a:r>
            <a:br>
              <a:rPr sz="3200"/>
            </a:br>
            <a:r>
              <a:rPr b="1" lang="es-ES" sz="3200" spc="-1" strike="noStrike">
                <a:solidFill>
                  <a:srgbClr val="ffff00"/>
                </a:solidFill>
                <a:latin typeface="Arial"/>
              </a:rPr>
              <a:t>Leopold von Ranke (1795-1886)</a:t>
            </a:r>
            <a:endParaRPr b="0" lang="en-US" sz="3200" spc="-1" strike="noStrike">
              <a:solidFill>
                <a:srgbClr val="b7e7ff"/>
              </a:solidFill>
              <a:latin typeface="Arial"/>
            </a:endParaRPr>
          </a:p>
        </p:txBody>
      </p:sp>
      <p:sp>
        <p:nvSpPr>
          <p:cNvPr id="168" name=""/>
          <p:cNvSpPr txBox="1"/>
          <p:nvPr/>
        </p:nvSpPr>
        <p:spPr>
          <a:xfrm>
            <a:off x="395280" y="1413000"/>
            <a:ext cx="8540640" cy="5256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es un positivista: se distancia de Augusto Comt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mte (1798-1857) sostenía que el estudio de la sociedad (Sociología) debía encontrar las </a:t>
            </a:r>
            <a:r>
              <a:rPr b="0" i="1" lang="es-ES" sz="2800" spc="-1" strike="noStrike">
                <a:solidFill>
                  <a:srgbClr val="ffffff"/>
                </a:solidFill>
                <a:latin typeface="Arial"/>
              </a:rPr>
              <a:t>leyes generales </a:t>
            </a:r>
            <a:r>
              <a:rPr b="0" lang="es-ES" sz="2800" spc="-1" strike="noStrike">
                <a:solidFill>
                  <a:srgbClr val="ffffff"/>
                </a:solidFill>
                <a:latin typeface="Arial"/>
              </a:rPr>
              <a:t>que regulaban la </a:t>
            </a:r>
            <a:r>
              <a:rPr b="0" i="1" lang="es-ES" sz="2800" spc="-1" strike="noStrike">
                <a:solidFill>
                  <a:srgbClr val="ffffff"/>
                </a:solidFill>
                <a:latin typeface="Arial"/>
              </a:rPr>
              <a:t>evolución sociohistórica</a:t>
            </a:r>
            <a:r>
              <a:rPr b="0" lang="es-ES" sz="2800" spc="-1" strike="noStrike">
                <a:solidFill>
                  <a:srgbClr val="ffffff"/>
                </a:solidFill>
                <a:latin typeface="Arial"/>
              </a:rPr>
              <a:t> para </a:t>
            </a:r>
            <a:r>
              <a:rPr b="0" i="1" lang="es-ES" sz="2800" spc="-1" strike="noStrike">
                <a:solidFill>
                  <a:srgbClr val="ffffff"/>
                </a:solidFill>
                <a:latin typeface="Arial"/>
              </a:rPr>
              <a:t>predecir el curso futuro</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i="1" lang="es-ES" sz="2800" spc="-1" strike="noStrike">
                <a:solidFill>
                  <a:srgbClr val="ffffff"/>
                </a:solidFill>
                <a:latin typeface="Arial"/>
              </a:rPr>
              <a:t>investigación archivística sobre fuentes primarias </a:t>
            </a:r>
            <a:r>
              <a:rPr b="0" lang="es-ES" sz="2800" spc="-1" strike="noStrike">
                <a:solidFill>
                  <a:srgbClr val="ffffff"/>
                </a:solidFill>
                <a:latin typeface="Arial"/>
              </a:rPr>
              <a:t>propugnada por Ranke, fue secundada por Theodor Mommsen (Historia Romana, 1854): a la crítica filológica y epigráfica le sumó la numismática y la incipiente arquelogía.</a:t>
            </a:r>
            <a:endParaRPr b="0" lang="en-US" sz="2800" spc="-1" strike="noStrike">
              <a:solidFill>
                <a:srgbClr val="ffffff"/>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2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8640"/>
            <a:ext cx="8510400" cy="118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iglo XIX: Nace el Gremio Profesional </a:t>
            </a:r>
            <a:br>
              <a:rPr sz="3200"/>
            </a:br>
            <a:r>
              <a:rPr b="1" lang="es-ES" sz="3200" spc="-1" strike="noStrike">
                <a:solidFill>
                  <a:srgbClr val="ffff00"/>
                </a:solidFill>
                <a:latin typeface="Arial"/>
              </a:rPr>
              <a:t>de los Historiadores</a:t>
            </a:r>
            <a:endParaRPr b="0" lang="en-US" sz="3200" spc="-1" strike="noStrike">
              <a:solidFill>
                <a:srgbClr val="b7e7ff"/>
              </a:solidFill>
              <a:latin typeface="Arial"/>
            </a:endParaRPr>
          </a:p>
        </p:txBody>
      </p:sp>
      <p:sp>
        <p:nvSpPr>
          <p:cNvPr id="170" name=""/>
          <p:cNvSpPr txBox="1"/>
          <p:nvPr/>
        </p:nvSpPr>
        <p:spPr>
          <a:xfrm>
            <a:off x="395280" y="1341360"/>
            <a:ext cx="8540640" cy="55166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y Departamentos de Historia en la universidades europeas: Alemania 1810, Francia 1812, Gran Bretaña 1850.</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ados Unidos: fuertemente influenciado por el seminario de tipo rankeano.</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átedras de Historia a fines del siglo XIX: Alemania 175, Francia 71.</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rgen Revistas especializadas: </a:t>
            </a:r>
            <a:r>
              <a:rPr b="0" i="1" lang="es-ES" sz="2800" spc="-1" strike="noStrike">
                <a:solidFill>
                  <a:srgbClr val="ffffff"/>
                </a:solidFill>
                <a:latin typeface="Arial"/>
              </a:rPr>
              <a:t>Historische Zeitschrift </a:t>
            </a:r>
            <a:r>
              <a:rPr b="0" lang="es-ES" sz="2800" spc="-1" strike="noStrike">
                <a:solidFill>
                  <a:srgbClr val="ffffff"/>
                </a:solidFill>
                <a:latin typeface="Arial"/>
              </a:rPr>
              <a:t>1859, </a:t>
            </a:r>
            <a:r>
              <a:rPr b="0" i="1" lang="es-ES" sz="2800" spc="-1" strike="noStrike">
                <a:solidFill>
                  <a:srgbClr val="ffffff"/>
                </a:solidFill>
                <a:latin typeface="Arial"/>
              </a:rPr>
              <a:t>Revue Historique </a:t>
            </a:r>
            <a:r>
              <a:rPr b="0" lang="es-ES" sz="2800" spc="-1" strike="noStrike">
                <a:solidFill>
                  <a:srgbClr val="ffffff"/>
                </a:solidFill>
                <a:latin typeface="Arial"/>
              </a:rPr>
              <a:t>1876, </a:t>
            </a:r>
            <a:r>
              <a:rPr b="0" i="1" lang="es-ES" sz="2800" spc="-1" strike="noStrike">
                <a:solidFill>
                  <a:srgbClr val="ffffff"/>
                </a:solidFill>
                <a:latin typeface="Arial"/>
              </a:rPr>
              <a:t>Boletín de la Real Academia de la Historia</a:t>
            </a:r>
            <a:r>
              <a:rPr b="0" lang="es-ES" sz="2800" spc="-1" strike="noStrike">
                <a:solidFill>
                  <a:srgbClr val="ffffff"/>
                </a:solidFill>
                <a:latin typeface="Arial"/>
              </a:rPr>
              <a:t> 1877, </a:t>
            </a:r>
            <a:r>
              <a:rPr b="0" i="1" lang="es-ES" sz="2800" spc="-1" strike="noStrike">
                <a:solidFill>
                  <a:srgbClr val="ffffff"/>
                </a:solidFill>
                <a:latin typeface="Arial"/>
              </a:rPr>
              <a:t>English Historical Review</a:t>
            </a:r>
            <a:r>
              <a:rPr b="0" lang="es-ES" sz="2800" spc="-1" strike="noStrike">
                <a:solidFill>
                  <a:srgbClr val="ffffff"/>
                </a:solidFill>
                <a:latin typeface="Arial"/>
              </a:rPr>
              <a:t> 1886, </a:t>
            </a:r>
            <a:r>
              <a:rPr b="0" i="1" lang="es-ES" sz="2800" spc="-1" strike="noStrike">
                <a:solidFill>
                  <a:srgbClr val="ffffff"/>
                </a:solidFill>
                <a:latin typeface="Arial"/>
              </a:rPr>
              <a:t>American Historical Review </a:t>
            </a:r>
            <a:r>
              <a:rPr b="0" lang="es-ES" sz="2800" spc="-1" strike="noStrike">
                <a:solidFill>
                  <a:srgbClr val="ffffff"/>
                </a:solidFill>
                <a:latin typeface="Arial"/>
              </a:rPr>
              <a:t>1895.</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2" name="PlaceHolder 2"/>
          <p:cNvSpPr>
            <a:spLocks noGrp="1"/>
          </p:cNvSpPr>
          <p:nvPr>
            <p:ph type="subTitle"/>
          </p:nvPr>
        </p:nvSpPr>
        <p:spPr>
          <a:xfrm>
            <a:off x="539640" y="1628280"/>
            <a:ext cx="8136000" cy="47530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poema empieza en el origen de todas las cosas. Nada existe aún, ni siquiera los dioses. De esta nada surgen los principios cósmicos Apsu, agua fresca, y Tiamat, agua salada. El primer paso en la teogonía es el nacimiento de Mummu, el primogénito de Apsu y Tiamat. Los dioses aumentan y se multiplican; más tarde se muestran rebeldes contra esa divina (y original) terna, y Apsu decide destruirlos… Sin embargo,el sabio Ea triunfa por medios mágicos. Empleando un poderoso hechizo sobre las aguas, el elemento de Apsu, sume a su ancestro en un profundo sueño, y hace prisionero a Mummu.” (Edward Eyre, </a:t>
            </a:r>
            <a:r>
              <a:rPr b="1" i="1" lang="es-ES" sz="2400" spc="-1" strike="noStrike">
                <a:solidFill>
                  <a:srgbClr val="ffffff"/>
                </a:solidFill>
                <a:latin typeface="Arial"/>
              </a:rPr>
              <a:t>European Civilization</a:t>
            </a:r>
            <a:r>
              <a:rPr b="1" lang="es-ES" sz="2400" spc="-1" strike="noStrike">
                <a:solidFill>
                  <a:srgbClr val="ffffff"/>
                </a:solidFill>
                <a:latin typeface="Arial"/>
              </a:rPr>
              <a:t>, London, 1935)</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Poema babilónico sobre </a:t>
            </a:r>
            <a:br>
              <a:rPr sz="3200"/>
            </a:br>
            <a:r>
              <a:rPr b="1" lang="es-ES" sz="3200" spc="-1" strike="noStrike">
                <a:solidFill>
                  <a:srgbClr val="b7e7ff"/>
                </a:solidFill>
                <a:latin typeface="Arial"/>
              </a:rPr>
              <a:t>la Creación (siglo VII a.C.)</a:t>
            </a:r>
            <a:endParaRPr b="0" lang="en-US" sz="3200" spc="-1" strike="noStrike">
              <a:solidFill>
                <a:srgbClr val="b7e7ff"/>
              </a:solidFill>
              <a:latin typeface="Arial"/>
            </a:endParaRPr>
          </a:p>
        </p:txBody>
      </p:sp>
      <p:sp>
        <p:nvSpPr>
          <p:cNvPr id="94" name="PlaceHolder 2"/>
          <p:cNvSpPr>
            <a:spLocks noGrp="1"/>
          </p:cNvSpPr>
          <p:nvPr>
            <p:ph type="subTitle"/>
          </p:nvPr>
        </p:nvSpPr>
        <p:spPr>
          <a:xfrm>
            <a:off x="323640" y="1844280"/>
            <a:ext cx="8569080" cy="4753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Tiamat, entonces, medita vengar a los conquistados. Contrae matrimonio con Qingu, lo hace jefe supremo de sus ejércitos y confía a su cuidado las tablillas del destino. Ea, adivinando los propósitos de Tiamat, los revela al antiguo dios Anshar. Al principio Tiamat triunfa contra esa coalición, pero en ese momento surge Marduk, quien reta a Tiamat a singular combate, la vence dándole muerte, abre su cuerpo en dos “como a un pez” y de una mitad hace los cielos, en donde coloca las estrellas, y de la otra mitad hace la tierra. De la sangre de Marduk se hace el hombre.”</a:t>
            </a:r>
            <a:endParaRPr b="0" lang="en-US" sz="24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333360"/>
            <a:ext cx="7772400" cy="11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7e7ff"/>
                </a:solidFill>
                <a:latin typeface="Arial"/>
              </a:rPr>
              <a:t>Relato de la Piedra Moabita </a:t>
            </a:r>
            <a:br>
              <a:rPr sz="3200"/>
            </a:br>
            <a:r>
              <a:rPr b="1" lang="es-ES" sz="3200" spc="-1" strike="noStrike">
                <a:solidFill>
                  <a:srgbClr val="b7e7ff"/>
                </a:solidFill>
                <a:latin typeface="Arial"/>
              </a:rPr>
              <a:t>( siglo IX a. C.)</a:t>
            </a:r>
            <a:endParaRPr b="0" lang="en-US" sz="3200" spc="-1" strike="noStrike">
              <a:solidFill>
                <a:srgbClr val="b7e7ff"/>
              </a:solidFill>
              <a:latin typeface="Arial"/>
            </a:endParaRPr>
          </a:p>
        </p:txBody>
      </p:sp>
      <p:sp>
        <p:nvSpPr>
          <p:cNvPr id="96" name="PlaceHolder 2"/>
          <p:cNvSpPr>
            <a:spLocks noGrp="1"/>
          </p:cNvSpPr>
          <p:nvPr>
            <p:ph type="subTitle"/>
          </p:nvPr>
        </p:nvSpPr>
        <p:spPr>
          <a:xfrm>
            <a:off x="394920" y="1699920"/>
            <a:ext cx="8280360" cy="5157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Yo soy Mesha, el hijo de Kemosh, rey de Moab. Mi padre fue rey de Moab durante treinta años y después de mi padre yo fui el rey. Y yo edifiqué este alto lugar para Kemosh, porque me salvó se mi ruina y me hizo triunfar sobre mis enemigo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mri, rey de Israel, fue el opresor de Moab durante largo tiempo, porque Kemosh estaba encolerizado contra su país. Su hijo lo sucedió, y el también dijo ‘oprimiré a Moab’. Esto lo dijo en mis días, y yo triunfé sobre él y su casa, e Israel pereció para siempr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Y Omri se posesionó de la tierra de Mehedeba y vivió durante su vida y la mitad de la vida de sus hijos, cuarenta años; pero Kemosh nos la devolvió en mis tiempos.”</a:t>
            </a:r>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0"/>
            <a:ext cx="777240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7e7ff"/>
                </a:solidFill>
                <a:latin typeface="Arial"/>
              </a:rPr>
              <a:t>Relato de Esar-Haddon, rey de Nínive.</a:t>
            </a:r>
            <a:br>
              <a:rPr sz="2800"/>
            </a:br>
            <a:r>
              <a:rPr b="1" lang="es-ES" sz="2800" spc="-1" strike="noStrike">
                <a:solidFill>
                  <a:srgbClr val="b7e7ff"/>
                </a:solidFill>
                <a:latin typeface="Arial"/>
              </a:rPr>
              <a:t>Campaña contra los asesinos de su padre</a:t>
            </a:r>
            <a:br>
              <a:rPr sz="2800"/>
            </a:br>
            <a:r>
              <a:rPr b="1" lang="es-ES" sz="2800" spc="-1" strike="noStrike">
                <a:solidFill>
                  <a:srgbClr val="b7e7ff"/>
                </a:solidFill>
                <a:latin typeface="Arial"/>
              </a:rPr>
              <a:t>Senaquerib ( siglo VII a.C.)</a:t>
            </a:r>
            <a:endParaRPr b="0" lang="en-US" sz="2800" spc="-1" strike="noStrike">
              <a:solidFill>
                <a:srgbClr val="b7e7ff"/>
              </a:solidFill>
              <a:latin typeface="Arial"/>
            </a:endParaRPr>
          </a:p>
        </p:txBody>
      </p:sp>
      <p:sp>
        <p:nvSpPr>
          <p:cNvPr id="98" name="PlaceHolder 2"/>
          <p:cNvSpPr>
            <a:spLocks noGrp="1"/>
          </p:cNvSpPr>
          <p:nvPr>
            <p:ph type="subTitle"/>
          </p:nvPr>
        </p:nvSpPr>
        <p:spPr>
          <a:xfrm>
            <a:off x="611280" y="2781000"/>
            <a:ext cx="8208720" cy="26636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temor a los grandes dioses, mis señores, acarreó su ruina. Al escuchar el tumulto de mi batalla terrible se pusieron fuera de sí. La diosa Ishtar, diosa de las batallas y de las peleas, ella que ama mi sacerdocio, permaneció a mi lado y deshizo su línea. Rompió su línea de batalla, y en su asamblea dijeron: ‘Es nuestro rey’.”</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14240" y="285840"/>
            <a:ext cx="77724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b050"/>
                </a:solidFill>
                <a:latin typeface="Arial"/>
              </a:rPr>
              <a:t>Hesíodo (s. VIII a.E.C.)</a:t>
            </a:r>
            <a:endParaRPr b="0" lang="en-US" sz="3600" spc="-1" strike="noStrike">
              <a:solidFill>
                <a:srgbClr val="b7e7ff"/>
              </a:solidFill>
              <a:latin typeface="Arial"/>
            </a:endParaRPr>
          </a:p>
        </p:txBody>
      </p:sp>
      <p:sp>
        <p:nvSpPr>
          <p:cNvPr id="100" name="PlaceHolder 2"/>
          <p:cNvSpPr>
            <a:spLocks noGrp="1"/>
          </p:cNvSpPr>
          <p:nvPr>
            <p:ph type="subTitle"/>
          </p:nvPr>
        </p:nvSpPr>
        <p:spPr>
          <a:xfrm>
            <a:off x="642600" y="1357200"/>
            <a:ext cx="8072280" cy="5143680"/>
          </a:xfrm>
          <a:prstGeom prst="rect">
            <a:avLst/>
          </a:prstGeom>
          <a:noFill/>
          <a:ln w="0">
            <a:noFill/>
          </a:ln>
        </p:spPr>
        <p:txBody>
          <a:bodyPr anchor="t">
            <a:noAutofit/>
          </a:bodyPr>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b050"/>
                </a:solidFill>
                <a:latin typeface="Arial"/>
              </a:rPr>
              <a:t> </a:t>
            </a:r>
            <a:r>
              <a:rPr b="1" lang="es-ES" sz="4000" spc="-1" strike="noStrike">
                <a:solidFill>
                  <a:srgbClr val="00b050"/>
                </a:solidFill>
                <a:latin typeface="Arial"/>
              </a:rPr>
              <a:t>Contemporáneo de Homer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b050"/>
                </a:solidFill>
                <a:latin typeface="Arial"/>
              </a:rPr>
              <a:t> </a:t>
            </a:r>
            <a:r>
              <a:rPr b="1" i="1" lang="es-ES" sz="4000" spc="-1" strike="noStrike">
                <a:solidFill>
                  <a:srgbClr val="00b050"/>
                </a:solidFill>
                <a:latin typeface="Arial"/>
              </a:rPr>
              <a:t>Los Trabajos y los Días, Teogonía.</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Sistematiza el corpus mitológico griego.</a:t>
            </a:r>
            <a:endParaRPr b="0" lang="en-US" sz="4000" spc="-1" strike="noStrike">
              <a:solidFill>
                <a:srgbClr val="ffffff"/>
              </a:solidFill>
              <a:latin typeface="Arial"/>
            </a:endParaRPr>
          </a:p>
          <a:p>
            <a:pPr>
              <a:spcBef>
                <a:spcPts val="1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b050"/>
                </a:solidFill>
                <a:latin typeface="Arial"/>
              </a:rPr>
              <a:t> </a:t>
            </a:r>
            <a:r>
              <a:rPr b="1" lang="es-ES" sz="4000" spc="-1" strike="noStrike">
                <a:solidFill>
                  <a:srgbClr val="00b050"/>
                </a:solidFill>
                <a:latin typeface="Arial"/>
              </a:rPr>
              <a:t>Los interpreta en un sentido moralizante. </a:t>
            </a:r>
            <a:endParaRPr b="0" lang="en-US" sz="4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6:45:00Z</dcterms:created>
  <dc:creator>Bernardo Patricio González Mella</dc:creator>
  <dc:description/>
  <dc:language>en-US</dc:language>
  <cp:lastModifiedBy>Bernardo González</cp:lastModifiedBy>
  <dcterms:modified xsi:type="dcterms:W3CDTF">2012-01-05T19:43:22Z</dcterms:modified>
  <cp:revision>81</cp:revision>
  <dc:subject/>
  <dc:title>Historia de la Historiografía</dc:title>
</cp:coreProperties>
</file>