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CEF8-C698-4ABA-8BA5-6320714F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9B1-AD52-44B9-828F-8E77519E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87C-8F59-4E4D-8D39-74C8EFD9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4D2-7F37-4B9D-9323-61FD631C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531-6571-461E-8E5C-5EFB8852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3F7-20C0-4EDD-97A1-F876776A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543-E033-4400-B346-7BC23AAA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F5E-7D66-4265-8EC2-8A74DE46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65D-024F-4043-8C7E-85C793DB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747-E5E1-4D63-B24F-8E6C5D4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95B-9469-42B3-B701-59F660F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17C4-E548-4089-8252-9BBBEFAB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2669-C141-4572-A346-2585E1CC7E6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 Imagen" descr="Abort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Beso ga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Imagen" descr="Beso hetero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 Imagen" descr="Beso hetero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Beso lésbic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Imagen" descr="Amigos 1.jpg"/>
          <p:cNvPicPr/>
          <p:nvPr/>
        </p:nvPicPr>
        <p:blipFill>
          <a:blip r:embed="rId1"/>
          <a:stretch/>
        </p:blipFill>
        <p:spPr>
          <a:xfrm>
            <a:off x="176040" y="0"/>
            <a:ext cx="8791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 Imagen" descr="Manos entrelazada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 Imagen" descr="Atardecer en la play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 Imagen" descr="Amistad 4. Peluche.bmp"/>
          <p:cNvPicPr/>
          <p:nvPr/>
        </p:nvPicPr>
        <p:blipFill>
          <a:blip r:embed="rId1"/>
          <a:stretch/>
        </p:blipFill>
        <p:spPr>
          <a:xfrm>
            <a:off x="1000080" y="142920"/>
            <a:ext cx="7429680" cy="65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Imagen" descr="Gato y Perr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 Imagen" descr="The Simpsons.jpg"/>
          <p:cNvPicPr/>
          <p:nvPr/>
        </p:nvPicPr>
        <p:blipFill>
          <a:blip r:embed="rId1"/>
          <a:stretch/>
        </p:blipFill>
        <p:spPr>
          <a:xfrm>
            <a:off x="306360" y="571680"/>
            <a:ext cx="8423280" cy="56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1 Imagen" descr="Violencia a muj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Guerra.jpg"/>
          <p:cNvPicPr/>
          <p:nvPr/>
        </p:nvPicPr>
        <p:blipFill>
          <a:blip r:embed="rId1"/>
          <a:stretch/>
        </p:blipFill>
        <p:spPr>
          <a:xfrm>
            <a:off x="15840" y="0"/>
            <a:ext cx="9112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Imagen" descr="Soldado. Colombia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Imagen" descr="Soldado islámico.jpg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 Imagen" descr="allende.jpg"/>
          <p:cNvPicPr/>
          <p:nvPr/>
        </p:nvPicPr>
        <p:blipFill>
          <a:blip r:embed="rId1"/>
          <a:stretch/>
        </p:blipFill>
        <p:spPr>
          <a:xfrm>
            <a:off x="-39600" y="0"/>
            <a:ext cx="9223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Imagen" descr="Che Guevara.jpg"/>
          <p:cNvPicPr/>
          <p:nvPr/>
        </p:nvPicPr>
        <p:blipFill>
          <a:blip r:embed="rId1"/>
          <a:stretch/>
        </p:blipFill>
        <p:spPr>
          <a:xfrm>
            <a:off x="0" y="31680"/>
            <a:ext cx="900108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Imagen" descr="Pinoch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1 Imagen" descr="Víctor Jara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3 Marcador de contenido" descr="pinochet_aylwin.jpg"/>
          <p:cNvPicPr/>
          <p:nvPr/>
        </p:nvPicPr>
        <p:blipFill>
          <a:blip r:embed="rId1"/>
          <a:stretch/>
        </p:blipFill>
        <p:spPr>
          <a:xfrm>
            <a:off x="1763640" y="33480"/>
            <a:ext cx="640872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3 Marcador de contenido" descr="Aylwin Pin 2.gif"/>
          <p:cNvPicPr/>
          <p:nvPr/>
        </p:nvPicPr>
        <p:blipFill>
          <a:blip r:embed="rId1"/>
          <a:stretch/>
        </p:blipFill>
        <p:spPr>
          <a:xfrm>
            <a:off x="395280" y="270000"/>
            <a:ext cx="8381880" cy="65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mireya-garcia1.jpg"/>
          <p:cNvPicPr/>
          <p:nvPr/>
        </p:nvPicPr>
        <p:blipFill>
          <a:blip r:embed="rId1"/>
          <a:stretch/>
        </p:blipFill>
        <p:spPr>
          <a:xfrm>
            <a:off x="1187280" y="0"/>
            <a:ext cx="6901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 Imagen" descr="Violencia a niño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3 Marcador de contenido" descr="4-familiares-de-desaparecidos-en-calama-chile.jpg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3 Marcador de contenido" descr="el pago de chile.jpg"/>
          <p:cNvPicPr/>
          <p:nvPr/>
        </p:nvPicPr>
        <p:blipFill>
          <a:blip r:embed="rId1"/>
          <a:stretch/>
        </p:blipFill>
        <p:spPr>
          <a:xfrm>
            <a:off x="0" y="2160720"/>
            <a:ext cx="9144000" cy="34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Imagen" descr="Ángel.gif"/>
          <p:cNvPicPr/>
          <p:nvPr/>
        </p:nvPicPr>
        <p:blipFill>
          <a:blip r:embed="rId1"/>
          <a:stretch/>
        </p:blipFill>
        <p:spPr>
          <a:xfrm>
            <a:off x="71280" y="0"/>
            <a:ext cx="8786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1 Imagen" descr="El Purgatorio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Imagen" descr="El grito. Van G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 Imagen" descr="Mujer iraquí llorando. 24.12.2006. Reut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1 Imagen" descr="Tumba cristiana.jp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 Imagen" descr="pobreza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Imagen" descr="pobrez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Imagen" descr="riquez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1 Imagen" descr="Dalai L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1 Imagen" descr="riqueza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Imagen" descr="Anciana y rosas.jpg"/>
          <p:cNvPicPr/>
          <p:nvPr/>
        </p:nvPicPr>
        <p:blipFill>
          <a:blip r:embed="rId1"/>
          <a:stretch/>
        </p:blipFill>
        <p:spPr>
          <a:xfrm>
            <a:off x="6660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1 Imagen" descr="Pareja tercera edad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1 Imagen" descr="Mano y bastón.jpg"/>
          <p:cNvPicPr/>
          <p:nvPr/>
        </p:nvPicPr>
        <p:blipFill>
          <a:blip r:embed="rId1"/>
          <a:stretch/>
        </p:blipFill>
        <p:spPr>
          <a:xfrm>
            <a:off x="642960" y="0"/>
            <a:ext cx="8286840" cy="67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Gabriela Mistral.jpg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Pablo Neru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Imagen" descr="Adolescente. Pamela.jpg"/>
          <p:cNvPicPr/>
          <p:nvPr/>
        </p:nvPicPr>
        <p:blipFill>
          <a:blip r:embed="rId1"/>
          <a:stretch/>
        </p:blipFill>
        <p:spPr>
          <a:xfrm>
            <a:off x="42840" y="0"/>
            <a:ext cx="905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1 Imagen" descr="Joven. Will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Madre e hija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2:17Z</dcterms:created>
  <dc:creator>Bernardo</dc:creator>
  <dc:description/>
  <dc:language>en-US</dc:language>
  <cp:lastModifiedBy>Bernardo</cp:lastModifiedBy>
  <dcterms:modified xsi:type="dcterms:W3CDTF">2010-08-05T09:37:30Z</dcterms:modified>
  <cp:revision>16</cp:revision>
  <dc:subject/>
  <dc:title>Diapositiva 1</dc:title>
</cp:coreProperties>
</file>