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9B3-4E9B-4D15-9AD3-4C6FF72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FA0-8315-47F0-8FF4-DF19EE0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BE1-B05F-4546-8C9C-10F8B203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668-8A35-42ED-8218-62386A6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A5B-26A5-416D-8536-FE1DA28C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58E-0C97-44F3-AF52-02838444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562-AC07-4735-A561-E5640B8E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AD1-B442-41CC-ACAC-0B7B6102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C5B-4FCA-490D-B304-B7DB243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7E0-C65B-4EF1-9868-391DBC7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000-35BB-40A8-9E4D-722D576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767-E44F-4521-B65E-64B9107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57B-3D53-494D-ABAC-1BB87F9519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Abor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Beso ga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Beso hetero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Beso hetero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Beso lésbi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Amigos 1.jpg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Manos entrelazad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Atardecer en la play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Amistad 4. Peluche.bmp"/>
          <p:cNvPicPr/>
          <p:nvPr/>
        </p:nvPicPr>
        <p:blipFill>
          <a:blip r:embed="rId1"/>
          <a:stretch/>
        </p:blipFill>
        <p:spPr>
          <a:xfrm>
            <a:off x="1000080" y="142920"/>
            <a:ext cx="74296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Gato y Per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The Simpsons.jpg"/>
          <p:cNvPicPr/>
          <p:nvPr/>
        </p:nvPicPr>
        <p:blipFill>
          <a:blip r:embed="rId1"/>
          <a:stretch/>
        </p:blipFill>
        <p:spPr>
          <a:xfrm>
            <a:off x="306360" y="571680"/>
            <a:ext cx="84232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Violencia a muj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Guerra.jpg"/>
          <p:cNvPicPr/>
          <p:nvPr/>
        </p:nvPicPr>
        <p:blipFill>
          <a:blip r:embed="rId1"/>
          <a:stretch/>
        </p:blipFill>
        <p:spPr>
          <a:xfrm>
            <a:off x="1584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Soldado. Colombia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Soldado islámico.jpg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allende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Che Guevara.jpg"/>
          <p:cNvPicPr/>
          <p:nvPr/>
        </p:nvPicPr>
        <p:blipFill>
          <a:blip r:embed="rId1"/>
          <a:stretch/>
        </p:blipFill>
        <p:spPr>
          <a:xfrm>
            <a:off x="0" y="31680"/>
            <a:ext cx="900108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inoch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Víctor Jara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pinochet_aylwin.jpg"/>
          <p:cNvPicPr/>
          <p:nvPr/>
        </p:nvPicPr>
        <p:blipFill>
          <a:blip r:embed="rId1"/>
          <a:stretch/>
        </p:blipFill>
        <p:spPr>
          <a:xfrm>
            <a:off x="1763640" y="33480"/>
            <a:ext cx="640872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Marcador de contenido" descr="Aylwin Pin 2.gif"/>
          <p:cNvPicPr/>
          <p:nvPr/>
        </p:nvPicPr>
        <p:blipFill>
          <a:blip r:embed="rId1"/>
          <a:stretch/>
        </p:blipFill>
        <p:spPr>
          <a:xfrm>
            <a:off x="395280" y="270000"/>
            <a:ext cx="838188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mireya-garcia1.jpg"/>
          <p:cNvPicPr/>
          <p:nvPr/>
        </p:nvPicPr>
        <p:blipFill>
          <a:blip r:embed="rId1"/>
          <a:stretch/>
        </p:blipFill>
        <p:spPr>
          <a:xfrm>
            <a:off x="1187280" y="0"/>
            <a:ext cx="69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Violencia a niñ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Marcador de contenido" descr="4-familiares-de-desaparecidos-en-calama-chil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Marcador de contenido" descr="el pago de chile.jpg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34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Ángel.gif"/>
          <p:cNvPicPr/>
          <p:nvPr/>
        </p:nvPicPr>
        <p:blipFill>
          <a:blip r:embed="rId1"/>
          <a:stretch/>
        </p:blipFill>
        <p:spPr>
          <a:xfrm>
            <a:off x="7128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 Imagen" descr="El Purgatorio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Imagen" descr="El grito. Van G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Mujer iraquí llorando. 24.12.2006. Reut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 Imagen" descr="Tumba cristiana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Imagen" descr="pobreza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pobrez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Imagen" descr="riquez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Dalai L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riquez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Imagen" descr="Anciana y rosas.jpg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 Imagen" descr="Pareja tercera edad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Mano y bastón.jpg"/>
          <p:cNvPicPr/>
          <p:nvPr/>
        </p:nvPicPr>
        <p:blipFill>
          <a:blip r:embed="rId1"/>
          <a:stretch/>
        </p:blipFill>
        <p:spPr>
          <a:xfrm>
            <a:off x="642960" y="0"/>
            <a:ext cx="8286840" cy="67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Gabriela Mistral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Pablo Neru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Adolescente. Pamela.jpg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Joven. Wil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Madre e hija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2:17Z</dcterms:created>
  <dc:creator>Bernardo</dc:creator>
  <dc:description/>
  <dc:language>en-US</dc:language>
  <cp:lastModifiedBy>Bernardo</cp:lastModifiedBy>
  <dcterms:modified xsi:type="dcterms:W3CDTF">2010-08-05T09:37:30Z</dcterms:modified>
  <cp:revision>16</cp:revision>
  <dc:subject/>
  <dc:title>Diapositiva 1</dc:title>
</cp:coreProperties>
</file>