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9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E25E-6BFE-42C0-B46C-C5D2D733D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4224-0B44-4E64-8F2B-A53FC5E4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6B37-E021-45E1-B449-5BE030135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2918-E0F3-4FC4-A855-20563C8D0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4DFC-97D0-4D0B-B5AD-6C3EDDEB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AB43-672B-43B2-8D8E-F6D252DC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0A1E-5CBE-4A7E-9CEC-AF4D209C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EC36-1853-4FB3-B0E3-EE0B1606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B825-E041-4731-988C-EAE2F690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01B2-D9E6-4650-BE70-5D249BB2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4635-355B-4920-9EE6-A07C9938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7D95-B396-4663-8923-033411B3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1612-58F4-4334-9EE0-BE21D5B9C4D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 Imagen" descr="Abort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 Imagen" descr="Beso ga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 Imagen" descr="Beso hetero.jpg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 Imagen" descr="Beso hetero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 Imagen" descr="Beso lésbic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 Imagen" descr="Amigos 1.jpg"/>
          <p:cNvPicPr/>
          <p:nvPr/>
        </p:nvPicPr>
        <p:blipFill>
          <a:blip r:embed="rId1"/>
          <a:stretch/>
        </p:blipFill>
        <p:spPr>
          <a:xfrm>
            <a:off x="176040" y="0"/>
            <a:ext cx="8791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 Imagen" descr="Manos entrelazada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 Imagen" descr="Atardecer en la play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1 Imagen" descr="Amistad 4. Peluche.bmp"/>
          <p:cNvPicPr/>
          <p:nvPr/>
        </p:nvPicPr>
        <p:blipFill>
          <a:blip r:embed="rId1"/>
          <a:stretch/>
        </p:blipFill>
        <p:spPr>
          <a:xfrm>
            <a:off x="1000080" y="142920"/>
            <a:ext cx="7429680" cy="650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1 Imagen" descr="Gato y Perr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1 Imagen" descr="The Simpsons.jpg"/>
          <p:cNvPicPr/>
          <p:nvPr/>
        </p:nvPicPr>
        <p:blipFill>
          <a:blip r:embed="rId1"/>
          <a:stretch/>
        </p:blipFill>
        <p:spPr>
          <a:xfrm>
            <a:off x="306360" y="571680"/>
            <a:ext cx="8423280" cy="56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1 Imagen" descr="Violencia a muj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 Imagen" descr="Guerra.jpg"/>
          <p:cNvPicPr/>
          <p:nvPr/>
        </p:nvPicPr>
        <p:blipFill>
          <a:blip r:embed="rId1"/>
          <a:stretch/>
        </p:blipFill>
        <p:spPr>
          <a:xfrm>
            <a:off x="15840" y="0"/>
            <a:ext cx="9112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 Imagen" descr="Soldado. Colombia.jpg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1 Imagen" descr="Soldado islámico.jpg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8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1 Imagen" descr="allende.jpg"/>
          <p:cNvPicPr/>
          <p:nvPr/>
        </p:nvPicPr>
        <p:blipFill>
          <a:blip r:embed="rId1"/>
          <a:stretch/>
        </p:blipFill>
        <p:spPr>
          <a:xfrm>
            <a:off x="-39600" y="0"/>
            <a:ext cx="9223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1 Imagen" descr="Che Guevara.jpg"/>
          <p:cNvPicPr/>
          <p:nvPr/>
        </p:nvPicPr>
        <p:blipFill>
          <a:blip r:embed="rId1"/>
          <a:stretch/>
        </p:blipFill>
        <p:spPr>
          <a:xfrm>
            <a:off x="0" y="31680"/>
            <a:ext cx="9001080" cy="67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1 Imagen" descr="Pinoch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1 Imagen" descr="Víctor Jara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3 Marcador de contenido" descr="pinochet_aylwin.jpg"/>
          <p:cNvPicPr/>
          <p:nvPr/>
        </p:nvPicPr>
        <p:blipFill>
          <a:blip r:embed="rId1"/>
          <a:stretch/>
        </p:blipFill>
        <p:spPr>
          <a:xfrm>
            <a:off x="1763640" y="33480"/>
            <a:ext cx="6408720" cy="681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3 Marcador de contenido" descr="Aylwin Pin 2.gif"/>
          <p:cNvPicPr/>
          <p:nvPr/>
        </p:nvPicPr>
        <p:blipFill>
          <a:blip r:embed="rId1"/>
          <a:stretch/>
        </p:blipFill>
        <p:spPr>
          <a:xfrm>
            <a:off x="395280" y="270000"/>
            <a:ext cx="8381880" cy="65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3 Marcador de contenido" descr="mireya-garcia1.jpg"/>
          <p:cNvPicPr/>
          <p:nvPr/>
        </p:nvPicPr>
        <p:blipFill>
          <a:blip r:embed="rId1"/>
          <a:stretch/>
        </p:blipFill>
        <p:spPr>
          <a:xfrm>
            <a:off x="1187280" y="0"/>
            <a:ext cx="6901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 Imagen" descr="Violencia a niño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3 Marcador de contenido" descr="4-familiares-de-desaparecidos-en-calama-chile.jpg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3 Marcador de contenido" descr="el pago de chile.jpg"/>
          <p:cNvPicPr/>
          <p:nvPr/>
        </p:nvPicPr>
        <p:blipFill>
          <a:blip r:embed="rId1"/>
          <a:stretch/>
        </p:blipFill>
        <p:spPr>
          <a:xfrm>
            <a:off x="0" y="2160720"/>
            <a:ext cx="9144000" cy="340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1 Imagen" descr="Ángel.gif"/>
          <p:cNvPicPr/>
          <p:nvPr/>
        </p:nvPicPr>
        <p:blipFill>
          <a:blip r:embed="rId1"/>
          <a:stretch/>
        </p:blipFill>
        <p:spPr>
          <a:xfrm>
            <a:off x="71280" y="0"/>
            <a:ext cx="8786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1 Imagen" descr="El Purgatorio.jpg"/>
          <p:cNvPicPr/>
          <p:nvPr/>
        </p:nvPicPr>
        <p:blipFill>
          <a:blip r:embed="rId1"/>
          <a:stretch/>
        </p:blipFill>
        <p:spPr>
          <a:xfrm>
            <a:off x="0" y="36360"/>
            <a:ext cx="9144000" cy="682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1 Imagen" descr="El grito. Van G.jpg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1 Imagen" descr="Mujer iraquí llorando. 24.12.2006. Reuter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1 Imagen" descr="Tumba cristiana.jpg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1 Imagen" descr="pobreza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1 Imagen" descr="pobreza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1 Imagen" descr="riquez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 Imagen" descr="Dalai Lam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1 Imagen" descr="riqueza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1 Imagen" descr="Anciana y rosas.jpg"/>
          <p:cNvPicPr/>
          <p:nvPr/>
        </p:nvPicPr>
        <p:blipFill>
          <a:blip r:embed="rId1"/>
          <a:stretch/>
        </p:blipFill>
        <p:spPr>
          <a:xfrm>
            <a:off x="66600" y="0"/>
            <a:ext cx="90108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1 Imagen" descr="Pareja tercera edad.jpg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1 Imagen" descr="Mano y bastón.jpg"/>
          <p:cNvPicPr/>
          <p:nvPr/>
        </p:nvPicPr>
        <p:blipFill>
          <a:blip r:embed="rId1"/>
          <a:stretch/>
        </p:blipFill>
        <p:spPr>
          <a:xfrm>
            <a:off x="642960" y="0"/>
            <a:ext cx="8286840" cy="677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 Imagen" descr="Gabriela Mistral.jpg"/>
          <p:cNvPicPr/>
          <p:nvPr/>
        </p:nvPicPr>
        <p:blipFill>
          <a:blip r:embed="rId1"/>
          <a:stretch/>
        </p:blipFill>
        <p:spPr>
          <a:xfrm>
            <a:off x="142920" y="0"/>
            <a:ext cx="9001080" cy="68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 Imagen" descr="Pablo Nerud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 Imagen" descr="Adolescente. Pamela.jpg"/>
          <p:cNvPicPr/>
          <p:nvPr/>
        </p:nvPicPr>
        <p:blipFill>
          <a:blip r:embed="rId1"/>
          <a:stretch/>
        </p:blipFill>
        <p:spPr>
          <a:xfrm>
            <a:off x="42840" y="0"/>
            <a:ext cx="9058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 Imagen" descr="Joven. Will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 Imagen" descr="Madre e hija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52:17Z</dcterms:created>
  <dc:creator>Bernardo</dc:creator>
  <dc:description/>
  <dc:language>en-US</dc:language>
  <cp:lastModifiedBy>Bernardo</cp:lastModifiedBy>
  <dcterms:modified xsi:type="dcterms:W3CDTF">2010-08-05T09:37:30Z</dcterms:modified>
  <cp:revision>16</cp:revision>
  <dc:subject/>
  <dc:title>Diapositiva 1</dc:title>
</cp:coreProperties>
</file>