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3B1-0F0E-496C-A4E3-0CF94AF0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A46-0FDC-4AC0-943F-0D41E5B5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5A3-4EFA-4845-8F2E-DA463129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694-D575-4B9F-90C0-F4B59D34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E55E-0AF3-41E6-A4F6-8874201E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C3DC-6BC5-40BE-923C-DE4006BF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677C-B0DC-4225-BB3C-7D22E495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68D7-2B2D-4DA1-BE3B-EE41A878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8588-2D0A-4BBA-8160-C332B0C9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B6C5-1789-4124-820B-FAED639A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679D-2B2F-4FC6-98F9-2EA7D7D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66C-220E-4FF8-B544-5215474C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2611-D661-4138-A9E7-77E4AB0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0165-7C0F-469A-A6AC-97009DE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4562-DD00-45EF-90C1-4419144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FAF9-7C7E-45D7-8216-8B5978DF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C74C-044D-43F1-B507-7AAF432A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12A-4F8D-44F0-9B80-B418A991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C15-C4A6-4BA2-9B63-51C4E11D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C05-E716-4F76-BDE5-43304875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D62-AC0B-481C-B128-609AC36E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7ED-A0B2-41B8-97F9-068ABBC1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28F-1E97-4ADA-BA98-25DCB35A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629-747C-469A-9CF1-0482109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C956-F951-44EB-ADB8-7328319A380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57AF-4D57-4B57-90A3-79AFB5940D4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CÁTEDRA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FESOR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BERNARDO GONZÁLEZ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4071600"/>
            <a:ext cx="7842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Construcción de la Memor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1746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3132000" y="1268280"/>
            <a:ext cx="3095640" cy="5329440"/>
          </a:xfrm>
          <a:prstGeom prst="ellipse">
            <a:avLst/>
          </a:prstGeom>
          <a:solidFill>
            <a:srgbClr val="00ff00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Oval 3"/>
          <p:cNvSpPr/>
          <p:nvPr/>
        </p:nvSpPr>
        <p:spPr>
          <a:xfrm>
            <a:off x="1116000" y="3213000"/>
            <a:ext cx="7272360" cy="1368360"/>
          </a:xfrm>
          <a:prstGeom prst="ellipse">
            <a:avLst/>
          </a:prstGeom>
          <a:solidFill>
            <a:srgbClr val="ff3300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LA MEMORIA: 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EN EL CRUCE DE ESPACIOS IDENTITARIO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5640" y="1916280"/>
            <a:ext cx="158436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COLE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4360" y="5300640"/>
            <a:ext cx="18208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INDIVID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51280" y="148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67280" y="595008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16720" y="1787400"/>
            <a:ext cx="194292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LECTIV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DIVIDU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547640" y="36608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AS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924360" y="366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RES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43640" y="36608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UTU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 rot="1026000">
            <a:off x="3347640" y="2635200"/>
            <a:ext cx="5059440" cy="34513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 rot="2278800">
            <a:off x="684000" y="1268280"/>
            <a:ext cx="5327640" cy="35258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5280" y="25992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MEMORIA INCLUIDA / MEMORIA EXCLUID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7636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56360" y="47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635280" y="2924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HISTÓ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ICHO IDENTIT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L SUJE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484280"/>
            <a:ext cx="2808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OF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661000"/>
            <a:ext cx="3024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MARG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987640" y="1988640"/>
            <a:ext cx="3168720" cy="3527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Marc Ferro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“Cómo se cuenta la Historia 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a los niños en el mundo entero” (198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Controlar el pasado ayuda a dominar el presente, a legitimar dominaciones e impugnaciones. Ahora bien, son las potencias dominantes –Estados; iglesias, partidos políticos o intereses privados- los que poseen y financian medios de comunicación masiva o mecanismos de reproducción, libros escolares o tiras cómicas, filmes o emisiones de televisión. Cada vez más frecuentemente, entregan a todos y cada uno un pasado uniforme. La revuelta brota entre aquellos para quienes su Historia esta “prohibid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persiste un modelo de la historia de cada país: es la dominante que moldea la conciencia colectiva de cada sociedad. Por ello es importante conocer los elementos de ese modelo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3:59Z</dcterms:created>
  <dc:creator>Bernardo Patricio González Mella</dc:creator>
  <dc:description/>
  <dc:language>en-US</dc:language>
  <cp:lastModifiedBy>Bernardo González</cp:lastModifiedBy>
  <dcterms:modified xsi:type="dcterms:W3CDTF">2011-11-15T15:58:51Z</dcterms:modified>
  <cp:revision>19</cp:revision>
  <dc:subject/>
  <dc:title>UNIVERSIDAD DE CHILE PROGRAMA ACADÉMICO DE BACHILLERATO CÁTEDRA : HISTORIA PROFESOR : BERNARDO GONZÁLEZ</dc:title>
</cp:coreProperties>
</file>