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D25C-D274-4464-A3AB-453113184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E409-8112-48B2-8921-634F5842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DC40-2B6C-4742-B546-70DFFAADD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44C3-B890-41CE-9141-6D3D40B7C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73EF-42EE-49BE-B5B7-9352B779D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5EC1-7066-4774-BA2A-F10483A3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33D2-E931-4BA9-838F-2AD1F401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D6A0-C676-469B-8B1D-50607030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BF6F-B63E-4A06-9DD1-FD4F5DB1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12D7-9548-4F36-917A-A526ACD1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B80A-2FF1-4B1F-AE05-AAC897F3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F568-A942-458A-A501-79ED8994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3BEA-74B0-4C01-B640-91EF1D8A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A000-84CC-46ED-A84F-9AF3F944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502D-965A-47CE-AE74-FAB7AE6D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6697-7D7B-4F0E-B148-84FC6E864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3632-E3E0-4F63-A0D1-9D390E357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99A7-9949-4630-BBC7-2C87E1B3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DAB4-1BA9-426E-B0F9-5B5E621B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BA7F-4B28-47A9-8972-C40E14D6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FC8F-7389-4897-A486-EA9FAAE4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EA3F-9D26-4E3B-A83D-DF2D344F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A1B2-2B20-4788-BA56-10DCC6F7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E6C1-094F-48BA-A5FC-A8EB2FB3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3F4F-44CE-4065-AD71-ADCD8EF9489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38C8-F55A-4243-852D-36865035B35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68000" y="620280"/>
            <a:ext cx="5977080" cy="136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UNIVERSIDAD DE CHILE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PROGRAMA ACADÉMICO DE BACHILLERATO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CÁTEDRA</a:t>
            </a: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: HISTORIA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PROFESOR</a:t>
            </a: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: BERNARDO GONZÁLEZ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57160" y="4071600"/>
            <a:ext cx="7842240" cy="12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La Construcción de la Memori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UChile1"/>
          <p:cNvPicPr/>
          <p:nvPr/>
        </p:nvPicPr>
        <p:blipFill>
          <a:blip r:embed="rId1"/>
          <a:stretch/>
        </p:blipFill>
        <p:spPr>
          <a:xfrm>
            <a:off x="755640" y="620640"/>
            <a:ext cx="1174680" cy="237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Oval 2"/>
          <p:cNvSpPr/>
          <p:nvPr/>
        </p:nvSpPr>
        <p:spPr>
          <a:xfrm>
            <a:off x="3132000" y="1268280"/>
            <a:ext cx="3095640" cy="5329440"/>
          </a:xfrm>
          <a:prstGeom prst="ellipse">
            <a:avLst/>
          </a:prstGeom>
          <a:solidFill>
            <a:srgbClr val="00ff00">
              <a:alpha val="3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Oval 3"/>
          <p:cNvSpPr/>
          <p:nvPr/>
        </p:nvSpPr>
        <p:spPr>
          <a:xfrm>
            <a:off x="1116000" y="3213000"/>
            <a:ext cx="7272360" cy="1368360"/>
          </a:xfrm>
          <a:prstGeom prst="ellipse">
            <a:avLst/>
          </a:prstGeom>
          <a:solidFill>
            <a:srgbClr val="ff3300">
              <a:alpha val="3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LA MEMORIA: 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EN EL CRUCE DE ESPACIOS IDENTITARIOS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755640" y="1916280"/>
            <a:ext cx="1584360" cy="642600"/>
          </a:xfrm>
          <a:prstGeom prst="rect">
            <a:avLst/>
          </a:prstGeom>
          <a:solidFill>
            <a:srgbClr val="33cc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MEMORIA COLECTIV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684360" y="5300640"/>
            <a:ext cx="1820880" cy="642600"/>
          </a:xfrm>
          <a:prstGeom prst="rect">
            <a:avLst/>
          </a:prstGeom>
          <a:solidFill>
            <a:srgbClr val="33cc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MEMORIA INDIVIDU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851280" y="1484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SOCIE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067280" y="5950080"/>
            <a:ext cx="138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SUJE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6516720" y="1787400"/>
            <a:ext cx="1942920" cy="642600"/>
          </a:xfrm>
          <a:prstGeom prst="rect">
            <a:avLst/>
          </a:prstGeom>
          <a:solidFill>
            <a:srgbClr val="33cc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PROYEC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COLECTIV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6588000" y="5300640"/>
            <a:ext cx="1943280" cy="642600"/>
          </a:xfrm>
          <a:prstGeom prst="rect">
            <a:avLst/>
          </a:prstGeom>
          <a:solidFill>
            <a:srgbClr val="33cc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PROYEC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INDIVIDU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1547640" y="3660840"/>
            <a:ext cx="15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PAS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3924360" y="36608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PRES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6443640" y="366084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FUTUR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Oval 2"/>
          <p:cNvSpPr/>
          <p:nvPr/>
        </p:nvSpPr>
        <p:spPr>
          <a:xfrm rot="1026000">
            <a:off x="3347640" y="2635200"/>
            <a:ext cx="5059440" cy="345132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Oval 3"/>
          <p:cNvSpPr/>
          <p:nvPr/>
        </p:nvSpPr>
        <p:spPr>
          <a:xfrm rot="2278800">
            <a:off x="684000" y="1268280"/>
            <a:ext cx="5327640" cy="3525840"/>
          </a:xfrm>
          <a:prstGeom prst="ellipse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95280" y="25992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MEMORIA INCLUIDA / MEMORIA EXCLUIDA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476360" y="1989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ESPACIOS D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INCLUS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6156360" y="47242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ESPACIOS D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EXCLUS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3635280" y="2924280"/>
            <a:ext cx="187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MEMOR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HISTÓRICA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NICHO IDENTITAR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DEL SUJE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5651640" y="1484280"/>
            <a:ext cx="2808000" cy="398880"/>
          </a:xfrm>
          <a:prstGeom prst="rect">
            <a:avLst/>
          </a:prstGeom>
          <a:solidFill>
            <a:srgbClr val="33cc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HISTORIA OFI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468360" y="5661000"/>
            <a:ext cx="3024000" cy="398880"/>
          </a:xfrm>
          <a:prstGeom prst="rect">
            <a:avLst/>
          </a:prstGeom>
          <a:solidFill>
            <a:srgbClr val="33cc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HISTORIA MARGI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10"/>
          <p:cNvSpPr/>
          <p:nvPr/>
        </p:nvSpPr>
        <p:spPr>
          <a:xfrm flipV="1">
            <a:off x="2987640" y="1988640"/>
            <a:ext cx="3168720" cy="352764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Tahoma"/>
              </a:rPr>
              <a:t>Marc Ferro</a:t>
            </a:r>
            <a:br>
              <a:rPr sz="2800"/>
            </a:br>
            <a:r>
              <a:rPr b="1" i="1" lang="es-ES" sz="2800" spc="-1" strike="noStrike">
                <a:solidFill>
                  <a:srgbClr val="ffffcc"/>
                </a:solidFill>
                <a:latin typeface="Tahoma"/>
              </a:rPr>
              <a:t>“Cómo se cuenta la Historia </a:t>
            </a:r>
            <a:br>
              <a:rPr sz="2800"/>
            </a:br>
            <a:r>
              <a:rPr b="1" i="1" lang="es-ES" sz="2800" spc="-1" strike="noStrike">
                <a:solidFill>
                  <a:srgbClr val="ffffcc"/>
                </a:solidFill>
                <a:latin typeface="Tahoma"/>
              </a:rPr>
              <a:t>a los niños en el mundo entero” (1981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Controlar el pasado ayuda a dominar el presente, a legitimar dominaciones e impugnaciones. Ahora bien, son las potencias dominantes –Estados; iglesias, partidos políticos o intereses privados- los que poseen y financian medios de comunicación masiva o mecanismos de reproducción, libros escolares o tiras cómicas, filmes o emisiones de televisión. Cada vez más frecuentemente, entregan a todos y cada uno un pasado uniforme. La revuelta brota entre aquellos para quienes su Historia esta “prohibida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persiste un modelo de la historia de cada país: es la dominante que moldea la conciencia colectiva de cada sociedad. Por ello es importante conocer los elementos de ese modelo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22:13:59Z</dcterms:created>
  <dc:creator>Bernardo Patricio González Mella</dc:creator>
  <dc:description/>
  <dc:language>en-US</dc:language>
  <cp:lastModifiedBy>Bernardo González</cp:lastModifiedBy>
  <dcterms:modified xsi:type="dcterms:W3CDTF">2011-11-15T15:58:51Z</dcterms:modified>
  <cp:revision>19</cp:revision>
  <dc:subject/>
  <dc:title>UNIVERSIDAD DE CHILE PROGRAMA ACADÉMICO DE BACHILLERATO CÁTEDRA : HISTORIA PROFESOR : BERNARDO GONZÁLEZ</dc:title>
</cp:coreProperties>
</file>