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8C3-BA94-4982-AA58-00E08701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BD3-2295-4AA6-8091-027997AA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864-422B-4559-9FEE-6BB419B9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53A-C251-4019-8BAD-2976EA84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3C1E-EC3A-4ED3-89B7-75D9235A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231E-9D95-4795-9A86-DA1D5813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DE19-5236-4343-A9D3-5757F145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FBCD-E3AA-472F-94EC-94504519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01BD-E619-4A7D-AD3E-609BCC65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0520-AB73-4E67-A0B9-DA7C5E9C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E531-098F-4462-BB51-D1911FA7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E569-9EC0-4B4A-BAAD-C0DCEB37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835D-3C99-4420-8058-95D0C6CC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7129-82A8-4EAD-B8FD-A1E998FA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ABCC-CBBC-4DA8-9991-AE0A0DDD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35F5-7551-4383-94EF-78D67316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B3E4-4014-4218-9C14-F87930CB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9AE-25EA-487F-9EB3-042B7CC1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4AA6-3E06-4E2D-B83A-B1088790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E60C-E94A-4F44-B768-56A378CE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EDB-402C-4C81-A03E-8B631A1A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0A8-617E-45AC-B05B-EF7F0546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DFB-F5F9-436A-9082-0B861051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7F0-0FB9-4E61-AE2C-0FC5F6A8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6338-882C-437D-A403-8D28532032A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4F92-78B9-46A8-9AA9-DB56F22CD8B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0" y="620280"/>
            <a:ext cx="597708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UNIVERSIDAD DE CHILE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PROGRAMA ACADÉMICO DE BACHILLERATO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CÁTEDRA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: HISTORIA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PROFESOR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: BERNARDO GONZÁLEZ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57160" y="4071600"/>
            <a:ext cx="784224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La Construcción de la Memori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117468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3132000" y="1268280"/>
            <a:ext cx="3095640" cy="5329440"/>
          </a:xfrm>
          <a:prstGeom prst="ellipse">
            <a:avLst/>
          </a:prstGeom>
          <a:solidFill>
            <a:srgbClr val="00ff00">
              <a:alpha val="3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Oval 3"/>
          <p:cNvSpPr/>
          <p:nvPr/>
        </p:nvSpPr>
        <p:spPr>
          <a:xfrm>
            <a:off x="1116000" y="3213000"/>
            <a:ext cx="7272360" cy="1368360"/>
          </a:xfrm>
          <a:prstGeom prst="ellipse">
            <a:avLst/>
          </a:prstGeom>
          <a:solidFill>
            <a:srgbClr val="ff3300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LA MEMORIA: </a:t>
            </a:r>
            <a:br>
              <a:rPr sz="2000"/>
            </a:b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EN EL CRUCE DE ESPACIOS IDENTITARIO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755640" y="1916280"/>
            <a:ext cx="158436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 COLECT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84360" y="5300640"/>
            <a:ext cx="182088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 INDIVIDU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851280" y="1484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OCIE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067280" y="5950080"/>
            <a:ext cx="13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SUJE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516720" y="1787400"/>
            <a:ext cx="194292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LECTIV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588000" y="5300640"/>
            <a:ext cx="1943280" cy="64260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YEC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INDIVIDU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547640" y="3660840"/>
            <a:ext cx="15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AS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924360" y="3660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PRES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443640" y="36608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UTU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 rot="1026000">
            <a:off x="3347640" y="2635200"/>
            <a:ext cx="5059440" cy="34513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3"/>
          <p:cNvSpPr/>
          <p:nvPr/>
        </p:nvSpPr>
        <p:spPr>
          <a:xfrm rot="2278800">
            <a:off x="684000" y="1268280"/>
            <a:ext cx="5327640" cy="352584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5280" y="25992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MEMORIA INCLUIDA / MEMORIA EXCLUIDA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476360" y="198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PACI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INCLU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156360" y="4724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SPACIOS D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XCLU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635280" y="2924280"/>
            <a:ext cx="18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EMO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HISTÓRICA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NICHO IDENTITAR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DEL SUJE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651640" y="1484280"/>
            <a:ext cx="2808000" cy="39888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HISTORIA OF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68360" y="5661000"/>
            <a:ext cx="3024000" cy="398880"/>
          </a:xfrm>
          <a:prstGeom prst="rect">
            <a:avLst/>
          </a:prstGeom>
          <a:solidFill>
            <a:srgbClr val="33cc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HISTORIA MARGI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2987640" y="1988640"/>
            <a:ext cx="3168720" cy="35276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Tahoma"/>
              </a:rPr>
              <a:t>Marc Ferro</a:t>
            </a:r>
            <a:br>
              <a:rPr sz="2800"/>
            </a:br>
            <a:r>
              <a:rPr b="1" i="1" lang="es-ES" sz="2800" spc="-1" strike="noStrike">
                <a:solidFill>
                  <a:srgbClr val="ffffcc"/>
                </a:solidFill>
                <a:latin typeface="Tahoma"/>
              </a:rPr>
              <a:t>“Cómo se cuenta la Historia </a:t>
            </a:r>
            <a:br>
              <a:rPr sz="2800"/>
            </a:br>
            <a:r>
              <a:rPr b="1" i="1" lang="es-ES" sz="2800" spc="-1" strike="noStrike">
                <a:solidFill>
                  <a:srgbClr val="ffffcc"/>
                </a:solidFill>
                <a:latin typeface="Tahoma"/>
              </a:rPr>
              <a:t>a los niños en el mundo entero” (1981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Controlar el pasado ayuda a dominar el presente, a legitimar dominaciones e impugnaciones. Ahora bien, son las potencias dominantes –Estados; iglesias, partidos políticos o intereses privados- los que poseen y financian medios de comunicación masiva o mecanismos de reproducción, libros escolares o tiras cómicas, filmes o emisiones de televisión. Cada vez más frecuentemente, entregan a todos y cada uno un pasado uniforme. La revuelta brota entre aquellos para quienes su Historia esta “prohibida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persiste un modelo de la historia de cada país: es la dominante que moldea la conciencia colectiva de cada sociedad. Por ello es importante conocer los elementos de ese modelo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2:13:59Z</dcterms:created>
  <dc:creator>Bernardo Patricio González Mella</dc:creator>
  <dc:description/>
  <dc:language>en-US</dc:language>
  <cp:lastModifiedBy>Bernardo González</cp:lastModifiedBy>
  <dcterms:modified xsi:type="dcterms:W3CDTF">2011-11-15T15:58:51Z</dcterms:modified>
  <cp:revision>19</cp:revision>
  <dc:subject/>
  <dc:title>UNIVERSIDAD DE CHILE PROGRAMA ACADÉMICO DE BACHILLERATO CÁTEDRA : HISTORIA PROFESOR : BERNARDO GONZÁLEZ</dc:title>
</cp:coreProperties>
</file>