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6CE-AC69-4EA0-AFC6-489598FD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969-E4E2-49F8-B8B2-6FF18039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D319-E0A8-4731-BC23-2B9040D3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E4B-55C4-4524-8752-0DDBA2FE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9EBE-E42A-46E8-B774-4BECF791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4E48-A8D0-4FC4-AD79-003017F5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49FE-A12A-495B-8E9A-C92960E8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4FE9-9683-4797-ACCB-2A1E3F88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FCCB-E253-4A00-90E0-60E6B985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7425-FF12-4AD2-AFF0-E77F866B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17A3-BA59-4233-9F89-7D0FDAE6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140-D22C-4146-BE38-52A20D38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31C4-B283-46BF-8CE9-98189E51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7527-FB9F-4121-BAA5-32363C0A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30E7-5F17-4385-98EE-8FB2D359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614E-211B-4B52-9901-1A8F812F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2F10-72C8-4869-A229-0D909A7A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734-E727-48CF-96C3-2BD530D7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DE61-A35C-446A-AEB1-D6F526A2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B8D-C65E-4BEC-B46D-0FA38758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2E6C-22FD-4B47-A8DC-B9146478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827A-8C15-4E99-A0D5-5188262E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53A2-9EE1-4B29-BEEB-28412988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D728-65DC-49EB-99A8-2E82291C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1A83-BDDF-4B64-AE1D-2A8432119FD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A76A-7875-4CA2-823E-A61E1B4DFC9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000" y="620280"/>
            <a:ext cx="597708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UNIVERSIDAD DE CHILE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PROGRAMA ACADÉMICO DE BACHILLERATO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CÁTEDRA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: HISTORIA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PROFESOR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: BERNARDO GONZÁLEZ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57160" y="4071600"/>
            <a:ext cx="784224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La Construcción de la Memori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UChile1"/>
          <p:cNvPicPr/>
          <p:nvPr/>
        </p:nvPicPr>
        <p:blipFill>
          <a:blip r:embed="rId1"/>
          <a:stretch/>
        </p:blipFill>
        <p:spPr>
          <a:xfrm>
            <a:off x="755640" y="620640"/>
            <a:ext cx="117468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3132000" y="1268280"/>
            <a:ext cx="3095640" cy="5329440"/>
          </a:xfrm>
          <a:prstGeom prst="ellipse">
            <a:avLst/>
          </a:prstGeom>
          <a:solidFill>
            <a:srgbClr val="00ff00">
              <a:alpha val="3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Oval 3"/>
          <p:cNvSpPr/>
          <p:nvPr/>
        </p:nvSpPr>
        <p:spPr>
          <a:xfrm>
            <a:off x="1116000" y="3213000"/>
            <a:ext cx="7272360" cy="1368360"/>
          </a:xfrm>
          <a:prstGeom prst="ellipse">
            <a:avLst/>
          </a:prstGeom>
          <a:solidFill>
            <a:srgbClr val="ff3300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LA MEMORIA: 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EN EL CRUCE DE ESPACIOS IDENTITARIO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55640" y="1916280"/>
            <a:ext cx="158436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 COLECTIV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84360" y="5300640"/>
            <a:ext cx="182088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 INDIVIDU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851280" y="1484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OCIE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067280" y="5950080"/>
            <a:ext cx="13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UJE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516720" y="1787400"/>
            <a:ext cx="194292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ROYEC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OLECTIV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588000" y="5300640"/>
            <a:ext cx="194328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ROYEC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INDIVIDU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547640" y="366084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AS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924360" y="3660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RES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6443640" y="36608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UTU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2"/>
          <p:cNvSpPr/>
          <p:nvPr/>
        </p:nvSpPr>
        <p:spPr>
          <a:xfrm rot="1026000">
            <a:off x="3347640" y="2635200"/>
            <a:ext cx="5059440" cy="345132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val 3"/>
          <p:cNvSpPr/>
          <p:nvPr/>
        </p:nvSpPr>
        <p:spPr>
          <a:xfrm rot="2278800">
            <a:off x="684000" y="1268280"/>
            <a:ext cx="5327640" cy="352584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5280" y="25992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MEMORIA INCLUIDA / MEMORIA EXCLUIDA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476360" y="198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SPACIOS D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INCLU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156360" y="4724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SPACIOS D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XCLU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635280" y="2924280"/>
            <a:ext cx="18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HISTÓRIC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NICHO IDENTITAR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DEL SUJE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651640" y="1484280"/>
            <a:ext cx="2808000" cy="39888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HISTORIA OF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68360" y="5661000"/>
            <a:ext cx="3024000" cy="39888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HISTORIA MARGI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2987640" y="1988640"/>
            <a:ext cx="3168720" cy="35276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ahoma"/>
              </a:rPr>
              <a:t>Marc Ferro</a:t>
            </a:r>
            <a:br>
              <a:rPr sz="2800"/>
            </a:br>
            <a:r>
              <a:rPr b="1" i="1" lang="es-ES" sz="2800" spc="-1" strike="noStrike">
                <a:solidFill>
                  <a:srgbClr val="ffffcc"/>
                </a:solidFill>
                <a:latin typeface="Tahoma"/>
              </a:rPr>
              <a:t>“Cómo se cuenta la Historia </a:t>
            </a:r>
            <a:br>
              <a:rPr sz="2800"/>
            </a:br>
            <a:r>
              <a:rPr b="1" i="1" lang="es-ES" sz="2800" spc="-1" strike="noStrike">
                <a:solidFill>
                  <a:srgbClr val="ffffcc"/>
                </a:solidFill>
                <a:latin typeface="Tahoma"/>
              </a:rPr>
              <a:t>a los niños en el mundo entero” (1981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Controlar el pasado ayuda a dominar el presente, a legitimar dominaciones e impugnaciones. Ahora bien, son las potencias dominantes –Estados; iglesias, partidos políticos o intereses privados- los que poseen y financian medios de comunicación masiva o mecanismos de reproducción, libros escolares o tiras cómicas, filmes o emisiones de televisión. Cada vez más frecuentemente, entregan a todos y cada uno un pasado uniforme. La revuelta brota entre aquellos para quienes su Historia esta “prohibida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persiste un modelo de la historia de cada país: es la dominante que moldea la conciencia colectiva de cada sociedad. Por ello es importante conocer los elementos de ese modelo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2:13:59Z</dcterms:created>
  <dc:creator>Bernardo Patricio González Mella</dc:creator>
  <dc:description/>
  <dc:language>en-US</dc:language>
  <cp:lastModifiedBy>Bernardo González</cp:lastModifiedBy>
  <dcterms:modified xsi:type="dcterms:W3CDTF">2011-11-15T15:58:51Z</dcterms:modified>
  <cp:revision>19</cp:revision>
  <dc:subject/>
  <dc:title>UNIVERSIDAD DE CHILE PROGRAMA ACADÉMICO DE BACHILLERATO CÁTEDRA : HISTORIA PROFESOR : BERNARDO GONZÁLEZ</dc:title>
</cp:coreProperties>
</file>